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337-32BC-4BB3-BBDB-0AAA8EA2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9AF-3C77-4ABB-ADA3-AF33188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968-A65F-4312-B332-52314B9A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C06-7284-4CBD-A231-4C3097C3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C7DD-35CC-45DD-965D-56E153B8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801E-3B1C-4AAA-B41B-EA8F55FE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1F3B-C6B9-4566-8CE4-0A33A13F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DE1B-B76E-4651-8D22-6F829F0B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BB33-08B2-47EA-AB1E-755F9F5F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2D60-495E-4D61-9D31-BAACD27C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63D6-85BB-4ADF-9F7A-8699E9D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209-79DA-4791-B3E3-E88CECD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B769-A846-4BF0-88C5-03719096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1D83-A63C-4D35-9F4F-6EDAADC5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7159-6FE1-4F11-BC1E-BB836D2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2C6B-180E-4772-8674-3F02482D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74D-5D81-45B0-AB5E-C235B86F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3CF5-B679-45D7-A609-7D9F7881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385F-AFFF-4AC0-A952-DA806D68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64D9-6989-474A-BF36-E010B374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064C-73B5-41D4-A8C9-5FE145F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4726-1093-48CF-A649-969FF0E6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A2F-1C8D-4436-A00C-E029CB10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5092-7BDD-4762-AE3F-BFE6D252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AB57-D232-4F4B-B744-D0F9167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BD3C-6695-4BFC-A7E6-6E500E2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D93D-965E-48D7-BC36-BE83123E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A6E3-BFF8-4F95-825F-696A7E8C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50A9A-C3CC-46B0-A026-A5275280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5E9C-F294-4A16-AB07-EA2AFB8E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62AF-5982-4988-9AE5-702360C2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E69B-1A36-49CD-9DE3-0694F3AF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02E4-C83B-4FA4-979B-53BAAC09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AFF-24B9-4F87-8E54-469023A9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0A2EE-33F5-4BBD-A204-3A11F284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61C9-A843-44C1-938F-31D14BDC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57B2E-43E5-45A4-84B7-DDE384F5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A47F-10D9-45FF-9BAC-562491A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126C-694A-4002-A1C2-0593566F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BAEDC-94E3-4EBA-A334-953A60C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4F2F-8864-4A0A-9731-E2A26507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F3E4-2551-4353-BE3E-3FF116D8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DFA8-FB14-4953-A37B-86D20277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1C717-AFD4-426D-8A75-C98AAAB4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8FA-5F3B-4C7A-A25C-15584AA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9A9C1-F366-4DD9-B43E-9CDE6B4F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5CEC-0A8A-4B98-BC88-73C46ACA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0791-4242-426A-9E27-5B5092BE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CF93-8414-401B-99C3-5399BCC2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2ED6-3E47-4BD5-8800-3D807DE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7428-C157-4DDF-9B0B-9479804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C6DE-7C3F-438E-B69C-C5024508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7DF26-A8A5-4742-B65D-78F0A211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4DD68-3AA4-4445-9119-7AD247CC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AA545-58B4-45CD-BF88-E49F4901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710-441B-4651-B0D8-73E8463C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96A20-BC09-4A06-93E8-B13AA66F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C9F25-8903-4493-B4EB-5A13C3F2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0942B-7EE0-44AE-A1C2-8F3FFC06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4FEC-4885-4BE5-9993-7D8FD119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FDB23-CB96-492E-83F3-3C1FACB7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AF47-D354-4A7F-8643-CD1FE835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ED68D-99B7-4868-886A-288E9CB6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9F13-0F97-4F8D-9A2E-7D0EBA75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076E1-FD51-4887-B253-D982590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BFEE2-1F22-4B36-AF08-7524A69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DE5-6E4C-486E-827C-45F65425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7A7F8-EBC3-45D3-BAAD-83949BF3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DC280-ADC6-45E8-A857-63ED97A3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AFF0-417A-4C33-9185-68C131B6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470-91DA-4D12-B8A2-DA47DF3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EFB-D495-4C1A-9633-3E72BB2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6376-2D08-4FAC-9B7C-1AD9504A79B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B41C-1909-4E49-8460-9F892D048A7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244D-ED52-42E6-85D1-AE4DFAB4241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547B-E69E-4FD7-A955-BC56DBA1B3E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0AE7-1319-416A-806C-938727FB9D4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4ACB-AFCF-439F-A0B8-C8D8E2E246E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698400" y="303120"/>
            <a:ext cx="773280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РФОГРАФИЧЕ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Рисунок2"/>
          <p:cNvPicPr/>
          <p:nvPr/>
        </p:nvPicPr>
        <p:blipFill>
          <a:blip r:embed="rId1"/>
          <a:stretch/>
        </p:blipFill>
        <p:spPr>
          <a:xfrm>
            <a:off x="566640" y="3549600"/>
            <a:ext cx="14097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одержимое 2" descr=""/>
          <p:cNvPicPr/>
          <p:nvPr/>
        </p:nvPicPr>
        <p:blipFill>
          <a:blip r:embed="rId1"/>
          <a:stretch/>
        </p:blipFill>
        <p:spPr>
          <a:xfrm>
            <a:off x="476280" y="3255840"/>
            <a:ext cx="8229600" cy="254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Users\user\Pictures\1242389045_warning_image.png"/>
          <p:cNvPicPr/>
          <p:nvPr/>
        </p:nvPicPr>
        <p:blipFill>
          <a:blip r:embed="rId2"/>
          <a:stretch/>
        </p:blipFill>
        <p:spPr>
          <a:xfrm>
            <a:off x="428760" y="1071720"/>
            <a:ext cx="2286000" cy="2071440"/>
          </a:xfrm>
          <a:prstGeom prst="rect">
            <a:avLst/>
          </a:prstGeom>
          <a:ln w="0">
            <a:noFill/>
          </a:ln>
        </p:spPr>
      </p:pic>
      <p:sp>
        <p:nvSpPr>
          <p:cNvPr id="289" name="WordArt 5"/>
          <p:cNvSpPr txBox="1"/>
          <p:nvPr/>
        </p:nvSpPr>
        <p:spPr>
          <a:xfrm>
            <a:off x="2195640" y="620640"/>
            <a:ext cx="63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ервая роль букв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Е, Ё, Ю, 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1" name="Picture 2" descr="C:\Users\Танзиля\Pictures\Двойная роль.jpg"/>
          <p:cNvPicPr/>
          <p:nvPr/>
        </p:nvPicPr>
        <p:blipFill>
          <a:blip r:embed="rId1"/>
          <a:stretch/>
        </p:blipFill>
        <p:spPr>
          <a:xfrm>
            <a:off x="1116000" y="620640"/>
            <a:ext cx="670572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182520" y="212760"/>
            <a:ext cx="8564760" cy="2901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2611080"/>
            <a:ext cx="3178080" cy="355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Рядом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Люд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Лес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C:\Users\user\Pictures\04.gif"/>
          <p:cNvPicPr/>
          <p:nvPr/>
        </p:nvPicPr>
        <p:blipFill>
          <a:blip r:embed="rId2"/>
          <a:stretch/>
        </p:blipFill>
        <p:spPr>
          <a:xfrm>
            <a:off x="4859280" y="2732040"/>
            <a:ext cx="32860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6840" y="2428920"/>
            <a:ext cx="6635880" cy="369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Verdana"/>
              </a:rPr>
              <a:t>Смягчение предыдущего согласного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3" descr="C:\Users\user\Pictures\1247572458_94411.png"/>
          <p:cNvPicPr/>
          <p:nvPr/>
        </p:nvPicPr>
        <p:blipFill>
          <a:blip r:embed="rId1"/>
          <a:stretch/>
        </p:blipFill>
        <p:spPr>
          <a:xfrm>
            <a:off x="6300720" y="1052640"/>
            <a:ext cx="2951280" cy="2952720"/>
          </a:xfrm>
          <a:prstGeom prst="rect">
            <a:avLst/>
          </a:prstGeom>
          <a:ln w="0">
            <a:noFill/>
          </a:ln>
        </p:spPr>
      </p:pic>
      <p:sp>
        <p:nvSpPr>
          <p:cNvPr id="297" name="WordArt 5"/>
          <p:cNvSpPr txBox="1"/>
          <p:nvPr/>
        </p:nvSpPr>
        <p:spPr>
          <a:xfrm>
            <a:off x="684360" y="476280"/>
            <a:ext cx="63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Вторая роль букв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Е, Ё, Ю, 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9" name="Picture 2" descr="C:\Users\Танзиля\Pictures\Один звук.jpg"/>
          <p:cNvPicPr/>
          <p:nvPr/>
        </p:nvPicPr>
        <p:blipFill>
          <a:blip r:embed="rId1"/>
          <a:stretch/>
        </p:blipFill>
        <p:spPr>
          <a:xfrm>
            <a:off x="826920" y="692280"/>
            <a:ext cx="7345440" cy="40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611280" y="1197000"/>
          <a:ext cx="7775640" cy="4537080"/>
        </p:xfrm>
        <a:graphic>
          <a:graphicData uri="http://schemas.openxmlformats.org/drawingml/2006/table">
            <a:tbl>
              <a:tblPr/>
              <a:tblGrid>
                <a:gridCol w="3671640"/>
                <a:gridCol w="4104000"/>
              </a:tblGrid>
              <a:tr h="75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Первая ро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Вторая ро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5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1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01" name="Содержимое 2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Двойная роль букв 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684360" y="1125360"/>
          <a:ext cx="7775280" cy="4896000"/>
        </p:xfrm>
        <a:graphic>
          <a:graphicData uri="http://schemas.openxmlformats.org/drawingml/2006/table">
            <a:tbl>
              <a:tblPr/>
              <a:tblGrid>
                <a:gridCol w="3671640"/>
                <a:gridCol w="4103640"/>
              </a:tblGrid>
              <a:tr h="86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Первая ро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Вторая ро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ает сразу 2 зву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ягчает согласн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ачале слова (ям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гласных (бая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ъ и ь (съел, въюг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согласных (лю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03" name="Содержимое 2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Двойная роль букв 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750960" y="549360"/>
            <a:ext cx="7732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ие трудности возник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нравилось ли вам на уроке? Выберите полоску, покажите м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1757520" y="3089160"/>
            <a:ext cx="183960" cy="460440"/>
          </a:xfrm>
          <a:prstGeom prst="rect">
            <a:avLst/>
          </a:prstGeom>
          <a:noFill/>
          <a:ln cap="rnd" w="15840">
            <a:solidFill>
              <a:srgbClr val="00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Заголовок 1"/>
          <p:cNvSpPr/>
          <p:nvPr/>
        </p:nvSpPr>
        <p:spPr>
          <a:xfrm>
            <a:off x="611280" y="333360"/>
            <a:ext cx="7497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</a:t>
            </a:r>
            <a:br>
              <a:rPr sz="7400"/>
            </a:br>
            <a:r>
              <a:rPr b="1" lang="ru-RU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активную работу на уроке!</a:t>
            </a:r>
            <a:br>
              <a:rPr sz="7400"/>
            </a:br>
            <a:br>
              <a:rPr sz="7400"/>
            </a:br>
            <a:br>
              <a:rPr sz="3000"/>
            </a:br>
            <a:r>
              <a:rPr b="1" lang="ru-RU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лодцы!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Картинка 47 из 64000"/>
          <p:cNvPicPr/>
          <p:nvPr/>
        </p:nvPicPr>
        <p:blipFill>
          <a:blip r:embed="rId1"/>
          <a:srcRect l="0" t="15525" r="0" b="19750"/>
          <a:stretch/>
        </p:blipFill>
        <p:spPr>
          <a:xfrm>
            <a:off x="3635280" y="3860640"/>
            <a:ext cx="1673280" cy="153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698400" y="303120"/>
            <a:ext cx="77328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е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ый, пом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щ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а, м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, б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щ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нь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ч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, гв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Рисунок2"/>
          <p:cNvPicPr/>
          <p:nvPr/>
        </p:nvPicPr>
        <p:blipFill>
          <a:blip r:embed="rId1"/>
          <a:stretch/>
        </p:blipFill>
        <p:spPr>
          <a:xfrm>
            <a:off x="566640" y="3549600"/>
            <a:ext cx="14097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914560" y="1347840"/>
            <a:ext cx="5545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звуки: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а, о, у, и, ы, 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буквы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: 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а, о, у, и, ы, э,      </a:t>
            </a:r>
            <a:r>
              <a:rPr b="1" i="1" lang="ru-RU" sz="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38200" y="177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Arial"/>
              </a:rPr>
              <a:t>Гл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i?id=77027893-01"/>
          <p:cNvPicPr/>
          <p:nvPr/>
        </p:nvPicPr>
        <p:blipFill>
          <a:blip r:embed="rId1"/>
          <a:stretch/>
        </p:blipFill>
        <p:spPr>
          <a:xfrm>
            <a:off x="826920" y="4365720"/>
            <a:ext cx="2737080" cy="210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1841400" y="622440"/>
            <a:ext cx="6723000" cy="50292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163440" y="333360"/>
            <a:ext cx="2011320" cy="24526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4" descr="D:\Мои документы со старого диска\Мои рисунки\Алфавит\R.WMF"/>
          <p:cNvPicPr/>
          <p:nvPr/>
        </p:nvPicPr>
        <p:blipFill>
          <a:blip r:embed="rId3"/>
          <a:stretch/>
        </p:blipFill>
        <p:spPr>
          <a:xfrm flipH="1">
            <a:off x="7288200" y="3860640"/>
            <a:ext cx="160488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755640" y="355680"/>
            <a:ext cx="7732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уро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изученное на предыдущем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учиться «видеть»  двойную роль букв Е, Ё, Ю, 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оказать, что в некоторых позициях эти буквы обозначают два зву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вать грамотность устной и письменной реч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еть оценива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ботать в паре, 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757520" y="3089160"/>
            <a:ext cx="183960" cy="460440"/>
          </a:xfrm>
          <a:prstGeom prst="rect">
            <a:avLst/>
          </a:prstGeom>
          <a:noFill/>
          <a:ln cap="rnd" w="15840">
            <a:solidFill>
              <a:srgbClr val="00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57200" y="945000"/>
            <a:ext cx="8466120" cy="37515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ъезд, семья, люди, летит,мёд,якорь, шью, объявление, ель, яблоко, тень,ёж,баня,льёт,тепл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Рисунок2"/>
          <p:cNvPicPr/>
          <p:nvPr/>
        </p:nvPicPr>
        <p:blipFill>
          <a:blip r:embed="rId1"/>
          <a:stretch/>
        </p:blipFill>
        <p:spPr>
          <a:xfrm>
            <a:off x="539640" y="3789360"/>
            <a:ext cx="1409760" cy="2727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395280" y="625320"/>
            <a:ext cx="631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611280" y="2421000"/>
            <a:ext cx="624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ё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4468680" y="2921040"/>
            <a:ext cx="37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зь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8"/>
          <p:cNvSpPr/>
          <p:nvPr/>
        </p:nvSpPr>
        <p:spPr>
          <a:xfrm>
            <a:off x="4468680" y="184464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ъ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ъ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ь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м [й`эм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Ёлка [й`олка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Юг [й`ук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сный [й`асный`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ец [бай`эц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ём [пр`ий`ом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юта [ кай`ута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ят [стай`ат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ъезд [атй`эст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ъёмка [сй`омка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ьюга [в `й`уга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зьяна [аб`из`й`ана 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2:04:19Z</dcterms:created>
  <dc:creator>user</dc:creator>
  <dc:description/>
  <dc:language>en-US</dc:language>
  <cp:lastModifiedBy>Танзиля</cp:lastModifiedBy>
  <dcterms:modified xsi:type="dcterms:W3CDTF">2016-12-04T11:52:46Z</dcterms:modified>
  <cp:revision>45</cp:revision>
  <dc:subject/>
  <dc:title>Двойная роль букв Е, Ё, Ю, Я</dc:title>
</cp:coreProperties>
</file>