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740-1598-4813-844D-589132D8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8FB-01B5-4792-8F3A-FC87C9BC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33C-E574-4EF7-B6F4-C0B5B2FB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0C8-7DAC-485E-975C-51F1F7C1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C73-1CC0-4696-921A-F9993CC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5A7-CDD2-4138-813C-55EC0354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A1A-66E7-4CA9-A199-D1D85243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DE3-5090-4589-ACEB-81D6613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FD6-D9FE-45ED-AFEB-AD3C3FDF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76E-A70A-442C-8176-72F6CB70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D1D-BCFD-40E3-97E6-E36B714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EBB-9BC8-4044-92D1-51A9610C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E81D-5C73-4FEC-BFDB-83EB1A9269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000239204"/>
          <p:cNvPicPr/>
          <p:nvPr/>
        </p:nvPicPr>
        <p:blipFill>
          <a:blip r:embed="rId1"/>
          <a:stretch/>
        </p:blipFill>
        <p:spPr>
          <a:xfrm rot="21086400">
            <a:off x="380880" y="685440"/>
            <a:ext cx="3754440" cy="589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000287580"/>
          <p:cNvPicPr/>
          <p:nvPr/>
        </p:nvPicPr>
        <p:blipFill>
          <a:blip r:embed="rId2"/>
          <a:stretch/>
        </p:blipFill>
        <p:spPr>
          <a:xfrm rot="503400">
            <a:off x="4826160" y="410760"/>
            <a:ext cx="39416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200" y="457200"/>
            <a:ext cx="4648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нтуан де Сент Экзюпер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900 – 194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154480" y="3505320"/>
            <a:ext cx="3841920" cy="31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Мои документы\Мои рисунки\img020.jpg"/>
          <p:cNvPicPr/>
          <p:nvPr/>
        </p:nvPicPr>
        <p:blipFill>
          <a:blip r:embed="rId2"/>
          <a:stretch/>
        </p:blipFill>
        <p:spPr>
          <a:xfrm>
            <a:off x="152280" y="0"/>
            <a:ext cx="2743200" cy="402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1981080" y="3124080"/>
            <a:ext cx="3380040" cy="33037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28600" y="228600"/>
            <a:ext cx="3886200" cy="3506760"/>
          </a:xfrm>
          <a:prstGeom prst="rect">
            <a:avLst/>
          </a:prstGeom>
          <a:solidFill>
            <a:srgbClr val="ccc1da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Антуан де Сент-Экзюпери родился в 1900 году в Лионе. Детство его прошло в старинном родовом замке Сен-Морис. Род Экзюпери происходил от рыцарей Граа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800600" y="3438360"/>
            <a:ext cx="3581280" cy="32086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2960" cy="317052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50" name="Picture 5" descr="C:\Documents and Settings\Admin\Рабочий стол\Картинки Мал принц\tumblr_kq7yepZVFX1qz800xo1_500.jpg"/>
          <p:cNvPicPr/>
          <p:nvPr/>
        </p:nvPicPr>
        <p:blipFill>
          <a:blip r:embed="rId3"/>
          <a:stretch/>
        </p:blipFill>
        <p:spPr>
          <a:xfrm>
            <a:off x="304920" y="3962520"/>
            <a:ext cx="39542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3078000" cy="40388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52" name="Picture 5" descr="C:\Documents and Settings\Admin\Рабочий стол\Картинки Мал принц\saintexupery.jpg"/>
          <p:cNvPicPr/>
          <p:nvPr/>
        </p:nvPicPr>
        <p:blipFill>
          <a:blip r:embed="rId2"/>
          <a:stretch/>
        </p:blipFill>
        <p:spPr>
          <a:xfrm>
            <a:off x="228600" y="152280"/>
            <a:ext cx="343836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airpages.ru/img/p38_2.jpg"/>
          <p:cNvPicPr/>
          <p:nvPr/>
        </p:nvPicPr>
        <p:blipFill>
          <a:blip r:embed="rId3"/>
          <a:stretch/>
        </p:blipFill>
        <p:spPr>
          <a:xfrm>
            <a:off x="1295280" y="3505320"/>
            <a:ext cx="4430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177_c_l"/>
          <p:cNvPicPr/>
          <p:nvPr/>
        </p:nvPicPr>
        <p:blipFill>
          <a:blip r:embed="rId1"/>
          <a:stretch/>
        </p:blipFill>
        <p:spPr>
          <a:xfrm>
            <a:off x="1152360" y="380880"/>
            <a:ext cx="6677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2T13:24:48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