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D84-4945-41C1-8E75-18C8934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DBF-D049-4DFA-B443-E8DB44DC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C8A-6143-42D9-9F91-31C6A61F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ADD-B700-4E5B-B27C-16336BEC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597B-A819-45D8-B89C-AFB9BDD2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EE83-BA6C-448F-9D59-9A0E3391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AEA1-E679-4C3C-86C9-E696F50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F04F-8C1E-4145-924D-36318E04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1FE5-4778-4BA2-A5C0-707EB51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DD2-3932-43EF-AF74-FDEF4B33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3277-AB6E-4D91-A068-4EC2A4E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85C-401B-47DF-A5CE-CE3B45A5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DE6F-8DE6-47BF-B0DC-6345A8A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1959-1B6A-421C-A5B1-E10D94A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587D-42B3-44AE-9087-886A4CDC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8E7-1B47-462C-8B30-064D801A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EB78-230F-43D8-8128-4BA627FB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D2A-8C75-434C-B4A4-D1159ACD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863-ADBF-4075-AE81-47FA77CC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7E8-35F8-4E88-99A3-4B0F5C2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930-1770-46FB-A8C4-957229E3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288-4075-44AD-8A58-4565B6EF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60D-A152-4406-851C-1D8B9D6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7F7-9764-47DF-98BC-20FCD46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0427-6346-451B-A612-F1EF91E0B7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d37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24c0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8bb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6969"/>
                  </a:gs>
                  <a:gs pos="100000">
                    <a:srgbClr val="5e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f4545"/>
                </a:gs>
                <a:gs pos="100000">
                  <a:srgbClr val="3929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f6969"/>
                </a:gs>
                <a:gs pos="100000">
                  <a:srgbClr val="8662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f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f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CB2D-4BD9-4757-A6BA-8CD9C7E3F4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24c0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8bb9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Arial"/>
              </a:rPr>
              <a:t>Выбери памятник </a:t>
            </a:r>
            <a:br>
              <a:rPr sz="6600"/>
            </a:br>
            <a:r>
              <a:rPr b="0" lang="en-US" sz="6600" spc="-1" strike="noStrike">
                <a:solidFill>
                  <a:srgbClr val="003399"/>
                </a:solidFill>
                <a:latin typeface="Arial"/>
              </a:rPr>
              <a:t>Москв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00880" cy="37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657600" y="3616200"/>
            <a:ext cx="51753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48000" y="2743200"/>
            <a:ext cx="4896000" cy="32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008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381560" cy="2867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232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3533760" cy="457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665520" y="3048120"/>
            <a:ext cx="54784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463920" cy="520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286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3241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956560" cy="304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6:32:36Z</dcterms:created>
  <dc:creator>ADMIN</dc:creator>
  <dc:description/>
  <dc:language>en-US</dc:language>
  <cp:lastModifiedBy>ADMIN</cp:lastModifiedBy>
  <dcterms:modified xsi:type="dcterms:W3CDTF">2018-03-20T17:00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