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gif" ContentType="image/gif"/>
  <Override PartName="/ppt/media/image23.gif" ContentType="image/gif"/>
  <Override PartName="/ppt/media/image6.gif" ContentType="image/gif"/>
  <Override PartName="/ppt/media/image17.wmf" ContentType="image/x-wmf"/>
  <Override PartName="/ppt/media/image5.jpeg" ContentType="image/jpeg"/>
  <Override PartName="/ppt/media/image7.gif" ContentType="image/gif"/>
  <Override PartName="/ppt/media/image25.gif" ContentType="image/gif"/>
  <Override PartName="/ppt/media/image8.jpeg" ContentType="image/jpeg"/>
  <Override PartName="/ppt/media/image20.gif" ContentType="image/gif"/>
  <Override PartName="/ppt/media/image13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12.jpeg" ContentType="image/jpeg"/>
  <Override PartName="/ppt/media/image30.gif" ContentType="image/gif"/>
  <Override PartName="/ppt/media/image32.png" ContentType="image/png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26.gif" ContentType="image/gif"/>
  <Override PartName="/ppt/media/image19.png" ContentType="image/png"/>
  <Override PartName="/ppt/media/image10.jpeg" ContentType="image/jpeg"/>
  <Override PartName="/ppt/media/image21.gif" ContentType="image/gif"/>
  <Override PartName="/ppt/media/image18.jpeg" ContentType="image/jpeg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5ED-EE60-4B9D-9FDD-6AD97DE3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479-1951-4D68-99EC-0AD61A6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051-A1F5-453D-A327-5811D7CD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9CA-6566-43B1-AE7E-7AE26B61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AA6-78A3-46AC-8FC2-27EB0C1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361-378F-427D-9E9E-BDFF8056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EA8-006C-4A44-BDFF-82B27B2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F61-5E12-462D-9A15-1094A254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916-0DA9-4BC9-BE09-845B03E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7DE-130E-4387-909A-3460217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E77-A47A-4C8E-8673-224CEDB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62E-FD18-494D-87FD-F55AC13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3E7-2A46-45F3-B7E4-306DC0B92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5616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униципальное казенное образовательное учреждени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Прогимназия «Орлёнок»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гласовано                                                Утверждаю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заместитель                                                директор МКОУ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директора по УВР                                     прогимназии «Орлёнок»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____ Магомедова Х.А                              ______ Гусеева С.Я.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«-----»-------------2016г                                «----»--------------2016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234936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 по окружающему миру в 3 классе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ес и челове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астники работы: Балгишиева Д. , Джумагулова А. , Кубасаев 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уководитель работы: учитель начальных классов Джамбулатова П.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016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1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2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4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5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0" descr="6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4" descr="46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6" descr="98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7" descr="река2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9" descr="30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40r3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3692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вырубка 2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4" name="Picture 9" descr="вырубка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5" name="Picture 10" descr="37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53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 пожар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9" name="Picture 6" descr="1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1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2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пожар 3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вода грязь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Picture 6" descr="грязь 2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Picture 7" descr="грязь рек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1" name="Picture 7" descr="завод 3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Picture 8" descr="15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уборка 2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5" name="Picture 6" descr="уборка 3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0335112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Organization Chart 3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72" name="_s1028"/>
            <p:cNvCxnSpPr>
              <a:stCxn id="73" idx="0"/>
              <a:endCxn id="74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29"/>
            <p:cNvCxnSpPr>
              <a:stCxn id="76" idx="0"/>
              <a:endCxn id="74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0"/>
            <p:cNvCxnSpPr>
              <a:stCxn id="78" idx="0"/>
              <a:endCxn id="74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1031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3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4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Oval 13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3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4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p_14138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rocyon_lotor3.wav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46"/>
          <p:cNvPicPr/>
          <p:nvPr/>
        </p:nvPicPr>
        <p:blipFill>
          <a:blip r:embed="rId4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98"/>
          <p:cNvPicPr/>
          <p:nvPr/>
        </p:nvPicPr>
        <p:blipFill>
          <a:blip r:embed="rId5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253"/>
          <p:cNvPicPr/>
          <p:nvPr/>
        </p:nvPicPr>
        <p:blipFill>
          <a:blip r:embed="rId6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167"/>
          <p:cNvPicPr/>
          <p:nvPr/>
        </p:nvPicPr>
        <p:blipFill>
          <a:blip r:embed="rId7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495"/>
          <p:cNvPicPr/>
          <p:nvPr/>
        </p:nvPicPr>
        <p:blipFill>
          <a:blip r:embed="rId8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1" descr="507"/>
          <p:cNvPicPr/>
          <p:nvPr/>
        </p:nvPicPr>
        <p:blipFill>
          <a:blip r:embed="rId9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B_Fly11"/>
          <p:cNvPicPr/>
          <p:nvPr/>
        </p:nvPicPr>
        <p:blipFill>
          <a:blip r:embed="rId10"/>
          <a:stretch/>
        </p:blipFill>
        <p:spPr>
          <a:xfrm>
            <a:off x="3995640" y="1773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pvtz"/>
          <p:cNvPicPr/>
          <p:nvPr/>
        </p:nvPicPr>
        <p:blipFill>
          <a:blip r:embed="rId11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17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177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649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Саният Сайгидова</cp:lastModifiedBy>
  <dcterms:modified xsi:type="dcterms:W3CDTF">2019-12-04T05:29:58Z</dcterms:modified>
  <cp:revision>26</cp:revision>
  <dc:subject/>
  <dc:title>Слайд 1</dc:title>
</cp:coreProperties>
</file>