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18C-22F0-4704-AA07-E5FF2A64A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9DF6-7C8F-4EAB-B999-289C43AAA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0DC-F128-4AE3-A9EA-4FB7B6F2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55B-3AAA-4D4C-B8F2-A792A59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386-979E-42D9-9468-902E575D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B4C-26EE-4945-BA41-94711AF1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4EE-19B2-4F85-ABD1-C66AEC08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6AB-28CE-448E-A51B-B70947B1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1260-F47D-4FB3-B7DD-E7806E74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289-609C-49CC-A7D5-8510AAF2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936E-4AA7-4C0C-BD87-08EC91F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F86D-59F7-47D2-A27F-3644B7C4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08BF-4290-4A33-B15B-028D8CF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DD8-F7A1-4A65-92FA-CA0A742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BEF-A44F-41AB-94E5-1B82CFA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29D-A38C-47E7-92B6-AD437AE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FEA-7089-4679-8328-D204C2CB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52D4-AE49-4447-AB98-3B301B63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92A-B327-435E-8B95-69B41C3D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2048-48CC-49D1-86C0-EEFBF40D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CA9E-5732-44B0-ACB3-827A8BD9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3A9E-31A7-42C8-8F94-6ED3CA6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81B3-0670-4F57-942A-57159694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40E9-360F-4C7C-B6CA-2EF32DE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BAD-A5D7-486B-BD3D-9E46AB4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0517-9B99-493B-858B-648C975A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4F19-0AB2-423D-BEE0-C09417A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E8BC-FC44-4126-A5F2-8D6C989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05F0-FB7F-43F6-B9D9-2DAF638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EAF2-69D3-471D-86EA-6E1CD5D0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90D2-E5EF-4F03-A55F-309F189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29CA-4ADF-403F-BF7F-49156CBB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586C-8E17-4FE6-B1E0-516B25AE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C330-937B-4D7B-8815-09AA4A16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0DC9-1439-4D28-8A82-88045911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DF6-D499-41A5-A4EC-CE1E3830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5F56-FBDE-47E0-8F98-916234CB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EFE8-4262-4F30-AC22-F2CBA6A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D200-2273-49C5-A51A-644E1CD0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DD8E-2E2D-4483-BB34-80F8E22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7224-9B8F-44F5-AF46-5229FD5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F017-3C5E-4616-B15E-91AB6A29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D88E-2A9E-4AFE-86EE-E687930F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D031-9E21-44BA-8DEC-B204E327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280B-55A5-42A7-A865-A01AAD91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F06-A8C6-4879-8925-918CB89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BED-DA62-4EA5-9DCF-92189C0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A99-F421-4C52-AB8C-03F2FE3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E64-15F0-42E2-A3C4-AFF4207E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777-6972-409B-BE4A-5BB27BC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D51-EABB-4565-9D3E-B7CF48F2C0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BD22-C9B4-426A-A080-97F8C51D047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49AD-2B59-4543-A53B-86A9B2BFBEF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ACED-F3B2-4243-9F49-E6DDC27235A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640" y="4005360"/>
            <a:ext cx="7092720" cy="2273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bebeb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</a:t>
            </a:r>
            <a:r>
              <a:rPr b="1" lang="en-US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a</a:t>
            </a:r>
            <a:r>
              <a:rPr b="1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llo, </a:t>
            </a:r>
            <a:r>
              <a:rPr b="1" lang="en-US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Deutsch</a:t>
            </a:r>
            <a:r>
              <a:rPr b="1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!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4" descr="Alphabet"/>
          <p:cNvPicPr/>
          <p:nvPr/>
        </p:nvPicPr>
        <p:blipFill>
          <a:blip r:embed="rId1"/>
          <a:stretch/>
        </p:blipFill>
        <p:spPr>
          <a:xfrm>
            <a:off x="4572000" y="476280"/>
            <a:ext cx="4105440" cy="290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:\Users\вика\Desktop\1.jpg"/>
          <p:cNvPicPr/>
          <p:nvPr/>
        </p:nvPicPr>
        <p:blipFill>
          <a:blip r:embed="rId1"/>
          <a:stretch/>
        </p:blipFill>
        <p:spPr>
          <a:xfrm>
            <a:off x="1981080" y="2414520"/>
            <a:ext cx="6662880" cy="4346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5114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вика\Desktop\2.jpg"/>
          <p:cNvPicPr/>
          <p:nvPr/>
        </p:nvPicPr>
        <p:blipFill>
          <a:blip r:embed="rId1"/>
          <a:stretch/>
        </p:blipFill>
        <p:spPr>
          <a:xfrm>
            <a:off x="23760" y="762120"/>
            <a:ext cx="3110040" cy="3097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вика\Desktop\3.gif"/>
          <p:cNvPicPr/>
          <p:nvPr/>
        </p:nvPicPr>
        <p:blipFill>
          <a:blip r:embed="rId2"/>
          <a:stretch/>
        </p:blipFill>
        <p:spPr>
          <a:xfrm>
            <a:off x="3133800" y="189000"/>
            <a:ext cx="5900760" cy="647388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602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3"/>
          <a:stretch/>
        </p:blipFill>
        <p:spPr>
          <a:xfrm>
            <a:off x="1042920" y="3886200"/>
            <a:ext cx="13874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ятно 1 1"/>
          <p:cNvSpPr/>
          <p:nvPr/>
        </p:nvSpPr>
        <p:spPr>
          <a:xfrm>
            <a:off x="785880" y="928800"/>
            <a:ext cx="2849400" cy="1700280"/>
          </a:xfrm>
          <a:prstGeom prst="irregularSeal1">
            <a:avLst/>
          </a:prstGeom>
          <a:solidFill>
            <a:srgbClr val="e252e5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uchhal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Пятно 1 2"/>
          <p:cNvSpPr/>
          <p:nvPr/>
        </p:nvSpPr>
        <p:spPr>
          <a:xfrm>
            <a:off x="3429000" y="2643120"/>
            <a:ext cx="2727360" cy="1700280"/>
          </a:xfrm>
          <a:prstGeom prst="irregularSeal1">
            <a:avLst/>
          </a:prstGeom>
          <a:solidFill>
            <a:srgbClr val="e252e5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an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Пятно 1 3"/>
          <p:cNvSpPr/>
          <p:nvPr/>
        </p:nvSpPr>
        <p:spPr>
          <a:xfrm>
            <a:off x="5500800" y="4643280"/>
            <a:ext cx="2485800" cy="1700280"/>
          </a:xfrm>
          <a:prstGeom prst="irregularSeal1">
            <a:avLst/>
          </a:prstGeom>
          <a:solidFill>
            <a:srgbClr val="e252e5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Gastrol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Пятно 1 4"/>
          <p:cNvSpPr/>
          <p:nvPr/>
        </p:nvSpPr>
        <p:spPr>
          <a:xfrm>
            <a:off x="1285920" y="4429080"/>
            <a:ext cx="2709720" cy="1700280"/>
          </a:xfrm>
          <a:prstGeom prst="irregularSeal1">
            <a:avLst/>
          </a:prstGeom>
          <a:solidFill>
            <a:srgbClr val="e252e5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underki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Пятно 1 5"/>
          <p:cNvSpPr/>
          <p:nvPr/>
        </p:nvSpPr>
        <p:spPr>
          <a:xfrm>
            <a:off x="6000840" y="1214280"/>
            <a:ext cx="2485800" cy="1700280"/>
          </a:xfrm>
          <a:prstGeom prst="irregularSeal1">
            <a:avLst/>
          </a:prstGeom>
          <a:solidFill>
            <a:srgbClr val="e252e5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utterbr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Овальная выноска 1"/>
          <p:cNvSpPr/>
          <p:nvPr/>
        </p:nvSpPr>
        <p:spPr>
          <a:xfrm>
            <a:off x="1547640" y="765000"/>
            <a:ext cx="2419560" cy="1357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008e"/>
                </a:solidFill>
                <a:latin typeface="Trebuchet MS"/>
              </a:rPr>
              <a:t>Durchschl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Овальная выноска 4"/>
          <p:cNvSpPr/>
          <p:nvPr/>
        </p:nvSpPr>
        <p:spPr>
          <a:xfrm>
            <a:off x="5796000" y="2637000"/>
            <a:ext cx="2370240" cy="12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25008e"/>
                </a:solidFill>
                <a:uFillTx/>
                <a:latin typeface="Trebuchet MS"/>
              </a:rPr>
              <a:t>Zifferbl</a:t>
            </a:r>
            <a:r>
              <a:rPr b="1" lang="en-US" sz="2000" spc="-1" strike="noStrike" u="sng">
                <a:solidFill>
                  <a:srgbClr val="25008e"/>
                </a:solidFill>
                <a:uFillTx/>
                <a:latin typeface="Trebuchet MS"/>
              </a:rPr>
              <a:t>a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Овальная выноска 5"/>
          <p:cNvSpPr/>
          <p:nvPr/>
        </p:nvSpPr>
        <p:spPr>
          <a:xfrm>
            <a:off x="1403280" y="3851280"/>
            <a:ext cx="2276640" cy="12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008e"/>
                </a:solidFill>
                <a:latin typeface="Trebuchet MS"/>
              </a:rPr>
              <a:t>Rucks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:\Мои документики\ШКОЛА\Для маленьких\THE ABC\The ABC all\f_49bfab23b04dd.jpg"/>
          <p:cNvPicPr/>
          <p:nvPr/>
        </p:nvPicPr>
        <p:blipFill>
          <a:blip r:embed="rId1"/>
          <a:stretch/>
        </p:blipFill>
        <p:spPr>
          <a:xfrm>
            <a:off x="1476360" y="6480"/>
            <a:ext cx="75103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Oval 5"/>
          <p:cNvSpPr/>
          <p:nvPr/>
        </p:nvSpPr>
        <p:spPr>
          <a:xfrm>
            <a:off x="3929040" y="2928960"/>
            <a:ext cx="2347920" cy="866880"/>
          </a:xfrm>
          <a:prstGeom prst="ellipse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3429000" y="3357720"/>
            <a:ext cx="380880" cy="152280"/>
          </a:xfrm>
          <a:prstGeom prst="ellipse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3071880" y="3643200"/>
            <a:ext cx="228600" cy="76320"/>
          </a:xfrm>
          <a:prstGeom prst="ellipse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WordArt 8" descr=""/>
          <p:cNvPicPr/>
          <p:nvPr/>
        </p:nvPicPr>
        <p:blipFill>
          <a:blip r:embed="rId3"/>
          <a:stretch/>
        </p:blipFill>
        <p:spPr>
          <a:xfrm>
            <a:off x="4181400" y="3139920"/>
            <a:ext cx="2054160" cy="66996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4"/>
          <a:stretch/>
        </p:blipFill>
        <p:spPr>
          <a:xfrm>
            <a:off x="2462040" y="1212840"/>
            <a:ext cx="4488120" cy="1201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D:\Мои документики\Картинки\Картинки по Биболетовой\Копия (3) File1241.bmp"/>
          <p:cNvPicPr/>
          <p:nvPr/>
        </p:nvPicPr>
        <p:blipFill>
          <a:blip r:embed="rId5"/>
          <a:stretch/>
        </p:blipFill>
        <p:spPr>
          <a:xfrm>
            <a:off x="3786120" y="4286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D:\Мои документики\Картинки\Цветочки\f49.gif"/>
          <p:cNvPicPr/>
          <p:nvPr/>
        </p:nvPicPr>
        <p:blipFill>
          <a:blip r:embed="rId6"/>
          <a:stretch/>
        </p:blipFill>
        <p:spPr>
          <a:xfrm>
            <a:off x="142920" y="5786280"/>
            <a:ext cx="704880" cy="695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D:\Мои документики\Картинки\Цветочки\f49.gif"/>
          <p:cNvPicPr/>
          <p:nvPr/>
        </p:nvPicPr>
        <p:blipFill>
          <a:blip r:embed="rId7"/>
          <a:stretch/>
        </p:blipFill>
        <p:spPr>
          <a:xfrm>
            <a:off x="8439120" y="5786280"/>
            <a:ext cx="704880" cy="69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D:\Мои документики\Картинки\Цветочки\f92.gif"/>
          <p:cNvPicPr/>
          <p:nvPr/>
        </p:nvPicPr>
        <p:blipFill>
          <a:blip r:embed="rId8"/>
          <a:stretch/>
        </p:blipFill>
        <p:spPr>
          <a:xfrm>
            <a:off x="0" y="5000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8" descr="D:\Мои документики\Картинки\Цветочки\f92.gif"/>
          <p:cNvPicPr/>
          <p:nvPr/>
        </p:nvPicPr>
        <p:blipFill>
          <a:blip r:embed="rId9"/>
          <a:stretch/>
        </p:blipFill>
        <p:spPr>
          <a:xfrm>
            <a:off x="8191440" y="5716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8:19:25Z</dcterms:created>
  <dc:creator>Igor</dc:creator>
  <dc:description/>
  <dc:language>en-US</dc:language>
  <cp:lastModifiedBy>user</cp:lastModifiedBy>
  <dcterms:modified xsi:type="dcterms:W3CDTF">2019-12-04T14:23:16Z</dcterms:modified>
  <cp:revision>36</cp:revision>
  <dc:subject/>
  <dc:title>ABC</dc:title>
</cp:coreProperties>
</file>