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E95-E0DF-4214-A219-58CE07D3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FFA-2A3E-43FF-9C9C-554B5C10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E93-E660-4EFD-B21C-40D4B5D1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DD8-0B26-4921-99F7-0083E905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9532C-FB22-4882-8478-97CB6620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1748B-28C8-40EF-A07F-1A277DDE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94727-4A41-4A03-A2B7-22FA655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CF3BF-D2C8-4186-A886-08808DA2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1B7B2-3EF7-4F5C-BF68-E4E1F01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6B0A9-8930-4638-AD4B-68C1EDCC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9EC92-849C-4AB9-A464-94C84847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D73-87F9-4608-920A-335303BC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D3A0F-7519-4418-90B9-33ADB94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D7EBB-ADD1-4C9B-979A-990F38E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B47FC-860B-4019-BF51-2EFCFEB7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4FADE-6335-46D1-A771-D6C4E42C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63750-82E9-4E98-B78D-C149DA69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B10F-EDD1-4835-B890-BEE2BF82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DEEB-69C1-49C9-AF64-B9A607A6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ABDE-123E-425E-B2A9-8267326F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C57E-3551-4EBD-AF38-836FBBD4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BAC1-E598-4E29-B1BD-AC3707EC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06D-859F-4C6C-B122-A382AF22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858A-C448-42E4-8043-2C9DDCC1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35D6-C264-4EE1-8DD1-5ED42B6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CEB1-E7B7-4757-9F5F-018EE5EC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9ACF-B247-4EDE-8EAA-E6BE31C2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0BE8-05E2-4ACD-ADAC-7B1DF2AA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5464F-A7B7-4962-BBDF-C2AF9DA7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AD91-C716-4980-80C1-0245DA64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F4BF-1736-4892-9AB7-9552DA15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BACAA-8344-498D-ABF2-8C298EFD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5CE44-B18C-4CDE-A775-7FDB385B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986-D790-4735-9562-C9ADB4BE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09A6-D456-4FF9-8888-AEA45094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4752-D9C2-4769-9F38-DF940E97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7E863-BD88-4BD2-9AC8-DE570198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BD2C-8B72-49F4-9203-F229FE3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3D26-0907-4741-A56B-420588A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6FF57-8079-4702-A69D-C1D210F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D326-4705-412A-824B-34C21F61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9EA0-EC3A-4B7F-B58C-EE487B8C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3128-78D9-48BD-8138-0705215A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D5539E-57C8-416D-B0A9-21D8F914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286-6696-463C-B7B2-935C0CAE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06B13B-DA1F-4177-9AD8-5A0F0BA5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333314-1082-4C48-A582-8F805160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A4EF1-A32F-4DF4-B1CD-4C7D8F28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CED25B-CF24-4922-812D-C024E279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229C1C-6585-476B-AE03-30027914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7DCF3-C90D-4A50-8E15-DA521C68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5162BE-EB40-4C9E-9CA5-3AB0BEA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116D7-25C7-4C8B-B8ED-3FE02663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08E96D-D936-46F1-AE04-464CB884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1BBDF7-4FBE-449E-81D9-DCE72ACF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870-8573-45C2-ADA3-27271AB7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82C39A-5E50-4C87-A11E-B56CCF38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B15-CB5B-4C0D-8566-DF2492C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62F-5D78-471D-82AE-8080CFAE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88D-BC04-4FF1-AA4D-ED896EA6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DF41-2BCE-4A19-81FF-8EF10E6B224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E6E4-C5FE-4EF3-BF7A-CAAE927AA4A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530A-BC74-4232-A4C7-CD23B5E28C5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ая соединительная линия 8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BF6E-E2C8-4F0C-A4D3-3E6557D451B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ая соединительная линия 8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9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F0E9-B136-4A55-B2C3-C69EFA546B9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dff"/>
                </a:solidFill>
                <a:latin typeface="Times New Roman"/>
              </a:rPr>
              <a:t>Логические опер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Таблица истин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1828800"/>
          <a:ext cx="7270920" cy="3657600"/>
        </p:xfrm>
        <a:graphic>
          <a:graphicData uri="http://schemas.openxmlformats.org/drawingml/2006/table">
            <a:tbl>
              <a:tblPr/>
              <a:tblGrid>
                <a:gridCol w="2301840"/>
                <a:gridCol w="2160720"/>
                <a:gridCol w="280836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2" name="Object 30"/>
              <p:cNvSpPr txBox="1"/>
              <p:nvPr/>
            </p:nvSpPr>
            <p:spPr>
              <a:xfrm>
                <a:off x="5867280" y="1916280"/>
                <a:ext cx="15112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Эквивалентность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логическое равенство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вивалентность двух логических переменны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инна тогда и только тогда, когда оба высказывания одновременно либо ложны, либо истинн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знач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3714840" y="4572000"/>
                <a:ext cx="12571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↔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Таблица истин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5800" y="1828800"/>
          <a:ext cx="7702560" cy="3657600"/>
        </p:xfrm>
        <a:graphic>
          <a:graphicData uri="http://schemas.openxmlformats.org/drawingml/2006/table">
            <a:tbl>
              <a:tblPr/>
              <a:tblGrid>
                <a:gridCol w="2567160"/>
                <a:gridCol w="2565360"/>
                <a:gridCol w="257004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8" name="Object 31"/>
              <p:cNvSpPr txBox="1"/>
              <p:nvPr/>
            </p:nvSpPr>
            <p:spPr>
              <a:xfrm>
                <a:off x="6300720" y="1916280"/>
                <a:ext cx="17287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↔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691056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оритет выполнения логических опера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789120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числении значения логического выражения (формулы) логические операции вычисляются в определенном порядке, согласно их приоритету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верси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нъюнкци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изъюнкци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мпликация и эквивалентно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ции одного приоритета выполняются слева направо. Для изменения порядка действий используются скоб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3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а форму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е порядок вычисл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ядок вычис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верс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зъюнкц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пликац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вивалентно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3716280" y="1413000"/>
                <a:ext cx="20685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↔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3071880" y="3573360"/>
                <a:ext cx="758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2987640" y="4005360"/>
                <a:ext cx="86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2"/>
              <p:cNvSpPr txBox="1"/>
              <p:nvPr/>
            </p:nvSpPr>
            <p:spPr>
              <a:xfrm>
                <a:off x="3063960" y="4437000"/>
                <a:ext cx="21952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3"/>
              <p:cNvSpPr txBox="1"/>
              <p:nvPr/>
            </p:nvSpPr>
            <p:spPr>
              <a:xfrm>
                <a:off x="3762360" y="4903920"/>
                <a:ext cx="2987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↔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4"/>
              <p:cNvSpPr txBox="1"/>
              <p:nvPr/>
            </p:nvSpPr>
            <p:spPr>
              <a:xfrm>
                <a:off x="2805120" y="3057480"/>
                <a:ext cx="3650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07640" y="620640"/>
            <a:ext cx="814716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огическая опер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пособ построения сложного высказывания из данных высказываний, при котором значение истинности сложного высказывания полностью определяется значениями истинности исходных высказы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нверсия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(логическое отрицание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Rectangle 3" descr=""/>
          <p:cNvPicPr/>
          <p:nvPr/>
        </p:nvPicPr>
        <p:blipFill>
          <a:blip r:embed="rId1"/>
          <a:stretch/>
        </p:blipFill>
        <p:spPr>
          <a:xfrm>
            <a:off x="689040" y="1828800"/>
            <a:ext cx="7412040" cy="365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932360" y="3657600"/>
                <a:ext cx="504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258920" y="1916280"/>
          <a:ext cx="6095880" cy="2676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3" name="Text Box 19"/>
          <p:cNvSpPr/>
          <p:nvPr/>
        </p:nvSpPr>
        <p:spPr>
          <a:xfrm>
            <a:off x="2127240" y="692280"/>
            <a:ext cx="43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аблица исти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4"/>
              <p:cNvSpPr txBox="1"/>
              <p:nvPr/>
            </p:nvSpPr>
            <p:spPr>
              <a:xfrm>
                <a:off x="5508720" y="1916280"/>
                <a:ext cx="718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логическое умножение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075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ъюнкция двух логических переменных истин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гда и только тогда, когда оба высказывания, истинн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знач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>
                <a:off x="3276720" y="3716280"/>
                <a:ext cx="100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Таблица истин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85800" y="1828800"/>
          <a:ext cx="7270920" cy="3657600"/>
        </p:xfrm>
        <a:graphic>
          <a:graphicData uri="http://schemas.openxmlformats.org/drawingml/2006/table">
            <a:tbl>
              <a:tblPr/>
              <a:tblGrid>
                <a:gridCol w="2301840"/>
                <a:gridCol w="2376360"/>
                <a:gridCol w="259272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Object 33"/>
              <p:cNvSpPr txBox="1"/>
              <p:nvPr/>
            </p:nvSpPr>
            <p:spPr>
              <a:xfrm>
                <a:off x="6083280" y="1844640"/>
                <a:ext cx="1152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логическое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ложение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0256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зъюнкция двух логических переменных лож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гда и только тогда, когда оба высказывания лож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знач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3276720" y="4149720"/>
                <a:ext cx="100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Таблица истин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685800" y="1828800"/>
          <a:ext cx="7270920" cy="3657600"/>
        </p:xfrm>
        <a:graphic>
          <a:graphicData uri="http://schemas.openxmlformats.org/drawingml/2006/table">
            <a:tbl>
              <a:tblPr/>
              <a:tblGrid>
                <a:gridCol w="2517840"/>
                <a:gridCol w="2016000"/>
                <a:gridCol w="273708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Object 30"/>
              <p:cNvSpPr txBox="1"/>
              <p:nvPr/>
            </p:nvSpPr>
            <p:spPr>
              <a:xfrm>
                <a:off x="5867280" y="1916280"/>
                <a:ext cx="136872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87096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логическое следование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1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пликация двух логических переменны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ж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гда и только тогда, когда и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инн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ания следует ложное следств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знач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ств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3571920" y="3786120"/>
                <a:ext cx="934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5:57:51Z</dcterms:created>
  <dc:creator>Юлия</dc:creator>
  <dc:description/>
  <dc:language>en-US</dc:language>
  <cp:lastModifiedBy>СМертина</cp:lastModifiedBy>
  <dcterms:modified xsi:type="dcterms:W3CDTF">2019-12-04T02:34:04Z</dcterms:modified>
  <cp:revision>103</cp:revision>
  <dc:subject/>
  <dc:title>Логические операции</dc:title>
</cp:coreProperties>
</file>