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DE18E-9BD3-40A5-8C24-9C60552B0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39DF6-A0E6-446E-AFB3-D7638CA19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E5E992-EC50-4E96-855F-891B34BF3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9C4DC0-37EA-485D-9490-E2D58C7E1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830AB5-FE9B-4D3F-AF43-AF450390D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510213-4882-4E60-BFB1-2DD39DC99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2FD8B3-6DBE-45DC-9E0B-52EC16C44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207C24-EA60-4FAF-94A9-B2B09E2AA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21E940-B2EE-47AB-B4D3-10CB4DB18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35E613-5DB9-4C8C-9F8B-DDF9E663D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8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9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9FF912-EEFA-4CBF-A129-4D4577B18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5918AF-1CBB-4195-8991-A66E695A8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7DA00-83CD-4152-BCEE-744BD2BEE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869514-5935-41FC-9A4C-C344A6C03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E56B60-5A59-48FE-832B-08410F185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E30324-D927-492B-8CA8-47E829A76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87711D-31B3-40C8-A5CA-67EC01BAD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25EECB-FE26-4B89-BD2F-8157F3A1A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941407-EE8B-4EB9-947D-D61E477DA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918032-19C9-47D5-BFEB-D813F6C2C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E3DE4C-50F9-4028-80F3-D20324482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5694D2-1CF6-46C6-9C65-2D62BFB1E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C26F6A-B487-4EF4-99CE-2816679A4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39146-EB2C-40BA-BF3F-FC76B789F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2A07E1-C0CC-4693-B881-62EC0A048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342C14-862B-4BA2-8405-E840D4E11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FCEF8B-9412-4C0B-A59F-3AE0D1D2C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26730A-EEC4-4165-AB3F-D935A047E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49704A-1F8A-4F2C-B02D-1F6409496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F11B19-B24C-4A0B-ACC4-C8B8B6302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D6698C-875B-4389-A61C-9882CD0ED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EF3AE4-F25E-4589-8D6F-86844CDD5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1CA081-03DA-4D5A-AD7C-282C69D2F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8FA55C-4522-4E54-8E5D-7452B8AA3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9244F-66D5-44C5-9FE2-7E9426D78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4C5E72-9FBA-4949-BA8F-29D2B88D0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D4D42A-5947-43BA-AF5B-F918A3DC9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41B72D-144E-46FC-BCA1-07AF25978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5C0F20-7AC7-45A0-8FA4-CC84A91A3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DBFAA9-BCE0-4910-BE8F-54138B866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20A09A-AE04-4ABD-B257-51ABB5B1B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6A48C0-660E-4CEB-AC74-2FA303D19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6C592A-5E6A-4510-898C-604B12F72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108A0B-835B-4690-A569-8B0102D1F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585380-3E18-402C-88E8-AF34204BD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61A34-80D2-4468-8016-C22A4A0A0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C45B31-94CA-4478-A9D1-17E411AC5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0612F4-2279-44BB-94C2-78F16CAB1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F94BED-6303-409A-A10E-789D81C2A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293ABB-D02C-4E4D-9EA5-7CE57EF2A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119AAE-E4A5-4464-98D5-5402C8FD1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E2F4347-2D9C-4A90-A9D5-EBB6BCBE4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2796E32-95F4-41DB-A486-C938D3043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09091D2-48AF-4DD4-ADC6-2FA6160AA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28A39B4-6F2D-45AA-AD88-0334D6652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914D90C-5F6C-4A23-B6A2-2CF0751D3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941DE-BC21-4ABE-93CD-C815DE04E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FF56092-6183-4113-8405-34029E0E1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604564A-1686-4BEE-99FE-35AE7B68E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70953EC-4057-4E6F-9A19-09AA9B9BC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AEB34E9-0BAF-4FCC-B325-1C528FAD5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6D383D1-374C-4322-860B-60D51C99D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883F992-9C73-4F18-8E6D-4290A8A50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5B8B63E-9181-42CA-B6EB-BF19D9A7A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479CFBB-07FF-46A0-8873-A57C4C475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DB3EB03-F122-48A5-9EA7-20D66E163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AAD9B18-5C29-4C2B-8AE1-5D77899E3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E63A8-3704-48C6-A0DF-4350911AE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3C69CFB-96DC-4905-B3A2-809CB42B4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175FEDA-12F2-44FF-8D06-EED6ADB70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B7A3275-1338-408F-B02A-CA7B33DE8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ACABBC1-15E5-450B-9D0C-D9CA44E38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8551178-F158-4D22-9801-C0FCD07F6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4F214CC-4C13-4B03-A094-617E5FA43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B796716-4F80-4276-94F8-0A918207E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90E0C22-BBC3-4E52-B016-6B590220A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9FB1D32-39AE-4A76-A50C-6FAB7C72D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8FA2DF8-A88C-4101-95E6-67508503C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D5324-278A-4FAB-A34D-304155896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31979B9-470B-49FD-B1A0-8F7EB673A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0E8C863-7E7D-4B49-8B4F-20BB1A685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9157563-4712-4FD6-ADFE-51737DB46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6B0F508-889B-45BB-A1DF-A8592CC2B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1B41B6A-7831-46B4-A1DD-AB23C21F2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6313E56-55CA-485F-88C9-359A9F117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6B44A90-B46A-41A0-B59B-787F8FEBA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70DFBF7-232B-4AE9-8E80-CE6A0D0F1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09CF00F-2169-482E-BFB6-26CC40ACE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09FD920-B0E5-431C-B814-4CC206435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061C0-F751-4CB8-8FDC-193B1085F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0494D32-0402-4F32-962D-3DC1BFB53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A39E8EC-AA64-4145-91F8-907D09A36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8CD32A1-8433-4AE3-8ADB-36830B02C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B32A636-16C6-4908-A551-6F69524B8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5696581-C18F-430E-B300-03FC6412F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58EFB32-7E29-412C-91BC-91E18F016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1BB5DD4-360A-4CCF-A3B7-CFD570DCF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FCA5DFB-C5D3-45EA-849C-92811D0A9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C884AC4-B793-42CE-B359-51964E01C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C26DD7A-E76C-439C-B5D1-880356C54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B717F-86C7-4C9D-9472-B56991FFE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626684B-9DB9-46D6-8466-290506662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85A4A6A-CA1C-4442-BD2F-EE6F5A163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A98B134-0670-44AA-A4AC-0C5A0EF2A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E241FEA-D1F7-488A-ACD7-350152FB9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60AD216-E73F-4CF3-B602-62DAA8BCD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AA104C7-8ED8-4541-9516-E2FA01518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1528BD1-297A-464C-AE2E-0152286A4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C36FA1E-F5DC-408A-8B35-FC70FF77B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9E6E674-E2AC-4DC1-9ECA-9BD2DEE3A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7F60597-FCC6-422D-9C32-279030AA9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46916-0E47-4148-9E02-6F660493A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CF2A3-C0F6-44B2-B49B-B28430BD0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C7B8103-36D5-4880-8700-BC473F812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8A6B193-06CB-46DA-B719-653A1A1B4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E47C986-4ED6-46F6-BB15-FBF5705AF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8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09C4B9C-22F8-46CD-A5D2-EFAFADA75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3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4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5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C55F4D9-3F76-4600-A1F1-856CAA57D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A399E-8B13-4637-8CE0-57BA87674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59BE9-E421-45B7-91C9-2ACAFC99E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7515F-E8D8-4209-8EC4-4193A00A9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47D6B-C7AB-46DE-8235-8679325FA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FFF753-38B1-4C80-9B9B-229EA431D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12E67D-12D4-42C5-9163-A5774B274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DE7D3B-822C-402A-9EE2-26ED0D178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009E01-93FF-4EE5-8748-3D4ADA1FC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C58BBF-117D-4BFC-AF76-8E2949A8B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147DA-8A83-45C4-B383-4D1162D1B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0A7AF5-9E9A-4CE5-AADD-60A76D0A1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9313E5-AF4A-406B-AE73-50366D91E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2A883F-1100-4FD5-B832-70D8A8862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450B09-C6F2-49D7-A920-2514E6EC9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E6AF3B-CDEF-4523-8FC5-55D841D9C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9C2752-2EA4-4284-8A9E-BAE693376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7E5F10-744D-4729-AA94-D9E8CBADD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FAE0CB-C3BE-4332-9118-42D369AEA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99E57B-E6E6-40BC-95CE-C6B6CB92A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AABB11-109F-47D9-A305-A6D053021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FF458-482E-4B76-87EA-866EC36D9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31C92F-4D9C-4226-9BFD-AB884AD86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05DDD3-0BA8-4A0E-B22F-1F4D6DCA6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1FEA66-0AD0-41BD-8F1B-175356B72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11114D-E5AB-41CE-9F9E-0FBCFC570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49BD31-91E3-462D-BED7-414A79F99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3E3670-467B-4E68-A701-24D84C429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DDA0FC-78AE-4B9D-A6B9-B3F603538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A1B225-B60C-4073-B91A-0F9CDF07D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251142-3546-426D-A46F-5C3445D74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C9DA1F-7DDE-4CBD-9394-A707B5465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AEEC8-C432-4769-A586-B8BE3116B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04F8C7-CF54-4036-8B3C-8811F6B39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438F17-D122-467A-92CB-46E9C1029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CCA29C-C799-4468-87D1-7137062DB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15557F-99F7-4B19-B93A-59931DAE9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501D6F-5211-493B-8008-AB33EFE7B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BC57B5-A02C-4F4B-ABDC-67D6C9016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B7F596-12CC-4D38-899B-9921B6CD6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43EFEE-CF38-4CD9-A1BC-D6BC00CE3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0A47B4-9A23-48C7-A2F4-350FDDD9C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CC3B5C-D860-4241-8324-1A9065C22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ABA8D-7E8B-44D8-A273-8B68CA94C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08BE04-DBCB-45B8-9BAB-D42A614F8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A03C89-A5FD-4E87-B574-3927C482F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C51737-8B2C-4DDA-AD19-4C2A665C2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78915C-09C0-402E-91B7-B39C07C9E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FFE401-BBA6-40FF-A4FD-DFF22F50B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FF6A86-05A4-45D1-BA2E-47847E7D6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F62913-B783-4358-AF6C-13B4F0421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D28299-920C-40F4-8E4D-D0C5188B8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FEBD33-BB4A-4786-94BF-B18B9B5D3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DE51C4-2C9A-4B15-B1E6-8689AC089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DD521-FA99-410F-9A84-902B825A1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F21BE4-C639-4C73-90D6-BFEEF83DC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1F82CC-412E-448F-B2DD-171304B8E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7E836A-0D97-4282-869F-769F3FD2E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B23297-1FBB-4F24-8D4A-4AB7D2F83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C1F117-E808-45BF-9A93-24504915D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94E152-FDD2-4BEC-B5B5-277BA0CCF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C4ACC2-9A18-4F99-BABC-B6E390081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D61980-113F-4F10-A312-6A4CE9E69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1DD343-021F-4DF7-92CB-F2C95290B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57F303-B88C-49EF-8FEF-12DBEAAF0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DC423-BC79-4DBA-B79F-BED6B47B6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E9B2E1-8398-4D63-9689-3B860A003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076055-453A-48CB-8001-002BCCEE5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88E79C-4BFD-41D4-AF6F-1AFFD745F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FDCEDD-5DBE-4FED-9CEB-053B2E0A0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BE89E5-02F3-41AE-937F-B1DC0FD2F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0B8441-1EE5-4758-837F-C251EAB19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F1ED1E-908D-4B9E-89C1-25B677F0D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B010AC-37A1-4A73-B502-F68C6B1D7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12EC52-A7DD-4E0F-AF50-CA8E7E0F9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5286B1-DEF7-41E6-B2F7-2CB02FF59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2EB37-0354-414C-B138-98927FA1D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728C4F-DE4C-401E-A0EE-C0386B1F3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CF6EFC-F9BA-4F25-800E-6B05DCCAD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9E315B-04FB-4D95-A7D0-1366CBE6F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1A0AC4-2BB8-41E3-A8D0-22FE3E5AF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57AA1A-70DB-477F-A444-7FADF80DB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54D999-B425-45F1-BBC9-0E2C28E68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9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0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641591-14F4-4A77-A429-B3FFB134B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D16CCB-5911-4263-A2CE-3F9447605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25825B-2D90-4EBD-8755-DCDEBA3DC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9F8C64-F807-4135-B0D0-BD3FA6FBE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4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A6765-A6D6-4394-9552-020FB8CA4C60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0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21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3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634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6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28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29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30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0149F-7565-46E2-BC80-6517119E2BEF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9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70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 type="dt" idx="31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 type="ftr" idx="32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 type="sldNum" idx="33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B3ADC-4A2F-46FA-B7AF-36DF7EF77640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75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77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TextBox 34"/>
          <p:cNvSpPr/>
          <p:nvPr/>
        </p:nvSpPr>
        <p:spPr>
          <a:xfrm>
            <a:off x="1808280" y="6476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TextBox 62"/>
          <p:cNvSpPr/>
          <p:nvPr/>
        </p:nvSpPr>
        <p:spPr>
          <a:xfrm>
            <a:off x="8169120" y="2905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 type="dt" idx="34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 type="ftr" idx="35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PlaceHolder 5"/>
          <p:cNvSpPr>
            <a:spLocks noGrp="1"/>
          </p:cNvSpPr>
          <p:nvPr>
            <p:ph type="sldNum" idx="36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878DE-BE73-41C0-AB4A-78745959909F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83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84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 type="dt" idx="37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 type="ftr" idx="38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PlaceHolder 5"/>
          <p:cNvSpPr>
            <a:spLocks noGrp="1"/>
          </p:cNvSpPr>
          <p:nvPr>
            <p:ph type="sldNum" idx="39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457B3-CAC8-4080-9B1B-2C629BA9C19F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89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91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TextBox 34"/>
          <p:cNvSpPr/>
          <p:nvPr/>
        </p:nvSpPr>
        <p:spPr>
          <a:xfrm>
            <a:off x="1808280" y="6476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TextBox 62"/>
          <p:cNvSpPr/>
          <p:nvPr/>
        </p:nvSpPr>
        <p:spPr>
          <a:xfrm>
            <a:off x="8169120" y="2905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 type="dt" idx="40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 type="ftr" idx="41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5"/>
          <p:cNvSpPr>
            <a:spLocks noGrp="1"/>
          </p:cNvSpPr>
          <p:nvPr>
            <p:ph type="sldNum" idx="42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24F34-C5FD-4EAF-BAF3-9D835A6450CD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97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98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 type="dt" idx="43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 type="ftr" idx="44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5"/>
          <p:cNvSpPr>
            <a:spLocks noGrp="1"/>
          </p:cNvSpPr>
          <p:nvPr>
            <p:ph type="sldNum" idx="45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CAA94-F84E-4413-B40D-96AC739B4812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03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05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 type="dt" idx="46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 type="ftr" idx="47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 type="sldNum" idx="48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10A12-BC5D-4D25-B3E1-D71DBA10335A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7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108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0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121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3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 type="dt" idx="49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PlaceHolder 4"/>
          <p:cNvSpPr>
            <a:spLocks noGrp="1"/>
          </p:cNvSpPr>
          <p:nvPr>
            <p:ph type="ftr" idx="50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PlaceHolder 5"/>
          <p:cNvSpPr>
            <a:spLocks noGrp="1"/>
          </p:cNvSpPr>
          <p:nvPr>
            <p:ph type="sldNum" idx="51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113AF-1A97-426E-B592-2E168386A15A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8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Freeform 8"/>
          <p:cNvSpPr/>
          <p:nvPr/>
        </p:nvSpPr>
        <p:spPr>
          <a:xfrm>
            <a:off x="-31680" y="4321080"/>
            <a:ext cx="1395360" cy="781200"/>
          </a:xfrm>
          <a:custGeom>
            <a:avLst/>
            <a:gdLst/>
            <a:ahLst/>
            <a:rect l="l" t="t" r="r" b="b"/>
            <a:pathLst>
              <a:path w="8042" h="10000">
                <a:moveTo>
                  <a:pt x="5799" y="10000"/>
                </a:moveTo>
                <a:cubicBezTo>
                  <a:pt x="5880" y="10000"/>
                  <a:pt x="5934" y="9940"/>
                  <a:pt x="5961" y="9880"/>
                </a:cubicBezTo>
                <a:cubicBezTo>
                  <a:pt x="5961" y="9820"/>
                  <a:pt x="5988" y="9820"/>
                  <a:pt x="5988" y="9820"/>
                </a:cubicBezTo>
                <a:lnTo>
                  <a:pt x="8042" y="5260"/>
                </a:lnTo>
                <a:cubicBezTo>
                  <a:pt x="8096" y="5140"/>
                  <a:pt x="8096" y="4901"/>
                  <a:pt x="8042" y="4721"/>
                </a:cubicBezTo>
                <a:lnTo>
                  <a:pt x="5988" y="221"/>
                </a:lnTo>
                <a:cubicBezTo>
                  <a:pt x="5988" y="160"/>
                  <a:pt x="5961" y="160"/>
                  <a:pt x="5961" y="160"/>
                </a:cubicBezTo>
                <a:cubicBezTo>
                  <a:pt x="5934" y="101"/>
                  <a:pt x="5880" y="41"/>
                  <a:pt x="5799" y="41"/>
                </a:cubicBezTo>
                <a:lnTo>
                  <a:pt x="18" y="0"/>
                </a:lnTo>
                <a:cubicBezTo>
                  <a:pt x="12" y="3330"/>
                  <a:pt x="6" y="6661"/>
                  <a:pt x="0" y="9991"/>
                </a:cubicBezTo>
                <a:lnTo>
                  <a:pt x="5799" y="10000"/>
                </a:ln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4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5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6"/>
          </p:nvPr>
        </p:nvSpPr>
        <p:spPr>
          <a:xfrm>
            <a:off x="423360" y="4529160"/>
            <a:ext cx="584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AFD50-2924-4489-A929-F9F043F49ACF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38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0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51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7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8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9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D6717-52CD-425A-8B8E-28ED4DDB04A7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207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220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2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dt" idx="10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ftr" idx="11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sldNum" idx="12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CB883-F1E1-47EA-91CB-1AA0CFD0C336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5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276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8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289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1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13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14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15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66E7F-B376-4E93-AF2E-2FA55D945AC5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4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345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7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358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0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16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17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18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DF796-C51F-43F4-9178-8B77B13C594C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3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414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6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427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dt" idx="19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ftr" idx="20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sldNum" idx="21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57E8B-33F2-4F5A-A68E-D636D44DC1DB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2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483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5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496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8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 type="dt" idx="22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 type="ftr" idx="23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 type="sldNum" idx="24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D8755-96E1-40F2-BAA0-598B080FCC76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1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552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4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565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7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 type="dt" idx="25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 type="ftr" idx="26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 type="sldNum" idx="27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B1CE7-41AE-41A9-8D72-3FF62C282B5D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684360" y="583920"/>
            <a:ext cx="7772400" cy="1423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800" spc="-1" strike="noStrike">
                <a:solidFill>
                  <a:srgbClr val="262626"/>
                </a:solidFill>
                <a:latin typeface="Century Gothic"/>
              </a:rPr>
              <a:t>ОБЩИЕ ПОЛОЖЕНИЯ</a:t>
            </a:r>
            <a:br>
              <a:rPr sz="3200"/>
            </a:br>
            <a:r>
              <a:rPr b="1" lang="ru-RU" sz="3200" spc="-1" strike="noStrike">
                <a:solidFill>
                  <a:srgbClr val="262626"/>
                </a:solidFill>
                <a:latin typeface="Century Gothic"/>
              </a:rPr>
              <a:t> «Строевая подготовка»</a:t>
            </a:r>
            <a:endParaRPr b="0" lang="en-US" sz="32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77" name="PlaceHolder 2"/>
          <p:cNvSpPr>
            <a:spLocks noGrp="1"/>
          </p:cNvSpPr>
          <p:nvPr>
            <p:ph type="subTitle"/>
          </p:nvPr>
        </p:nvSpPr>
        <p:spPr>
          <a:xfrm>
            <a:off x="4678200" y="5373360"/>
            <a:ext cx="4572000" cy="38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595959"/>
                </a:solidFill>
                <a:latin typeface="Century Gothic"/>
              </a:rPr>
              <a:t>Автор: Дегтярев М.Ю.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178" name="Picture 4" descr="gerb"/>
          <p:cNvPicPr/>
          <p:nvPr/>
        </p:nvPicPr>
        <p:blipFill>
          <a:blip r:embed="rId1"/>
          <a:stretch/>
        </p:blipFill>
        <p:spPr>
          <a:xfrm>
            <a:off x="0" y="0"/>
            <a:ext cx="985680" cy="1066680"/>
          </a:xfrm>
          <a:prstGeom prst="rect">
            <a:avLst/>
          </a:prstGeom>
          <a:ln w="0">
            <a:noFill/>
          </a:ln>
        </p:spPr>
      </p:pic>
      <p:pic>
        <p:nvPicPr>
          <p:cNvPr id="1179" name="Рисунок 1" descr=""/>
          <p:cNvPicPr/>
          <p:nvPr/>
        </p:nvPicPr>
        <p:blipFill>
          <a:blip r:embed="rId2"/>
          <a:stretch/>
        </p:blipFill>
        <p:spPr>
          <a:xfrm>
            <a:off x="1530360" y="2017800"/>
            <a:ext cx="3138480" cy="932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1352160" y="188640"/>
            <a:ext cx="7791480" cy="110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262626"/>
                </a:solidFill>
                <a:latin typeface="Century Gothic"/>
              </a:rPr>
              <a:t>ОБЩИЕ ПОЛОЖЕНИЯ</a:t>
            </a:r>
            <a:br>
              <a:rPr sz="2800"/>
            </a:br>
            <a:r>
              <a:rPr b="1" lang="ru-RU" sz="2800" spc="-1" strike="noStrike">
                <a:solidFill>
                  <a:srgbClr val="262626"/>
                </a:solidFill>
                <a:latin typeface="Century Gothic"/>
              </a:rPr>
              <a:t> «Строевая подготовка»</a:t>
            </a:r>
            <a:endParaRPr b="0" lang="en-US" sz="2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/>
          </p:nvPr>
        </p:nvSpPr>
        <p:spPr>
          <a:xfrm>
            <a:off x="1403280" y="1557360"/>
            <a:ext cx="7740720" cy="554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1001"/>
              </a:spcBef>
              <a:buClr>
                <a:srgbClr val="ff0000"/>
              </a:buClr>
              <a:buSzPct val="200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  </a:t>
            </a:r>
            <a:r>
              <a:rPr b="1" lang="ru-RU" sz="20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Военнослужащий обязан: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роверить исправность своего оружия, закрепленных за ним вооружения и военной   техники, боеприпасов, средств индивидуальной защиты, шанцевого инструмента,  обмундирования и снаряжения; 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аккуратно заправить обмундирование, правильно надеть и подогнать снаряжение,  помочь товарищу устранить замеченные недостатки; 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знать свое место в строю, уметь быстро, без суеты занять его; в движении   сохранять равнение, установленные интервал и дистанцию; соблюдать требования   безопасности; не выходить из строя (машины) без разрешения; 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 строю без разрешения не разговаривать и не курить; быть внимательным к  приказаниям и командам своего командира, быстро и точно их выполнять, не мешая   другим; 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ередавать приказания, команды без искажений, громко и четко.</a:t>
            </a: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216" name="Picture 4" descr="gerb"/>
          <p:cNvPicPr/>
          <p:nvPr/>
        </p:nvPicPr>
        <p:blipFill>
          <a:blip r:embed="rId1"/>
          <a:stretch/>
        </p:blipFill>
        <p:spPr>
          <a:xfrm>
            <a:off x="0" y="0"/>
            <a:ext cx="1047600" cy="11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476000" y="188640"/>
            <a:ext cx="7667640" cy="110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262626"/>
                </a:solidFill>
                <a:latin typeface="Century Gothic"/>
              </a:rPr>
              <a:t>ОБЩИЕ ПОЛОЖЕНИЯ</a:t>
            </a:r>
            <a:br>
              <a:rPr sz="2800"/>
            </a:br>
            <a:r>
              <a:rPr b="1" lang="ru-RU" sz="2800" spc="-1" strike="noStrike">
                <a:solidFill>
                  <a:srgbClr val="262626"/>
                </a:solidFill>
                <a:latin typeface="Century Gothic"/>
              </a:rPr>
              <a:t> «Строевая подготовка»</a:t>
            </a:r>
            <a:endParaRPr b="0" lang="en-US" sz="2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1403280" y="1790640"/>
            <a:ext cx="7740720" cy="200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just">
              <a:spcBef>
                <a:spcPts val="1001"/>
              </a:spcBef>
              <a:buClr>
                <a:srgbClr val="ff0000"/>
              </a:buClr>
              <a:buSzPct val="120000"/>
              <a:buFont typeface="Century Gothic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Century Gothic"/>
              </a:rPr>
              <a:t>Строи и управление ими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457200" indent="-457200" algn="just">
              <a:spcBef>
                <a:spcPts val="1001"/>
              </a:spcBef>
              <a:buClr>
                <a:srgbClr val="ff0000"/>
              </a:buClr>
              <a:buSzPct val="120000"/>
              <a:buFont typeface="Century Gothic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Century Gothic"/>
              </a:rPr>
              <a:t>Обязанности командиров и военнослужащих перед построением и в строю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182" name="Picture 4" descr="gerb"/>
          <p:cNvPicPr/>
          <p:nvPr/>
        </p:nvPicPr>
        <p:blipFill>
          <a:blip r:embed="rId1"/>
          <a:stretch/>
        </p:blipFill>
        <p:spPr>
          <a:xfrm>
            <a:off x="0" y="0"/>
            <a:ext cx="1047600" cy="1133640"/>
          </a:xfrm>
          <a:prstGeom prst="rect">
            <a:avLst/>
          </a:prstGeom>
          <a:ln w="0">
            <a:noFill/>
          </a:ln>
        </p:spPr>
      </p:pic>
      <p:sp>
        <p:nvSpPr>
          <p:cNvPr id="1183" name=""/>
          <p:cNvSpPr txBox="1"/>
          <p:nvPr/>
        </p:nvSpPr>
        <p:spPr>
          <a:xfrm>
            <a:off x="1143000" y="3943440"/>
            <a:ext cx="7772400" cy="200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1476000" y="188640"/>
            <a:ext cx="7667640" cy="110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262626"/>
                </a:solidFill>
                <a:latin typeface="Century Gothic"/>
              </a:rPr>
              <a:t>ОБЩИЕ ПОЛОЖЕНИЯ</a:t>
            </a:r>
            <a:br>
              <a:rPr sz="2800"/>
            </a:br>
            <a:r>
              <a:rPr b="1" lang="ru-RU" sz="2800" spc="-1" strike="noStrike">
                <a:solidFill>
                  <a:srgbClr val="262626"/>
                </a:solidFill>
                <a:latin typeface="Century Gothic"/>
              </a:rPr>
              <a:t> «Строевая подготовка»</a:t>
            </a:r>
            <a:endParaRPr b="0" lang="en-US" sz="2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/>
          </p:nvPr>
        </p:nvSpPr>
        <p:spPr>
          <a:xfrm>
            <a:off x="1402920" y="1790640"/>
            <a:ext cx="7512120" cy="200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SzPct val="12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Строй</a:t>
            </a:r>
            <a:r>
              <a:rPr b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– установленное Уставом размещение военнослужащих, подразделений и частей для их совместных действий в пешем порядке и на машинах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186" name="Picture 5" descr="gerb"/>
          <p:cNvPicPr/>
          <p:nvPr/>
        </p:nvPicPr>
        <p:blipFill>
          <a:blip r:embed="rId1"/>
          <a:stretch/>
        </p:blipFill>
        <p:spPr>
          <a:xfrm>
            <a:off x="0" y="0"/>
            <a:ext cx="1047600" cy="1133640"/>
          </a:xfrm>
          <a:prstGeom prst="rect">
            <a:avLst/>
          </a:prstGeom>
          <a:ln w="0">
            <a:noFill/>
          </a:ln>
        </p:spPr>
      </p:pic>
      <p:sp>
        <p:nvSpPr>
          <p:cNvPr id="1187" name="Прямоугольник 3"/>
          <p:cNvSpPr/>
          <p:nvPr/>
        </p:nvSpPr>
        <p:spPr>
          <a:xfrm>
            <a:off x="1476360" y="3284640"/>
            <a:ext cx="7343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1001"/>
              </a:spcBef>
              <a:buClr>
                <a:srgbClr val="ff0000"/>
              </a:buClr>
              <a:buSzPct val="120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Шеренга</a:t>
            </a:r>
            <a:r>
              <a:rPr b="1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– строй, в котором военнослужащие размещены один возле другого на одной линии на установленных интервала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Прямоугольник 4"/>
          <p:cNvSpPr/>
          <p:nvPr/>
        </p:nvSpPr>
        <p:spPr>
          <a:xfrm>
            <a:off x="1476360" y="5100480"/>
            <a:ext cx="7439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1001"/>
              </a:spcBef>
              <a:buClr>
                <a:srgbClr val="ff0000"/>
              </a:buClr>
              <a:buSzPct val="120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Фланг</a:t>
            </a:r>
            <a:r>
              <a:rPr b="1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– правая (левая) оконечность строя. При поворотах строя названия флангов не изменяютс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1328400" y="259920"/>
            <a:ext cx="7791480" cy="110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262626"/>
                </a:solidFill>
                <a:latin typeface="Century Gothic"/>
              </a:rPr>
              <a:t>ОБЩИЕ ПОЛОЖЕНИЯ</a:t>
            </a:r>
            <a:br>
              <a:rPr sz="2800"/>
            </a:br>
            <a:r>
              <a:rPr b="1" lang="ru-RU" sz="2800" spc="-1" strike="noStrike">
                <a:solidFill>
                  <a:srgbClr val="262626"/>
                </a:solidFill>
                <a:latin typeface="Century Gothic"/>
              </a:rPr>
              <a:t> «Строевая подготовка»</a:t>
            </a:r>
            <a:endParaRPr b="0" lang="en-US" sz="2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/>
          </p:nvPr>
        </p:nvSpPr>
        <p:spPr>
          <a:xfrm>
            <a:off x="1371600" y="1773360"/>
            <a:ext cx="7772400" cy="200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SzPct val="120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Интервал</a:t>
            </a:r>
            <a:r>
              <a:rPr b="1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- расстояние по фронту между военнослужащими (машинами), подразделениями и частями.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191" name="Picture 4" descr="gerb"/>
          <p:cNvPicPr/>
          <p:nvPr/>
        </p:nvPicPr>
        <p:blipFill>
          <a:blip r:embed="rId1"/>
          <a:stretch/>
        </p:blipFill>
        <p:spPr>
          <a:xfrm>
            <a:off x="0" y="0"/>
            <a:ext cx="1047600" cy="1133640"/>
          </a:xfrm>
          <a:prstGeom prst="rect">
            <a:avLst/>
          </a:prstGeom>
          <a:ln w="0">
            <a:noFill/>
          </a:ln>
        </p:spPr>
      </p:pic>
      <p:sp>
        <p:nvSpPr>
          <p:cNvPr id="1192" name=""/>
          <p:cNvSpPr txBox="1"/>
          <p:nvPr/>
        </p:nvSpPr>
        <p:spPr>
          <a:xfrm>
            <a:off x="1143000" y="3943440"/>
            <a:ext cx="7772400" cy="200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93" name="Прямоугольник 3"/>
          <p:cNvSpPr/>
          <p:nvPr/>
        </p:nvSpPr>
        <p:spPr>
          <a:xfrm>
            <a:off x="1328760" y="3265560"/>
            <a:ext cx="7635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001"/>
              </a:spcBef>
              <a:buClr>
                <a:srgbClr val="ff0000"/>
              </a:buClr>
              <a:buSzPct val="120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Дистанция</a:t>
            </a:r>
            <a:r>
              <a:rPr b="1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- расстояние в глубину между военнослужащими (машинами), подразделениями и </a:t>
            </a:r>
            <a:r>
              <a:rPr b="1" lang="ru-RU" sz="2800" spc="-1" strike="noStrike">
                <a:solidFill>
                  <a:srgbClr val="404040"/>
                </a:solidFill>
                <a:latin typeface="Century Gothic"/>
              </a:rPr>
              <a:t>частями.</a:t>
            </a:r>
            <a:r>
              <a:rPr b="0" lang="ru-RU" sz="2800" spc="-1" strike="noStrike">
                <a:solidFill>
                  <a:srgbClr val="404040"/>
                </a:solidFill>
                <a:latin typeface="Century Gothic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Прямоугольник 4"/>
          <p:cNvSpPr/>
          <p:nvPr/>
        </p:nvSpPr>
        <p:spPr>
          <a:xfrm>
            <a:off x="1328760" y="4643280"/>
            <a:ext cx="6843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SzPct val="120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 u="sng">
                <a:solidFill>
                  <a:srgbClr val="404040"/>
                </a:solidFill>
                <a:uFillTx/>
                <a:latin typeface="Century Gothic"/>
              </a:rPr>
              <a:t>Ширина строя</a:t>
            </a:r>
            <a:r>
              <a:rPr b="1" lang="ru-RU" sz="2800" spc="-1" strike="noStrike">
                <a:solidFill>
                  <a:srgbClr val="404040"/>
                </a:solidFill>
                <a:latin typeface="Century Gothic"/>
              </a:rPr>
              <a:t> - расстояние между флангам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1352160" y="188640"/>
            <a:ext cx="7791480" cy="110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262626"/>
                </a:solidFill>
                <a:latin typeface="Century Gothic"/>
              </a:rPr>
              <a:t>ОБЩИЕ ПОЛОЖЕНИЯ</a:t>
            </a:r>
            <a:br>
              <a:rPr sz="2800"/>
            </a:br>
            <a:r>
              <a:rPr b="1" lang="ru-RU" sz="2800" spc="-1" strike="noStrike">
                <a:solidFill>
                  <a:srgbClr val="262626"/>
                </a:solidFill>
                <a:latin typeface="Century Gothic"/>
              </a:rPr>
              <a:t> «Строевая подготовка»</a:t>
            </a:r>
            <a:endParaRPr b="0" lang="en-US" sz="2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1403280" y="1628640"/>
            <a:ext cx="7740720" cy="23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ff0000"/>
              </a:buClr>
              <a:buSzPct val="120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Century Gothic"/>
              </a:rPr>
              <a:t> </a:t>
            </a:r>
            <a:r>
              <a:rPr b="1" lang="ru-RU" sz="20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Колонна</a:t>
            </a:r>
            <a:r>
              <a:rPr b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- строй, в котором военнослужащие расположены в затылок друг другу, а подразделения (машины) — одно за другим на дистанциях, установленных Уставом или командиром. 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ff0000"/>
              </a:buClr>
              <a:buSzPct val="120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Колонны могут быть по одному, по два, по три, по четыре и более. 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ff0000"/>
              </a:buClr>
              <a:buSzPct val="120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Колонны применяются для построения подразделений и частей в развернутый или походный строй.</a:t>
            </a: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197" name="Picture 4" descr="gerb"/>
          <p:cNvPicPr/>
          <p:nvPr/>
        </p:nvPicPr>
        <p:blipFill>
          <a:blip r:embed="rId1"/>
          <a:stretch/>
        </p:blipFill>
        <p:spPr>
          <a:xfrm>
            <a:off x="0" y="0"/>
            <a:ext cx="1047600" cy="1133640"/>
          </a:xfrm>
          <a:prstGeom prst="rect">
            <a:avLst/>
          </a:prstGeom>
          <a:ln w="0">
            <a:noFill/>
          </a:ln>
        </p:spPr>
      </p:pic>
      <p:sp>
        <p:nvSpPr>
          <p:cNvPr id="1198" name=""/>
          <p:cNvSpPr txBox="1"/>
          <p:nvPr/>
        </p:nvSpPr>
        <p:spPr>
          <a:xfrm>
            <a:off x="5105160" y="1790640"/>
            <a:ext cx="3809880" cy="415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1352160" y="188640"/>
            <a:ext cx="7791480" cy="110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262626"/>
                </a:solidFill>
                <a:latin typeface="Century Gothic"/>
              </a:rPr>
              <a:t>ОБЩИЕ ПОЛОЖЕНИЯ</a:t>
            </a:r>
            <a:br>
              <a:rPr sz="2800"/>
            </a:br>
            <a:r>
              <a:rPr b="1" lang="ru-RU" sz="2800" spc="-1" strike="noStrike">
                <a:solidFill>
                  <a:srgbClr val="262626"/>
                </a:solidFill>
                <a:latin typeface="Century Gothic"/>
              </a:rPr>
              <a:t> «Строевая подготовка»</a:t>
            </a:r>
            <a:endParaRPr b="0" lang="en-US" sz="2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00" name="PlaceHolder 2"/>
          <p:cNvSpPr>
            <a:spLocks noGrp="1"/>
          </p:cNvSpPr>
          <p:nvPr>
            <p:ph/>
          </p:nvPr>
        </p:nvSpPr>
        <p:spPr>
          <a:xfrm>
            <a:off x="1403280" y="1628640"/>
            <a:ext cx="7740720" cy="23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1001"/>
              </a:spcBef>
              <a:buClr>
                <a:srgbClr val="ff0000"/>
              </a:buClr>
              <a:buSzPct val="150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 u="sng">
                <a:solidFill>
                  <a:srgbClr val="404040"/>
                </a:solidFill>
                <a:uFillTx/>
                <a:latin typeface="Century Gothic"/>
              </a:rPr>
              <a:t> </a:t>
            </a:r>
            <a:r>
              <a:rPr b="1" lang="ru-RU" sz="20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Походный строй</a:t>
            </a:r>
            <a:r>
              <a:rPr b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- строй, в котором подразделение построено в колонну или подразделения в колоннах построены одно за другим на дистанциях, установленных Уставом или командиром. 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buClr>
                <a:srgbClr val="ff0000"/>
              </a:buClr>
              <a:buSzPct val="150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Походный строй</a:t>
            </a:r>
            <a:r>
              <a:rPr b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применяется для передвижения подразделений при совершении марша, прохождения торжественным маршем, с песней, а также в других необходимых случаях.</a:t>
            </a: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201" name="Picture 4" descr="gerb"/>
          <p:cNvPicPr/>
          <p:nvPr/>
        </p:nvPicPr>
        <p:blipFill>
          <a:blip r:embed="rId1"/>
          <a:stretch/>
        </p:blipFill>
        <p:spPr>
          <a:xfrm>
            <a:off x="0" y="0"/>
            <a:ext cx="1047600" cy="1133640"/>
          </a:xfrm>
          <a:prstGeom prst="rect">
            <a:avLst/>
          </a:prstGeom>
          <a:ln w="0">
            <a:noFill/>
          </a:ln>
        </p:spPr>
      </p:pic>
      <p:sp>
        <p:nvSpPr>
          <p:cNvPr id="1202" name=""/>
          <p:cNvSpPr txBox="1"/>
          <p:nvPr/>
        </p:nvSpPr>
        <p:spPr>
          <a:xfrm>
            <a:off x="5105160" y="1790640"/>
            <a:ext cx="3809880" cy="415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1352160" y="188640"/>
            <a:ext cx="7791480" cy="110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262626"/>
                </a:solidFill>
                <a:latin typeface="Century Gothic"/>
              </a:rPr>
              <a:t>ОБЩИЕ ПОЛОЖЕНИЯ</a:t>
            </a:r>
            <a:br>
              <a:rPr sz="2800"/>
            </a:br>
            <a:r>
              <a:rPr b="1" lang="ru-RU" sz="2800" spc="-1" strike="noStrike">
                <a:solidFill>
                  <a:srgbClr val="262626"/>
                </a:solidFill>
                <a:latin typeface="Century Gothic"/>
              </a:rPr>
              <a:t> «Строевая подготовка»</a:t>
            </a:r>
            <a:endParaRPr b="0" lang="en-US" sz="2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1403280" y="1628640"/>
            <a:ext cx="7740720" cy="23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SzPct val="160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Направляющий</a:t>
            </a:r>
            <a:r>
              <a:rPr b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- военнослужащий (подразделение, машина), движущийся головным в указанном направлении. По направляющему сообразуют свое движение остальные военнослужащие (подразделения, машины).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205" name="Picture 4" descr="gerb"/>
          <p:cNvPicPr/>
          <p:nvPr/>
        </p:nvPicPr>
        <p:blipFill>
          <a:blip r:embed="rId1"/>
          <a:stretch/>
        </p:blipFill>
        <p:spPr>
          <a:xfrm>
            <a:off x="0" y="0"/>
            <a:ext cx="1047600" cy="1133640"/>
          </a:xfrm>
          <a:prstGeom prst="rect">
            <a:avLst/>
          </a:prstGeom>
          <a:ln w="0">
            <a:noFill/>
          </a:ln>
        </p:spPr>
      </p:pic>
      <p:sp>
        <p:nvSpPr>
          <p:cNvPr id="1206" name=""/>
          <p:cNvSpPr txBox="1"/>
          <p:nvPr/>
        </p:nvSpPr>
        <p:spPr>
          <a:xfrm>
            <a:off x="5105160" y="1790640"/>
            <a:ext cx="3809880" cy="415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1352160" y="188640"/>
            <a:ext cx="7791480" cy="110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262626"/>
                </a:solidFill>
                <a:latin typeface="Century Gothic"/>
              </a:rPr>
              <a:t>ОБЩИЕ ПОЛОЖЕНИЯ</a:t>
            </a:r>
            <a:br>
              <a:rPr sz="2800"/>
            </a:br>
            <a:r>
              <a:rPr b="1" lang="ru-RU" sz="2800" spc="-1" strike="noStrike">
                <a:solidFill>
                  <a:srgbClr val="262626"/>
                </a:solidFill>
                <a:latin typeface="Century Gothic"/>
              </a:rPr>
              <a:t> «Строевая подготовка»</a:t>
            </a:r>
            <a:endParaRPr b="0" lang="en-US" sz="2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1403280" y="1628280"/>
            <a:ext cx="7740720" cy="39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ff0000"/>
              </a:buClr>
              <a:buSzPct val="140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Управление строем осуществляется командами и приказаниями, которые </a:t>
            </a:r>
            <a:r>
              <a:rPr b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одаются командиром голосом, сигналами и личным примером, а также передаются с помощью технических и подвижных средств. 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ff0000"/>
              </a:buClr>
              <a:buSzPct val="150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Команды и приказания могут передаваться по колонне командиров подразделений (старших машин) и назначенных наблюдателей. 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ff0000"/>
              </a:buClr>
              <a:buSzPct val="150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 строю старший командир находится там, откуда ему удобнее командовать. 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ff0000"/>
              </a:buClr>
              <a:buSzPct val="150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стальные командиры подают команды, оставаясь на местах, установленных Уставом или старшим командиром. 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ff0000"/>
              </a:buClr>
              <a:buSzPct val="150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Командирам подразделений от роты и выше в походном строю батальона и полка разрешается выходить из строя только для подачи команд и проверки их исполнения.</a:t>
            </a:r>
            <a:r>
              <a:rPr b="1" lang="ru-RU" sz="18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209" name="Picture 4" descr="gerb"/>
          <p:cNvPicPr/>
          <p:nvPr/>
        </p:nvPicPr>
        <p:blipFill>
          <a:blip r:embed="rId1"/>
          <a:stretch/>
        </p:blipFill>
        <p:spPr>
          <a:xfrm>
            <a:off x="0" y="0"/>
            <a:ext cx="1047600" cy="1133640"/>
          </a:xfrm>
          <a:prstGeom prst="rect">
            <a:avLst/>
          </a:prstGeom>
          <a:ln w="0">
            <a:noFill/>
          </a:ln>
        </p:spPr>
      </p:pic>
      <p:sp>
        <p:nvSpPr>
          <p:cNvPr id="1210" name=""/>
          <p:cNvSpPr txBox="1"/>
          <p:nvPr/>
        </p:nvSpPr>
        <p:spPr>
          <a:xfrm>
            <a:off x="5105160" y="1790640"/>
            <a:ext cx="3809880" cy="415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1352160" y="188640"/>
            <a:ext cx="7791480" cy="110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262626"/>
                </a:solidFill>
                <a:latin typeface="Century Gothic"/>
              </a:rPr>
              <a:t>ОБЩИЕ ПОЛОЖЕНИЯ</a:t>
            </a:r>
            <a:br>
              <a:rPr sz="2800"/>
            </a:br>
            <a:r>
              <a:rPr b="1" lang="ru-RU" sz="2800" spc="-1" strike="noStrike">
                <a:solidFill>
                  <a:srgbClr val="262626"/>
                </a:solidFill>
                <a:latin typeface="Century Gothic"/>
              </a:rPr>
              <a:t> «Строевая подготовка»</a:t>
            </a:r>
            <a:endParaRPr b="0" lang="en-US" sz="2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1403280" y="1557360"/>
            <a:ext cx="7740720" cy="554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200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  </a:t>
            </a:r>
            <a:r>
              <a:rPr b="1" lang="ru-RU" sz="20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Командир обязан: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указать место, время, порядок построения, форму одежды и снаряжение, а также   какое иметь вооружение и военную технику; при необходимости назначить  наблюдателя; 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</a:t>
            </a:r>
            <a:r>
              <a:rPr b="1" lang="ru-RU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роверить и знать наличие в строю подчиненных своего подразделения (части), а   также вооружения, военной техники, боеприпасов, средств индивидуальной защиты   и шанцевого инструмента; 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</a:t>
            </a:r>
            <a:r>
              <a:rPr b="1" lang="ru-RU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роверить внешний вид подчиненных, а также наличие снаряжения правильность  его подгонки; 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</a:t>
            </a:r>
            <a:r>
              <a:rPr b="1" lang="ru-RU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оддерживать дисциплину строя и требовать точного выполнения подразделениями  команд и сигналов, а военнослужащими своих обязанностей в строю; 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</a:t>
            </a:r>
            <a:r>
              <a:rPr b="1" lang="ru-RU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ри подаче команд в пешем строю на месте принимать строевую стойку; 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</a:t>
            </a:r>
            <a:r>
              <a:rPr b="1" lang="ru-RU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ри построении подразделений с вооружением и военной техникой произвести   внешний осмотр их, а также проверить наличие и исправность оборудования для  перевозки личного состава, правиль-ность крепления перевозимой (буксируемой) материальной части и укладки имущества; напомнить личному составу требования безопасности; в движении соблюдать установленные дистанции, скорость и правила движения. 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213" name="Picture 4" descr="gerb"/>
          <p:cNvPicPr/>
          <p:nvPr/>
        </p:nvPicPr>
        <p:blipFill>
          <a:blip r:embed="rId1"/>
          <a:stretch/>
        </p:blipFill>
        <p:spPr>
          <a:xfrm>
            <a:off x="0" y="0"/>
            <a:ext cx="1047600" cy="11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3T18:05:36Z</dcterms:created>
  <dc:creator>PASARELLA</dc:creator>
  <dc:description/>
  <dc:language>en-US</dc:language>
  <cp:lastModifiedBy>Повелитель)</cp:lastModifiedBy>
  <dcterms:modified xsi:type="dcterms:W3CDTF">2019-12-04T20:39:57Z</dcterms:modified>
  <cp:revision>90</cp:revision>
  <dc:subject/>
  <dc:title>Слайд 1</dc:title>
</cp:coreProperties>
</file>