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9.png" ContentType="image/png"/>
  <Override PartName="/ppt/media/image34.jpeg" ContentType="image/jpeg"/>
  <Override PartName="/ppt/media/image7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02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1"/>
          </p:nvPr>
        </p:nvSpPr>
        <p:spPr>
          <a:xfrm>
            <a:off x="4280040" y="0"/>
            <a:ext cx="32702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7F076-DFE1-4D6F-AE0E-EDCD66C8D7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28" name="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30" name="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46" name="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77040"/>
            <a:ext cx="822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6760" y="160488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5960" y="160488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7704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6760" y="367704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5960" y="367704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02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134880" y="915120"/>
            <a:ext cx="2863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02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9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822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77040"/>
            <a:ext cx="822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9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6760" y="160488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5960" y="160488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7704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6760" y="367704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5960" y="3677040"/>
            <a:ext cx="26467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34880" y="915120"/>
            <a:ext cx="2863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367704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822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256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0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2560" cy="6853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34880" y="-895680"/>
            <a:ext cx="286380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storiz.ru/zubnaya-pasta-istoriya-izobreteniya.html" TargetMode="External"/><Relationship Id="rId2" Type="http://schemas.openxmlformats.org/officeDocument/2006/relationships/hyperlink" Target="http://zubychist.ru/hygiene/polza-i-vred-ftora-v-zubnoj-paste/" TargetMode="External"/><Relationship Id="rId3" Type="http://schemas.openxmlformats.org/officeDocument/2006/relationships/hyperlink" Target="http://dentazone.ru/preparaty-oborudovanie/zubnye-pasty/poloski-na-tyubikax.html" TargetMode="External"/><Relationship Id="rId4" Type="http://schemas.openxmlformats.org/officeDocument/2006/relationships/hyperlink" Target="https://school-science.ru/2017/13/26176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2880"/>
            <a:ext cx="79534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7760" y="1916280"/>
            <a:ext cx="815976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Мое первое открыт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«Как влияет  зубная паста на прочность зубов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3933720"/>
            <a:ext cx="795672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Автор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Михайловская Вероника 3 «А»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Мичкова Александра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Учитель начальных классов ВК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503280"/>
            <a:ext cx="665964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зержинского района города Новосибир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111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30015 г.Новосибирск –15, ул.Промышленная 1/1 тел./факс 279-05-64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-mail: sch_111_nsk@.ru            ИНН 5401141858 КПП 540101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76560" y="6072120"/>
            <a:ext cx="2664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ибирск, 201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79640" y="936720"/>
            <a:ext cx="73436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12745"/>
                </a:solidFill>
                <a:latin typeface="Trebuchet MS"/>
              </a:rPr>
              <a:t>Звучит ужасно, но в средние века европейцы не занимались чисткой зубов в течение нескольких сотен лет, исключая, правда, высшее сословие: для них готовились абразивные порошки и специальные полоскания с анисом. Лечением зубов занимались брадобреи-хирурги. Для удаления зубного камня они применяли растворы на основе азотной кислоты, заодно с камнем растворяющие и зу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12745"/>
                </a:solidFill>
                <a:latin typeface="Trebuchet MS"/>
              </a:rPr>
              <a:t>В 1674 г голландский изобретатель Антоний ван Левенгук совершил одновременно два выдающихся открытия: мир микробов и способ уничтожения этого самого мира в собственных ртах при помощи с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12745"/>
                </a:solidFill>
                <a:latin typeface="Trebuchet MS"/>
              </a:rPr>
              <a:t>Пьер Фошар – парижский стоматолог – основоположник гигиены полости рта в 1723 году написал труд по стоматологии, в котором целую главу посвятил профилактике полости 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12745"/>
                </a:solidFill>
                <a:latin typeface="Trebuchet MS"/>
              </a:rPr>
              <a:t>А в 1873 году американская компания Colgate-Palmolive представила первую в мире зубную пасту</a:t>
            </a:r>
            <a:r>
              <a:rPr b="1" i="1" lang="ru-RU" sz="2600" spc="-1" strike="noStrike">
                <a:solidFill>
                  <a:srgbClr val="212745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43000"/>
            <a:ext cx="8638920" cy="17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Важные откры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0000" y="4103640"/>
            <a:ext cx="3887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л мир микро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0720" y="720720"/>
            <a:ext cx="2952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2760" indent="-208080">
              <a:lnSpc>
                <a:spcPct val="100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ьер Форш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760" indent="-208080">
              <a:lnSpc>
                <a:spcPct val="100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й стоматолог французского короля Людовика x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63640" y="2590920"/>
            <a:ext cx="2749680" cy="331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580000" y="404640"/>
            <a:ext cx="282420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79640" y="1800360"/>
            <a:ext cx="78102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Arial"/>
              <a:buChar char="•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Растёртая яичная скор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Arial"/>
              <a:buChar char="•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Пем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Arial"/>
              <a:buChar char="•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Размельчённые раковины ул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Arial"/>
              <a:buChar char="•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Тр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Arial"/>
              <a:buChar char="•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Мё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Arial"/>
              <a:buChar char="•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Минер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Arial"/>
              <a:buChar char="•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Ароматические ма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9520" indent="-208080">
              <a:lnSpc>
                <a:spcPct val="100000"/>
              </a:lnSpc>
              <a:tabLst>
                <a:tab algn="l" pos="0"/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Arial"/>
              <a:buChar char="•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Кирпичная пы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Arial"/>
              <a:buChar char="•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М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Arial"/>
              <a:buChar char="•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М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Arial"/>
              <a:buChar char="•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См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Arial"/>
              <a:buChar char="•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Arial"/>
              <a:buChar char="•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Оружейный пор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800" y="297000"/>
            <a:ext cx="825660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Компоненты зубных порошков в древ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6000" y="2449440"/>
            <a:ext cx="181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86360" y="3502080"/>
            <a:ext cx="2933640" cy="218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92000" y="1079640"/>
            <a:ext cx="790740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08080" indent="-208080">
              <a:lnSpc>
                <a:spcPct val="100000"/>
              </a:lnSpc>
              <a:buClr>
                <a:srgbClr val="212745"/>
              </a:buClr>
              <a:buSzPct val="130000"/>
              <a:buFont typeface="Wingdings" charset="2"/>
              <a:buChar char="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Чтобы удалить бактериальный налё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SzPct val="130000"/>
              <a:buFont typeface="Wingdings" charset="2"/>
              <a:buChar char="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Чтобы укрепить зубную эмал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SzPct val="130000"/>
              <a:buFont typeface="Wingdings" charset="2"/>
              <a:buChar char="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Чтобы освежить дых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     </a:t>
            </a: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Если за зубами неправильно ухаживать, то появляется кариес. Больные зубы вредят другим органам – сердцу, почк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     </a:t>
            </a: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Чистить зубы нужно 2 раза в день: после завтрака и перед с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                         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ВАЖНО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SzPct val="130000"/>
              <a:buFont typeface="Wingdings" charset="2"/>
              <a:buChar char="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Менять зубную щётку каждые 3 месяц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SzPct val="130000"/>
              <a:buFont typeface="Wingdings" charset="2"/>
              <a:buChar char="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Дважды в год посещать стоматоло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97000"/>
            <a:ext cx="8159760" cy="17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Зачем люди чистят зуб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36720" y="2016000"/>
            <a:ext cx="795312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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212745"/>
                </a:solidFill>
                <a:latin typeface="Trebuchet MS"/>
              </a:rPr>
              <a:t>абразивные материа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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212745"/>
                </a:solidFill>
                <a:latin typeface="Trebuchet MS"/>
              </a:rPr>
              <a:t>биологически активные вещ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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212745"/>
                </a:solidFill>
                <a:latin typeface="Trebuchet MS"/>
              </a:rPr>
              <a:t>антисепт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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212745"/>
                </a:solidFill>
                <a:latin typeface="Trebuchet MS"/>
              </a:rPr>
              <a:t>консерван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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212745"/>
                </a:solidFill>
                <a:latin typeface="Trebuchet MS"/>
              </a:rPr>
              <a:t>вкусовые добав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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212745"/>
                </a:solidFill>
                <a:latin typeface="Trebuchet MS"/>
              </a:rPr>
              <a:t>ароматизато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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212745"/>
                </a:solidFill>
                <a:latin typeface="Trebuchet MS"/>
              </a:rPr>
              <a:t>фтор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89000"/>
            <a:ext cx="81374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Состав современных зубных пас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92360" y="6280200"/>
            <a:ext cx="546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0720" y="431640"/>
            <a:ext cx="7632720" cy="31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убная пас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средство для поддержания гигиены полости  рта в здоровом состоянии, которое также может оказывать лечебное и профилактическое действие. Современные пасты приятны на вкус, освежают дыхание и редко вызывают аллергические реак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63640" y="2471760"/>
            <a:ext cx="734364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132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зубных паст принято разделять на категор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чебны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гиеническ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чебно-профилактическ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04080" y="5327640"/>
            <a:ext cx="2347920" cy="1109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770200" y="3348000"/>
            <a:ext cx="2111400" cy="111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472000" y="3311640"/>
            <a:ext cx="2108160" cy="115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384720" y="4535640"/>
            <a:ext cx="2232000" cy="122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2735280"/>
            <a:ext cx="81597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08080" indent="-208080">
              <a:lnSpc>
                <a:spcPct val="100000"/>
              </a:lnSpc>
              <a:buClr>
                <a:srgbClr val="212745"/>
              </a:buClr>
              <a:buSzPct val="130000"/>
              <a:buFont typeface="Wingdings" charset="2"/>
              <a:buChar char="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i="1" lang="ru-RU" sz="4000" spc="-1" strike="noStrike">
                <a:solidFill>
                  <a:srgbClr val="212745"/>
                </a:solidFill>
                <a:latin typeface="Trebuchet MS"/>
              </a:rPr>
              <a:t>от 0 до 3 лет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0960" indent="-207720">
              <a:lnSpc>
                <a:spcPct val="100000"/>
              </a:lnSpc>
              <a:tabLst>
                <a:tab algn="l" pos="0"/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SzPct val="130000"/>
              <a:buFont typeface="Wingdings" charset="2"/>
              <a:buChar char="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i="1" lang="ru-RU" sz="4000" spc="-1" strike="noStrike">
                <a:solidFill>
                  <a:srgbClr val="212745"/>
                </a:solidFill>
                <a:latin typeface="Trebuchet MS"/>
              </a:rPr>
              <a:t>от 4 до 7 лет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0960" indent="-207720">
              <a:lnSpc>
                <a:spcPct val="100000"/>
              </a:lnSpc>
              <a:tabLst>
                <a:tab algn="l" pos="0"/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SzPct val="130000"/>
              <a:buFont typeface="Wingdings" charset="2"/>
              <a:buChar char="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i="1" lang="ru-RU" sz="4000" spc="-1" strike="noStrike">
                <a:solidFill>
                  <a:srgbClr val="212745"/>
                </a:solidFill>
                <a:latin typeface="Trebuchet MS"/>
              </a:rPr>
              <a:t>от 8 до 12 л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800" y="297000"/>
            <a:ext cx="8352000" cy="17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Детские зубные пас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91280" y="1409760"/>
            <a:ext cx="2124000" cy="1469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264360" y="3168720"/>
            <a:ext cx="2087640" cy="1368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264360" y="4995720"/>
            <a:ext cx="2232000" cy="1268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664000" y="1079640"/>
            <a:ext cx="208728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11280" y="1008000"/>
            <a:ext cx="7186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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2800" spc="-1" strike="noStrike">
                <a:solidFill>
                  <a:srgbClr val="212745"/>
                </a:solidFill>
                <a:latin typeface="Trebuchet MS"/>
              </a:rPr>
              <a:t>профилактическ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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2800" spc="-1" strike="noStrike">
                <a:solidFill>
                  <a:srgbClr val="212745"/>
                </a:solidFill>
                <a:latin typeface="Trebuchet MS"/>
              </a:rPr>
              <a:t>лечебно-профилактическ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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2800" spc="-1" strike="noStrike">
                <a:solidFill>
                  <a:srgbClr val="212745"/>
                </a:solidFill>
                <a:latin typeface="Trebuchet MS"/>
              </a:rPr>
              <a:t>отбеливающ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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2800" spc="-1" strike="noStrike">
                <a:solidFill>
                  <a:srgbClr val="212745"/>
                </a:solidFill>
                <a:latin typeface="Trebuchet MS"/>
              </a:rPr>
              <a:t>снижающие чувствительность зуб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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2800" spc="-1" strike="noStrike">
                <a:solidFill>
                  <a:srgbClr val="212745"/>
                </a:solidFill>
                <a:latin typeface="Trebuchet MS"/>
              </a:rPr>
              <a:t>противокариес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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2800" spc="-1" strike="noStrike">
                <a:solidFill>
                  <a:srgbClr val="212745"/>
                </a:solidFill>
                <a:latin typeface="Trebuchet MS"/>
              </a:rPr>
              <a:t>противовоспали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520" indent="-208080">
              <a:lnSpc>
                <a:spcPct val="100000"/>
              </a:lnSpc>
              <a:tabLst>
                <a:tab algn="l" pos="0"/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7760" y="243000"/>
            <a:ext cx="844704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Взрослые зубные пас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384720" y="4510080"/>
            <a:ext cx="2734920" cy="1754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419640" y="4508640"/>
            <a:ext cx="2734920" cy="1753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8000" y="1714320"/>
            <a:ext cx="719928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фы и разоблаче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уществует несколько теорий о значении цвета полоски на тюбике зубной пасты, большинство из которых «придумали» сами потребител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химический состав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рок использова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личие красителе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держание нефтепродуктов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ачество по стоимости и т.д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ные полоск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одержат никаких тайных посл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ветные прямоугольники на тюбиках – это всего лишь «разметка» или «светометка», которая нужна конвейеру, чтобы правильно отрезать заготовку для тюбика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03280"/>
            <a:ext cx="7704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Интересно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67280" y="549360"/>
            <a:ext cx="191448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0720" y="-343080"/>
            <a:ext cx="784872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нные опроса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ьшее число опрошенных пользуются зубными пастами марок: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Blend-a-med (21%)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Colgate (69%)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Лесной бальзам (5%)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Жемчуг (5%)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67280" y="1413000"/>
            <a:ext cx="2087280" cy="107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435640" y="2708280"/>
            <a:ext cx="2160720" cy="1220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924360" y="4005360"/>
            <a:ext cx="2087640" cy="1065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580000" y="5157720"/>
            <a:ext cx="2063880" cy="1319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4067280" y="1413000"/>
            <a:ext cx="2087280" cy="107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3280" y="792000"/>
            <a:ext cx="57592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212745"/>
                </a:solidFill>
                <a:latin typeface="Trebuchet MS"/>
              </a:rPr>
              <a:t>Актуальность темы заключается в том, что здоровье зубов – важнейший фактор здорового и полноценного образа жизни. При подготовке к работе над проектом мы выяснили, что очень много взрослых людей не уделяют должного внимания правильной гигиене полости рта и, соответственно, не учат этому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212745"/>
                </a:solidFill>
                <a:latin typeface="Trebuchet MS"/>
              </a:rPr>
              <a:t>В школе на уроках окружающего мира, на занятиях внеурочной деятельности, классных часах у нас всегда проходят мероприятия, посвященные здоровому образу жизни. Недавно к нам приходили представители компании «Colgate» и провели турнир Супергероев — Зубных Защитников среди учащихся 1-4 классов. Я по итогам турнира получила Диплом. И считаю его своим важным достижением! А еще нам подарили зубную пасту, щетку и календари для отчета Зубным Защитникам. С этого и началось мое увлечение данной темой. Конечно, большую помощь мне оказывала моя мама, одноклассники и уч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7760" y="351000"/>
            <a:ext cx="8447040" cy="17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Важность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2708280"/>
            <a:ext cx="1871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212745"/>
                </a:solidFill>
                <a:latin typeface="Trebuchet MS"/>
              </a:rPr>
              <a:t>ФОТО ДИПЛО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2308320" cy="2138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47640" y="1079640"/>
            <a:ext cx="814716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В рекламе по телевизору всегда говорят о сходстве состава яичной скорлупы и зубной эмали. Чтобы изучить влияние кислот на зубную эмаль, я провела эксперимент. Как известно, эмаль как и яичная скорлупа, состоит из кальц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Я приготовила 9 % растворы уксусной и лимонной кислот. В каждый раствор погрузила куриное яйцо и стала наблюд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1880" y="243000"/>
            <a:ext cx="7173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Экспери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4103640"/>
            <a:ext cx="3024000" cy="2327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886120" cy="2373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258920" y="4076640"/>
            <a:ext cx="3024000" cy="232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20720" y="1646280"/>
            <a:ext cx="788508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212745"/>
                </a:solidFill>
                <a:latin typeface="Trebuchet MS"/>
              </a:rPr>
              <a:t>Начало эксперимента в 14 часов 08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212745"/>
                </a:solidFill>
                <a:latin typeface="Trebuchet MS"/>
              </a:rPr>
              <a:t>Контрольное время проверки каждые 2 часа, окончание эксперимента в 20 часов 08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212745"/>
                </a:solidFill>
                <a:latin typeface="Trebuchet MS"/>
              </a:rPr>
              <a:t>В 20 часов 05 минут (через 6 часов) яйцо, погружённое в раствор лимонной кислоты стало мяг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212745"/>
                </a:solidFill>
                <a:latin typeface="Trebuchet MS"/>
              </a:rPr>
              <a:t>В 7часов 10 минут (через 17 часов) скорлупа в нём полностью раствор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212745"/>
                </a:solidFill>
                <a:latin typeface="Trebuchet MS"/>
              </a:rPr>
              <a:t>Реакция в растворе уксусной кислоты шла медленнее, но с тем же результ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43000"/>
            <a:ext cx="863892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Кислота растворя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яичную скорлуп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11280" y="1008000"/>
            <a:ext cx="6375600" cy="4417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004840" y="5808600"/>
            <a:ext cx="4654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раствор лимонной 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352600" y="6012000"/>
            <a:ext cx="452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раствор уксусной 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40000" y="1301760"/>
            <a:ext cx="6191280" cy="4386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20720" y="1079640"/>
            <a:ext cx="807408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Может ли зубная паста укрепить яичную скорлуп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Я взяла яйцо, нанесла зубную пасту «Blend-a-med» на одну половину скорлупы, опустила в раствор лимонной кислоты и начала наблюд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243000"/>
            <a:ext cx="7173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Наблюд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3600720" cy="2673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896000" y="3747960"/>
            <a:ext cx="356076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92000" y="1214280"/>
            <a:ext cx="71280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Через 6 часов с одной стороны яйцо стало мягким,  а   другая сторона, на которую была нанесена зубная паста, стала тоньше, но осталась твёрдой на ощуп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7760" y="189000"/>
            <a:ext cx="8351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Через 6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08000" y="2852640"/>
            <a:ext cx="3178080" cy="2475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51280" y="2808360"/>
            <a:ext cx="3311640" cy="2519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979880" y="5400720"/>
            <a:ext cx="30117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 использованием зубной па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5504040"/>
            <a:ext cx="33400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без использования зубной па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042920" y="2852640"/>
            <a:ext cx="3178080" cy="247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76360" y="720720"/>
            <a:ext cx="812304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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2200" spc="-1" strike="noStrike">
                <a:solidFill>
                  <a:srgbClr val="212745"/>
                </a:solidFill>
                <a:latin typeface="Trebuchet MS"/>
              </a:rPr>
              <a:t>зубные пасты имеют многовековую истори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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2200" spc="-1" strike="noStrike">
                <a:solidFill>
                  <a:srgbClr val="212745"/>
                </a:solidFill>
                <a:latin typeface="Trebuchet MS"/>
              </a:rPr>
              <a:t>основная причина стоматологических заболеваний – бактериальный налё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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2200" spc="-1" strike="noStrike">
                <a:solidFill>
                  <a:srgbClr val="212745"/>
                </a:solidFill>
                <a:latin typeface="Trebuchet MS"/>
              </a:rPr>
              <a:t>пищевые кислоты ослабляют зубную эма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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2200" spc="-1" strike="noStrike">
                <a:solidFill>
                  <a:srgbClr val="212745"/>
                </a:solidFill>
                <a:latin typeface="Trebuchet MS"/>
              </a:rPr>
              <a:t>современные зубные пасты хорошо очищают зубы, укрепляют зубную эмал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Font typeface="Wingdings" charset="2"/>
              <a:buChar char="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2200" spc="-1" strike="noStrike">
                <a:solidFill>
                  <a:srgbClr val="212745"/>
                </a:solidFill>
                <a:latin typeface="Trebuchet MS"/>
              </a:rPr>
              <a:t>гипотеза подтвердилась, а поэтому ежедневная гигиена полости рта – профилактика стоматологических заболев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189000"/>
            <a:ext cx="84470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03640" y="4076640"/>
            <a:ext cx="2735280" cy="224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280" y="480960"/>
            <a:ext cx="72723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истить зубы два раза в день, фторсодержащей зубной пастой одобренной СтАР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Время чистки зубов должно составлять в среднем 2,5 — 3,5 ми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Менять свою зубную щетку раз в три-четыре месяца, можно раньше, по мере износа щетино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Очищать между зубами ежедневно межзубными средствами. Зубные бактерии гниения задерживаются между зубов, в таких местах щетинки щетки не могут дост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Чистка зубов помогает избавиться от липкой пленки на зубах и частиц пищ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Придерживайтесь сбалансированной диеты и ограничивайте себя в перекус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Регулярно посещайте стоматолога для чистки и осмотра полости рта.</a:t>
            </a:r>
            <a:br>
              <a:rPr sz="20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дальнейшем я хочу еще больше узнать о гигиене полости рта. Следующий этап-исследование зубных щето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164360" y="2349360"/>
            <a:ext cx="1295280" cy="115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76360" y="936720"/>
            <a:ext cx="813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1.Знакомьтесь, зубная паста. – М.: ЗАО «Натусана»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2.Энциклопедия. Я познаю мир. Химия. – М.: АСТ«АПРЕЛЬ»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3.Стоматологическое обозрение №2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4.Всемирная сеть 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5.https://expertdent.net/gigiena/zubnyie-       pastyi/klassifikatsiya-zubnyih-pas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6.http://www.istorya.ru/articles/zuby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7.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rebuchet MS"/>
                <a:hlinkClick r:id="rId1"/>
              </a:rPr>
              <a:t>http://istoriz.ru/zubnaya-pasta-istoriya-izobreteniy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8.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zubychist.ru/hygiene/polza-i-vred-ftora-v-zubnoj-past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9.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dentazone.ru/preparaty-oborudovanie/zubnye-pasty/poloski-na-tyubika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10.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https://school-science.ru/2017/13/261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11.https://a-s-chernomorchenko.edumsko.ru/folders/post/pamyatka_kak_pravil_no_chistit__z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89000"/>
            <a:ext cx="86389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Источники информ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00680" y="6291360"/>
            <a:ext cx="1368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42800" y="1700280"/>
            <a:ext cx="82566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89000"/>
            <a:ext cx="86389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0680" y="6291360"/>
            <a:ext cx="1368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3598920" cy="4410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651200" y="4402080"/>
            <a:ext cx="352764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ник зубной щётке был установлен в 1983 году в немецком городке Крефельд . Автор - инженер Дженнингс. Размеры 6 x 2,8 x 0,2 метра. Материал - сталь и литое железо, окрашенные полиуретановой эмал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63640" y="1295280"/>
            <a:ext cx="70549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12745"/>
                </a:solidFill>
                <a:latin typeface="Trebuchet MS"/>
              </a:rPr>
              <a:t>Изучить влияние зубной пасты на прочность зуб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23760" y="566640"/>
            <a:ext cx="717408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95640" y="3267000"/>
            <a:ext cx="31719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36720" y="2087640"/>
            <a:ext cx="74880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08080" indent="-208080">
              <a:lnSpc>
                <a:spcPct val="100000"/>
              </a:lnSpc>
              <a:buClr>
                <a:srgbClr val="212745"/>
              </a:buClr>
              <a:buSzPct val="130000"/>
              <a:buFont typeface="Trebuchet MS"/>
              <a:buAutoNum type="arabicPeriod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12745"/>
                </a:solidFill>
                <a:latin typeface="Trebuchet MS"/>
              </a:rPr>
              <a:t>Изучить историю создания, состав и действие компонентов зубных п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SzPct val="130000"/>
              <a:buFont typeface="Trebuchet MS"/>
              <a:buAutoNum type="arabicPeriod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12745"/>
                </a:solidFill>
                <a:latin typeface="Trebuchet MS"/>
              </a:rPr>
              <a:t>Провести наблюдение и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SzPct val="130000"/>
              <a:buFont typeface="Trebuchet MS"/>
              <a:buAutoNum type="arabicPeriod"/>
              <a:tabLst>
                <a:tab algn="l" pos="208080"/>
                <a:tab algn="l" pos="655560"/>
                <a:tab algn="l" pos="1104840"/>
                <a:tab algn="l" pos="1554120"/>
                <a:tab algn="l" pos="2003400"/>
                <a:tab algn="l" pos="2452680"/>
                <a:tab algn="l" pos="2901960"/>
                <a:tab algn="l" pos="3351240"/>
                <a:tab algn="l" pos="3800520"/>
                <a:tab algn="l" pos="4249800"/>
                <a:tab algn="l" pos="4699080"/>
                <a:tab algn="l" pos="5148360"/>
                <a:tab algn="l" pos="5597640"/>
                <a:tab algn="l" pos="6046920"/>
                <a:tab algn="l" pos="6496200"/>
                <a:tab algn="l" pos="6945480"/>
                <a:tab algn="l" pos="7394400"/>
                <a:tab algn="l" pos="7843680"/>
                <a:tab algn="l" pos="8292960"/>
                <a:tab algn="l" pos="8742240"/>
                <a:tab algn="l" pos="9191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12745"/>
                </a:solidFill>
                <a:latin typeface="Trebuchet MS"/>
              </a:rPr>
              <a:t>Сделать выводы</a:t>
            </a:r>
            <a:r>
              <a:rPr b="1" lang="ru-RU" sz="3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512640"/>
            <a:ext cx="717408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8240" y="1530360"/>
            <a:ext cx="729612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12745"/>
                </a:solidFill>
                <a:latin typeface="Trebuchet MS"/>
              </a:rPr>
              <a:t>Предположим, что зубная паста   оказывает влияние на прочность зуб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800" y="620640"/>
            <a:ext cx="82566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Гипоте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75120" y="3724200"/>
            <a:ext cx="2793960" cy="210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92000" y="1700280"/>
            <a:ext cx="77407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нно на территории Егип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явились первые «цивилизованные» зубные щетки. Египетская прародительница зубных щеток представляла собой палочку с опахалом с одного конца и заостренным кончиком с другого. Острый конец использовали для удаления волокон пищи, другой разжёвывали зубами, при этом грубые древесные волокна удаляли с зубов налёт. Делали такие «щётки» из специальных пород дерева, содержащих эфирные масла и известных своими дезинфицирующими свой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068720" y="576360"/>
            <a:ext cx="1332000" cy="194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79640" y="1800360"/>
            <a:ext cx="712764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. Древним людям приходилось прибегать к различным подручным средствам для удаления из зубов остатков пищи. Чем только не чистили зубы до появления зубной пасты и щё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    </a:t>
            </a: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Для гигиены полости рта использовали золу, растёртые в порошок камни, толчёное стекло, шерсть, древесный уголь, корни растений, смолу, соль и многое друг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2</a:t>
            </a: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. Первые зубные пасты появились к 1500 гг до нашей э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3</a:t>
            </a: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. Именно на территории Древнего Египта появились первые зубные щётки и скребки для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4</a:t>
            </a:r>
            <a:r>
              <a:rPr b="0" i="1" lang="ru-RU" sz="1800" spc="-1" strike="noStrike">
                <a:solidFill>
                  <a:srgbClr val="212745"/>
                </a:solidFill>
                <a:latin typeface="Trebuchet MS"/>
              </a:rPr>
              <a:t>. А вот в Древней Индии чистку зубов относили к религиозным обрядам. Не признавали щетки из шерсти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760" y="189000"/>
            <a:ext cx="854388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Уход за зуб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в дре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2800" y="1808280"/>
            <a:ext cx="83520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Trebuchet MS"/>
              </a:rPr>
              <a:t>5</a:t>
            </a: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. В средние (тёмные) века вопросу гигиены рта не уделя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должного в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Trebuchet MS"/>
              </a:rPr>
              <a:t>6</a:t>
            </a: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. Европейцы не чистили зубы несколько сотен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Trebuchet MS"/>
              </a:rPr>
              <a:t>7</a:t>
            </a: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. Знаменитый врачеватель Гиппократ сделал первое описание зубных болезней и рекомендовал использовать зубную па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Trebuchet MS"/>
              </a:rPr>
              <a:t>8</a:t>
            </a:r>
            <a:r>
              <a:rPr b="0" i="1" lang="ru-RU" sz="2000" spc="-1" strike="noStrike">
                <a:solidFill>
                  <a:srgbClr val="212745"/>
                </a:solidFill>
                <a:latin typeface="Trebuchet MS"/>
              </a:rPr>
              <a:t>. Лишь в XVIII (18) веке возобновилось дело развития зубной па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43000"/>
            <a:ext cx="854388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Уход за зуб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в дре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59280" y="5084640"/>
            <a:ext cx="2772000" cy="114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76360" y="5013360"/>
            <a:ext cx="41036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Зубная щетка индусов была сдел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из веточек дере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конец котор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разделен на волок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7640" y="1808280"/>
            <a:ext cx="814716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0808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i="1" lang="ru-RU" sz="1800" spc="-1" strike="noStrike">
                <a:solidFill>
                  <a:srgbClr val="212745"/>
                </a:solidFill>
                <a:latin typeface="Trebuchet MS"/>
              </a:rPr>
              <a:t>На Руси издавна чистили зубы берёзовым углем, солью. После чистки зубов было принято освежать полость рта, разжевывая листок мяты (свежей — летом, сушеной — зимой), которая, кроме приятного аромата, обладает еще и антибактериальным действием. В северных районах мяту часто заменяли хвойными растениями: лиственницей, пихтой, кедром. И сегодня в Сибири применение домашних вытяжек из кедровых орехов в целях профилактики пародонтитов широко использу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SzPct val="130000"/>
              <a:buFont typeface="Wingdings" charset="2"/>
              <a:buChar char="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i="1" lang="ru-RU" sz="1800" spc="-1" strike="noStrike">
                <a:solidFill>
                  <a:srgbClr val="212745"/>
                </a:solidFill>
                <a:latin typeface="Trebuchet MS"/>
              </a:rPr>
              <a:t>По указу Петра I для этой цели начали применять м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SzPct val="130000"/>
              <a:buFont typeface="Wingdings" charset="2"/>
              <a:buChar char="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i="1" lang="ru-RU" sz="1800" spc="-1" strike="noStrike">
                <a:solidFill>
                  <a:srgbClr val="212745"/>
                </a:solidFill>
                <a:latin typeface="Trebuchet MS"/>
              </a:rPr>
              <a:t>Долгое время использовали зубной поро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212745"/>
              </a:buClr>
              <a:buSzPct val="130000"/>
              <a:buFont typeface="Wingdings" charset="2"/>
              <a:buChar char="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i="1" lang="ru-RU" sz="1800" spc="-1" strike="noStrike">
                <a:solidFill>
                  <a:srgbClr val="212745"/>
                </a:solidFill>
                <a:latin typeface="Trebuchet MS"/>
              </a:rPr>
              <a:t>Первая советская зубная паста в тюбике была выпущена в 1950-м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12745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9520" y="431640"/>
            <a:ext cx="815976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Уход за зуб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832360" y="360360"/>
            <a:ext cx="237492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9-12-04T14:20:51Z</dcterms:modified>
  <cp:revision>10</cp:revision>
  <dc:subject/>
  <dc:title>Слайд 1</dc:title>
</cp:coreProperties>
</file>