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19F-C601-43FD-8CE0-6169DF3C99F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7364-AFD5-4EE3-AB11-66291470CBA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148-3E8B-4D52-8490-1E467CF0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D9C-ECE1-4B97-95C4-F154E3E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9312-834F-45F5-8B2E-7E51B78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84E46-C3F3-432E-8CDE-C1CB612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FFC8F-A46A-4426-BF9B-251361C5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DBD05-0E37-41D2-9056-26489E5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E5D9B-79A6-4C37-9A0C-D345319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A130A-D17F-418F-A527-21B19CD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9FC3-EB1A-4FD1-83FC-2E8778FB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BE045-A11A-468B-8D34-E696C068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7F3A5-52B0-4C5D-8B90-9A682A94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57B-0BAC-4F6D-921A-F77A1584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1C9-4879-42A5-AAFF-F4CC7D98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BC00-4EAD-4F69-A9E4-71E14044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5E2B-543F-4A26-8913-CA6038AB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BF6C-4206-4F3E-8DCF-FFE38146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30FE-22E8-4FC9-B49C-4386A69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C02-EB92-40D4-9F34-2571322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349-4E7B-4521-8AB3-96FDCAE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6757-FD5F-4A58-AED2-AAC90F2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B21-37E8-42C9-B5B3-F7B5D15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5DC-86F9-40EA-8C60-605F677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0749-4BFB-44D1-BA96-B7628F4C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310-BEF5-4AAC-8774-3CEBDA5C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C084-77C8-4D6F-8DF3-59D085C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579-6F9D-45C0-91CB-F69B76FD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1967-F007-49C8-A220-1DA6F422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98CE-0147-4FBA-8269-101C56C6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0938-B456-43AB-BA13-188D3CC4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D9C8-F349-4128-9B18-5D30759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CDE3-F9A2-4100-B9FE-11B7DB78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958-B82C-4EF9-A56E-1B4A53E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D68B-521C-4942-9FF7-11680E6B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7E72-97C1-40AE-8F88-EC569F8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2356-22D6-4401-8329-905FAE7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C884-BA2A-4B73-BACF-899CDE5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816F-2E5C-4C7D-99E7-5F78D77B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7DE5-A1FA-45BE-A89E-796E8BDE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1704-E590-44B9-BF26-03361BED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DB6C-ABEF-4724-A097-C1DA099B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7291-95AC-4B19-8BF1-D6D404B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5D38-D09E-4ED6-BD39-953A4FD5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239-C8C7-4FBE-882C-644C20E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044C-F84F-4685-8691-38829BCC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E3DA-712E-488A-9CDF-482176D9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9ECB-6E6D-4EE8-8B93-ED3AF2E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823C-B2C3-4245-A62C-CB8890E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8CAA-D499-4469-8620-C7B50DF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567D-2F7B-4F4C-9B62-74BF6A3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3BB8-8C9E-4CF1-BB50-20A5CC89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7C29-5B41-452D-A578-7111EF3B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83D9-218C-48A5-B546-8EFBB158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1694-0C63-432D-9C65-08711417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0ED-70F3-4EA6-8FC6-3ED5F7C6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555A-48BC-4383-BFD8-DA5C1E0D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1E4B-9358-4D74-AF5A-18E18F74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B1C5-8EC1-4D70-BF09-AA93CE12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C723-B371-42C2-8CB8-2D7E4183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77D3-820B-4E46-A141-12E8B542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4DAE-40CB-4E6E-9FD2-A1DCBA2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4E4F-893F-4BCD-924A-AD98C4F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4953-5879-45AF-97F2-C35B7107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28C22-071B-4C1F-AD16-E65DE7B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9DB6-1849-4B83-82CF-1677FB46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AD0-8924-4B60-9CFC-3F618258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05B7-EF0D-48A2-8F69-D7F7B81D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6ED4-DD2F-4F54-968C-897649DE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936A-3701-4A11-AF45-6DA055C1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3CBC-A7DC-4DD7-B8CB-03F7DEBD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A3A0-E822-4CCA-8ECC-2600D06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296F-77E1-4CC4-B973-E7ACD04E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586A-DCE8-4198-BF85-97946BD7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068C-AB1E-4436-A47D-1C8D369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7369-CFAE-4023-AB07-2C8A006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7226-36E3-4AC0-A11D-510853F1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9E4-7D46-4898-B5D3-5F79FE76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53C0-DC26-44E1-90BB-A896D29C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A720-0B3C-4143-99F9-2231E34B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AA64-7061-4B99-97C2-D51CEC04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F5427-85E5-4D60-B939-0EC9AF82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8BA7-58A8-46F0-AA3A-5D50B4B7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F040-42AB-4D4B-B655-099C782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33D5E-4600-4037-B659-8EFA76CF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67D3-F433-429C-9B00-D9D23A37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6FF0-2C4F-4EC1-8EB4-0FE7351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FBEE-B107-4573-95C9-CC1AF0C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916-3357-433E-A86A-5F8B6FE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C30B-BB77-45E2-882A-7F7CD02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CA510-B791-40CA-B5F1-17C8DA4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13B94-CC30-4125-A636-19AC0975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4DF2-D79B-4D3A-ACB5-F201129E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C7BC-6944-4CB5-B040-37F9728B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C171-9716-4311-A5C5-B2301947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0C55-57A0-4508-A042-7199F1F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65E2-FBD8-4008-A136-F7FB296E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2B28A-8AD5-4DED-B40F-21179ED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829A8-7650-4D54-A81E-7F71146D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357-D7AB-4945-B139-501F07F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3755D-E525-432B-829F-D6ACFD8F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8AE42-4ACE-4E81-84E9-1C4C454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45D1-40A2-4065-9625-67FD330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40560-1D0E-4C1F-BC98-F06ACAC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9AA61-DEEF-4C19-930D-044FB759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C966-A591-4C09-9E74-7D22B823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D13E6-E3AE-402B-8F0A-FDD60721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99118-EE0C-4B9C-AF04-00789A96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6EFE4-6936-482E-A928-F8B3650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ADEF6-0856-4F15-9612-67226C68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3A7-0EDB-4929-8B99-51A960DA81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13BC-7845-4EE6-A2A5-93763C02A0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F107-F848-47A3-AEE1-8479B82861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75B-6F5F-467E-9EA0-62B0C8A0A9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9297-0611-494C-AE0C-A498C46447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EA95-5A49-47A9-A9DD-2F3E1554F4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DAF8-99CF-447A-A0BA-1485A3761C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C86-14AC-43B9-991C-3D766687EF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9ACB-ED09-488F-AC65-F3DC247DC6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80;%20&#1080;&#1079;&#1091;&#1095;&#1077;&#1085;&#1080;&#1080;%20&#1085;&#1086;&#1074;&#1086;&#1075;&#1086;.docx" TargetMode="External"/><Relationship Id="rId2" Type="http://schemas.openxmlformats.org/officeDocument/2006/relationships/hyperlink" Target="file:///&#1055;&#1088;&#1080;&#1084;&#1077;&#1088;&#1099;%20&#1088;&#1072;&#1079;&#1085;&#1086;&#1091;&#1088;&#1086;&#1074;&#1085;&#1077;&#1074;&#1099;&#1093;%20&#1079;&#1072;&#1076;&#1072;&#1085;&#1080;&#1081;.doc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&#1055;&#1088;&#1077;&#1086;&#1073;&#1088;&#1072;&#1079;&#1086;&#1074;&#1072;&#1085;&#1080;&#1077;%20&#1084;&#1072;&#1090;&#1077;&#1084;&#1072;&#1090;&#1080;&#1095;&#1077;&#1089;&#1082;&#1086;&#1075;&#1086;%20&#1086;&#1073;&#1100;&#1077;&#1082;&#1090;&#1072;%20&#1074;%20&#1085;&#1086;&#1074;&#1099;&#1081;.doc" TargetMode="External"/><Relationship Id="rId3" Type="http://schemas.openxmlformats.org/officeDocument/2006/relationships/hyperlink" Target="file:///&#1055;&#1088;&#1077;&#1086;&#1073;&#1088;&#1072;&#1079;&#1086;&#1074;&#1072;&#1085;&#1080;&#1077;%20&#1084;&#1072;&#1090;&#1077;&#1084;&#1072;&#1090;&#1080;&#1095;&#1077;&#1089;&#1082;&#1086;&#1075;&#1086;%20&#1086;&#1073;&#1100;&#1077;&#1082;&#1090;&#1072;%20&#1074;%20&#1085;&#1086;&#1074;&#1099;&#1081;.doc" TargetMode="External"/><Relationship Id="rId4" Type="http://schemas.openxmlformats.org/officeDocument/2006/relationships/hyperlink" Target="file:///&#1055;&#1088;&#1077;&#1086;&#1073;&#1088;&#1072;&#1079;&#1086;&#1074;&#1072;&#1085;&#1080;&#1077;%20&#1084;&#1072;&#1090;&#1077;&#1084;&#1072;&#1090;&#1080;&#1095;&#1077;&#1089;&#1082;&#1086;&#1075;&#1086;%20&#1086;&#1073;&#1100;&#1077;&#1082;&#1090;&#1072;%20&#1074;%20&#1085;&#1086;&#1074;&#1099;&#1081;.doc" TargetMode="External"/><Relationship Id="rId5" Type="http://schemas.openxmlformats.org/officeDocument/2006/relationships/hyperlink" Target="file:///&#1047;&#1072;&#1076;&#1072;&#1085;&#1080;&#1103;%20&#1089;%20&#1085;&#1077;&#1076;&#1086;&#1089;&#1090;&#1072;&#1102;&#1097;&#1080;&#1084;&#1080;%20&#1076;&#1072;&#1085;&#1085;&#1099;&#1084;&#1080;.doc" TargetMode="External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880" y="1999800"/>
            <a:ext cx="8493120" cy="2367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beec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</a:rPr>
              <a:t>УРОВНЕВАЯ Д</a:t>
            </a: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ИФФЕРЕНЦИ</a:t>
            </a:r>
            <a:r>
              <a:rPr b="1" lang="ru-RU" sz="3600" spc="-1" strike="noStrike">
                <a:solidFill>
                  <a:srgbClr val="4e3b30"/>
                </a:solidFill>
                <a:latin typeface="Arial"/>
              </a:rPr>
              <a:t>АЦИЯ НА УРОКАХ МАТЕМАТИКИ.</a:t>
            </a: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Picture 5" descr="BOOK2"/>
          <p:cNvPicPr/>
          <p:nvPr/>
        </p:nvPicPr>
        <p:blipFill>
          <a:blip r:embed="rId1"/>
          <a:stretch/>
        </p:blipFill>
        <p:spPr>
          <a:xfrm>
            <a:off x="3786120" y="4357800"/>
            <a:ext cx="1524240" cy="1655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5508720" y="4941720"/>
            <a:ext cx="307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ила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Ш с.Лесное Матюн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ишенькин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-195120" y="-12600"/>
            <a:ext cx="7065720" cy="22194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условлено разным темпом работы учащих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новное задание + дополнительно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ворческие, трудные задания на смекалку, нестандартные задачи, упражнения игрового характе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7278480" cy="24620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 дети делают одинаковые упражнения, но одни делают под руководством учителя, а другие самостоятель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-195120" y="-12600"/>
            <a:ext cx="7272360" cy="2219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мощь в виде вспомогательных заданий, подготовительных упражнений, с помощью карточек помощниц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разец выполнения задания, показ способа решения, образца рассуждени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равочные материалы, формулы, схемы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глядные опоры, модел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чало решения или частично выполненное решени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помогательные наводящие вопрос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2" descr=""/>
          <p:cNvPicPr/>
          <p:nvPr/>
        </p:nvPicPr>
        <p:blipFill>
          <a:blip r:embed="rId1"/>
          <a:stretch/>
        </p:blipFill>
        <p:spPr>
          <a:xfrm>
            <a:off x="1341360" y="249120"/>
            <a:ext cx="5888160" cy="1092240"/>
          </a:xfrm>
          <a:prstGeom prst="rect">
            <a:avLst/>
          </a:prstGeom>
          <a:ln w="0">
            <a:noFill/>
          </a:ln>
        </p:spPr>
      </p:pic>
      <p:grpSp>
        <p:nvGrpSpPr>
          <p:cNvPr id="432" name="Стрелка вниз 5"/>
          <p:cNvGrpSpPr/>
          <p:nvPr/>
        </p:nvGrpSpPr>
        <p:grpSpPr>
          <a:xfrm>
            <a:off x="2286000" y="1457280"/>
            <a:ext cx="1249200" cy="1584360"/>
            <a:chOff x="2286000" y="1457280"/>
            <a:chExt cx="1249200" cy="1584360"/>
          </a:xfrm>
        </p:grpSpPr>
        <p:pic>
          <p:nvPicPr>
            <p:cNvPr id="433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2286000" y="1457280"/>
              <a:ext cx="12492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 rot="1507200">
              <a:off x="2696760" y="1539720"/>
              <a:ext cx="5716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Стрелка вниз 6"/>
          <p:cNvGrpSpPr/>
          <p:nvPr/>
        </p:nvGrpSpPr>
        <p:grpSpPr>
          <a:xfrm>
            <a:off x="4730760" y="1407960"/>
            <a:ext cx="1279440" cy="1548000"/>
            <a:chOff x="4730760" y="1407960"/>
            <a:chExt cx="1279440" cy="1548000"/>
          </a:xfrm>
        </p:grpSpPr>
        <p:pic>
          <p:nvPicPr>
            <p:cNvPr id="436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4730760" y="1407960"/>
              <a:ext cx="127944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rot="19826400">
              <a:off x="5028840" y="1483920"/>
              <a:ext cx="5716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Box 7"/>
          <p:cNvSpPr/>
          <p:nvPr/>
        </p:nvSpPr>
        <p:spPr>
          <a:xfrm>
            <a:off x="259920" y="3429000"/>
            <a:ext cx="422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Текущий 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(тес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письменные рабо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дикт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5288400" y="3500280"/>
            <a:ext cx="30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Тема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3225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574800" y="1214280"/>
            <a:ext cx="5111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1375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Образование</a:t>
            </a:r>
            <a:r>
              <a:rPr b="1" lang="ru-RU" sz="2200" spc="-1" strike="noStrike">
                <a:solidFill>
                  <a:srgbClr val="0000ff"/>
                </a:solidFill>
                <a:latin typeface="Franklin Gothic Book"/>
              </a:rPr>
              <a:t> – высшее,  УГПИ им. И.Н.Ульянова, 1987г, физико-математический факультет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1375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Стаж работы</a:t>
            </a:r>
            <a:r>
              <a:rPr b="1" lang="ru-RU" sz="2200" spc="-1" strike="noStrike">
                <a:solidFill>
                  <a:srgbClr val="0000ff"/>
                </a:solidFill>
                <a:latin typeface="Franklin Gothic Book"/>
              </a:rPr>
              <a:t> – 32 год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1375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граждена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70000"/>
              </a:lnSpc>
              <a:spcBef>
                <a:spcPts val="1188"/>
              </a:spcBef>
              <a:buClr>
                <a:srgbClr val="f0a22e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cc"/>
                </a:solidFill>
                <a:latin typeface="Franklin Gothic Medium"/>
              </a:rPr>
              <a:t>Почетной грамотой  Департамента образования Ульяновской области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70000"/>
              </a:lnSpc>
              <a:spcBef>
                <a:spcPts val="1188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cc"/>
                </a:solidFill>
                <a:latin typeface="Franklin Gothic Book"/>
              </a:rPr>
              <a:t>Почетной грамотой </a:t>
            </a:r>
            <a:r>
              <a:rPr b="1" lang="ru-RU" sz="1900" spc="-1" strike="noStrike" u="sng">
                <a:solidFill>
                  <a:srgbClr val="0033cc"/>
                </a:solidFill>
                <a:uFillTx/>
                <a:latin typeface="Franklin Gothic Medium"/>
              </a:rPr>
              <a:t>Администрации МО «Кузоватовский район»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70000"/>
              </a:lnSpc>
              <a:spcBef>
                <a:spcPts val="1375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Темы самообразования за последнее время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70000"/>
              </a:lnSpc>
              <a:spcBef>
                <a:spcPts val="125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Franklin Gothic Book"/>
              </a:rPr>
              <a:t>Активизация познавательной деятельности учащихся на уроках математи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70000"/>
              </a:lnSpc>
              <a:spcBef>
                <a:spcPts val="1250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Franklin Gothic Book"/>
              </a:rPr>
              <a:t>Уровневая дифференциация  на уроках математи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244440" y="1989000"/>
            <a:ext cx="3463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426960"/>
            <a:ext cx="8278920" cy="2212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85840" y="2143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бота над проблемой «Уровневая дифференциация на уроках математики» имеет свою цель: показать необходимость и возможность  реализации уровневой  дифференциации при обучении математике ,как одного из путей реализации личностно-ориентированного обучения учащихся.  Уровневая дифференциация способствует более прочному и глубокому усвоению знаний, развитию индивидуальных способностей, развитию самостоятельного творческого мышления. Наблюдения и опытное преподавание показало, что данная форма обучения имеет большее преимущество в сравнении с традиционной методикой обучения, но возникает проблема деления класса на группы. От того, как учитель сможет решить эту проблему, будет зависеть весь дальнейший ход обучени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ешение этой проблемы я представляю следующим образом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Объединять учащихся в одноуровневые группы. Тогда учитель имеет возможность организовывать работу слабых учеников по усвоению материал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В разнородных группах создаются более благоприятные условия для взаимодействия и сотрудничест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12" descr=""/>
          <p:cNvPicPr/>
          <p:nvPr/>
        </p:nvPicPr>
        <p:blipFill>
          <a:blip r:embed="rId1"/>
          <a:stretch/>
        </p:blipFill>
        <p:spPr>
          <a:xfrm>
            <a:off x="1420920" y="1127160"/>
            <a:ext cx="787536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109440"/>
            <a:ext cx="8686800" cy="1457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учение каждого на уровне его возможностей и способносте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даптация обучения и особенностям различных групп учащихся, когда базовый уровень обеспечивает возможность для эволюционного развития лич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Impact"/>
              </a:rPr>
              <a:t>Основная задача дифференциации: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скрыть индивидуальность ученика, помочь ему развиться, устояться, проявиться, обрести избирательность и устойчивость к социальным воздействия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1928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 время проверки домашнего задан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При изучении нового материал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 повторении и закреплении материала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При контроле и учете зн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Прямоугольник 2" descr=""/>
          <p:cNvPicPr/>
          <p:nvPr/>
        </p:nvPicPr>
        <p:blipFill>
          <a:blip r:embed="rId3"/>
          <a:stretch/>
        </p:blipFill>
        <p:spPr>
          <a:xfrm>
            <a:off x="1359000" y="426960"/>
            <a:ext cx="5127480" cy="14511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"/>
          <p:cNvSpPr/>
          <p:nvPr/>
        </p:nvSpPr>
        <p:spPr>
          <a:xfrm>
            <a:off x="5286240" y="385776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7065720" cy="28526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Преобразование математическог</a:t>
            </a:r>
            <a:r>
              <a:rPr b="0" lang="ru-RU" sz="32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о</a:t>
            </a:r>
            <a:r>
              <a:rPr b="0" lang="ru-RU" sz="32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 объекта в новы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Задания с недостающими и лишними данным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полнение заданий разными способ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195120" y="-12600"/>
            <a:ext cx="7065720" cy="2219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сложнение математ</a:t>
            </a: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ического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материал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величение количества действий в выражении или в решении задач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полнение операций сравнения в дополнение к основному заданию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спользование обратного задания вместо прямо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9:34:56Z</dcterms:created>
  <dc:creator>Admin</dc:creator>
  <dc:description/>
  <dc:language>en-US</dc:language>
  <cp:lastModifiedBy>Пользователь</cp:lastModifiedBy>
  <dcterms:modified xsi:type="dcterms:W3CDTF">2019-11-20T04:03:23Z</dcterms:modified>
  <cp:revision>47</cp:revision>
  <dc:subject/>
  <dc:title>Слайд 1</dc:title>
</cp:coreProperties>
</file>