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52.jpeg" ContentType="image/jpeg"/>
  <Override PartName="/ppt/media/image15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65.jpeg" ContentType="image/jpeg"/>
  <Override PartName="/ppt/media/image90.jpeg" ContentType="image/jpeg"/>
  <Override PartName="/ppt/media/image110.jpeg" ContentType="image/jpeg"/>
  <Override PartName="/ppt/media/image93.jpeg" ContentType="image/jpeg"/>
  <Override PartName="/ppt/media/image121.jpeg" ContentType="image/jpeg"/>
  <Override PartName="/ppt/media/image115.jpeg" ContentType="image/jpeg"/>
  <Override PartName="/ppt/media/image96.jpeg" ContentType="image/jpeg"/>
  <Override PartName="/ppt/media/image113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20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341-16BB-4688-A452-7B85EAFE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DDA-EE82-47BF-B612-6E5C37B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AF6-628A-4CDA-B6D1-45EF399B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D02-DECC-4F5B-AC4F-BD069480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6AD-4A7B-42FE-AB37-36CF651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2C4-CCEA-40D4-AB54-A883266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123-DCC5-4723-8E5B-36C26AB0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A4E-2F4D-4953-91D7-3F34BFAA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063-2F87-4C8C-9429-EDAF75FF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F5-0766-4685-A773-9B07B72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F12-C092-4162-AB41-1B8A0C7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55F-A14B-4ED1-A85E-CC62438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3B28-D684-4ACC-97EC-E55EED9CD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img_url=http%3A%2F%2Fs016.radikal.ru%2Fi337%2F1101%2Fca%2F0d1e0b9040e7.jpg&amp;iorient=&amp;icolor=&amp;p=3&amp;site=&amp;text=&#1082;&#1086;&#1083;&#1103;&#1076;&#1086;&#1074;&#1072;&#1085;&#1080;&#1077;%20&#1085;&#1072;%20&#1088;&#1091;&#1089;&#1080;%20%20&#1082;&#1072;&#1088;&#1090;&#1080;&#1085;&#1082;&#1080;&amp;wp=&amp;pos=100&amp;isize=&amp;type=&amp;recent=&amp;rpt=simage&amp;itype=&amp;nojs=1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yandex.ru/yandsearch?img_url=http%3A%2F%2Fimg-fotki.yandex.ru%2Fget%2F2712%2Ftatyanasadovikova.4%2F0_22f77_a951c977_L&amp;iorient=&amp;icolor=&amp;site=&amp;text=&#1082;&#1086;&#1083;&#1103;&#1076;&#1086;&#1074;&#1072;&#1085;&#1080;&#1077;%20&#1085;&#1072;%20&#1088;&#1091;&#1089;&#1080;%20%20&#1082;&#1072;&#1088;&#1090;&#1080;&#1085;&#1082;&#1080;&amp;wp=&amp;pos=12&amp;isize=&amp;type=&amp;recent=&amp;rpt=simage&amp;itype=&amp;nojs=1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hyperlink" Target="http://ru-an.info/Photo/2011/news_linked/foto-878-637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-fotki.yandex.ru/get/4307/sunny-fanny.51/0_35b5b_a331cd03_XL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spochan.ee/1123i367x500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text=&#1090;&#1088;&#1086;&#1080;&#1094;&#1072;%20&#1086;&#1073;&#1099;&#1095;&#1072;&#1080;&amp;noreask=1&amp;img_url=http%3A%2F%2Fimg1.liveinternet.ru%2Fimages%2Fattach%2Fc%2F3%2F75%2F183%2F75183915_3419483_1.jpg&amp;pos=5&amp;rpt=simage&amp;lr=51&amp;nojs=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s44.radikal.ru/i106/0906/46/1b4483f3a4fb.jpg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hyperlink" Target="http://www.poseti-nn.ru/images/afisha/6145.jp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os1.i.ua/3/1/7778292_5504c0a.jp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alltradition.ru/wp-content/uploads/2010/07/1244276474_dd956d9b7936b80e251299afc7c2ac62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drugaya-arh.ru/200-text/arh-slov/pic-hata1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img0.liveinternet.ru/images/attach/c/1/54/668/54668832_srub2.jpg" TargetMode="External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supercook.ru/images-skazki-vypusk/rus-izba-02.jpg" TargetMode="External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hyperlink" Target="http://img1.liveinternet.ru/images/attach/c/3/77/406/77406103_4bf4f21c80ff5351d55169f7c800b18e.jpg" TargetMode="External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a18003.rimg.info/icon/17615530005312f4a72fc8da96650b9b0eba3897cf.jp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900igr.net/datas/istorija/Russkij-byt/0027-027-Pech.jpg" TargetMode="Externa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img_url=http%3A%2F%2Fimg0.liveinternet.ru%2Fimages%2Ffoto%2Fc%2F0%2Fapps%2F3%2F891%2F3891094_country-hor14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20&amp;isize=&amp;type=&amp;recent=&amp;rpt=simage&amp;itype=&amp;nojs=1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images.yandex.ru/yandsearch?img_url=http%3A%2F%2Fs018.radikal.ru%2Fi501%2F1201%2Fce%2F82c00100ce75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0&amp;isize=&amp;type=&amp;recent=&amp;rpt=simage&amp;itype=&amp;nojs=1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rosgorodishe.narod.ru/fotoalbom/pic144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img_url=http%3A%2F%2Fwww.darievna.ru%2Fuploads%2Fanonsi%2Fmini%2F804.jpg&amp;iorient=&amp;icolor=&amp;site=&amp;text=&#1088;&#1091;&#1096;&#1085;&#1080;&#1082;&#1080;%20&#1085;&#1072;%20&#1088;&#1091;&#1089;&#1080;%20&#1082;&#1072;&#1088;&#1090;&#1080;&#1085;&#1082;&#1080;&amp;wp=&amp;pos=0&amp;isize=&amp;type=&amp;recent=&amp;rpt=simage&amp;itype=&amp;nojs=1" TargetMode="External"/><Relationship Id="rId5" Type="http://schemas.openxmlformats.org/officeDocument/2006/relationships/image" Target="../media/image50.jpeg"/><Relationship Id="rId6" Type="http://schemas.openxmlformats.org/officeDocument/2006/relationships/hyperlink" Target="http://images.yandex.ru/yandsearch?img_url=http%3A%2F%2Froddom-784.ru.com%2Fimage.php%3FaHR0cDovL2ltNi10dWItcnUueWFuZGV4Lm5ldC9pP2lkPTUzMDE1MTA1Ni03MC03Mg%3D%3D&amp;iorient=&amp;icolor=&amp;site=&amp;text=&#1088;&#1091;&#1096;&#1085;&#1080;&#1082;&#1080;%20&#1085;&#1072;%20&#1088;&#1091;&#1089;&#1080;%20&#1082;&#1072;&#1088;&#1090;&#1080;&#1085;&#1082;&#1080;&amp;wp=&amp;pos=4&amp;isize=&amp;type=&amp;recent=&amp;rpt=simage&amp;itype=&amp;nojs=1" TargetMode="External"/><Relationship Id="rId7" Type="http://schemas.openxmlformats.org/officeDocument/2006/relationships/image" Target="../media/image51.jpeg"/><Relationship Id="rId8" Type="http://schemas.openxmlformats.org/officeDocument/2006/relationships/hyperlink" Target="http://images.yandex.ru/yandsearch?img_url=http%3A%2F%2Fethnomir.ru%2Fupload%2Fiblock%2F058%2F27.jpg&amp;iorient=&amp;icolor=&amp;site=&amp;text=&#1088;&#1091;&#1096;&#1085;&#1080;&#1082;&#1080;%20&#1085;&#1072;%20&#1088;&#1091;&#1089;&#1080;%20&#1082;&#1072;&#1088;&#1090;&#1080;&#1085;&#1082;&#1080;&amp;wp=&amp;pos=14&amp;isize=&amp;type=&amp;recent=&amp;rpt=simage&amp;itype=&amp;nojs=1" TargetMode="External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hyperlink" Target="http://images.yandex.ru/yandsearch?text=&#1088;&#1091;&#1089;&#1089;&#1082;&#1072;&#1103;%20&#1085;&#1072;&#1088;&#1086;&#1076;&#1085;&#1072;&#1103;%20&#1091;&#1090;&#1074;&#1072;&#1088;&#1100;&amp;noreask=1&amp;img_url=http%3A%2F%2Fturometr.s3.amazonaws.com%2Fimages%2Fgallery%2F00%2F00%2F01%2F2010%2F03%2F25%2F214ca4__55374c71d9_600.gif&amp;pos=24&amp;rpt=simage&amp;lr=51&amp;nojs=1" TargetMode="External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pics.livejournal.com/kristyushatmb/pic/00018hsk/s640x480" TargetMode="External"/><Relationship Id="rId5" Type="http://schemas.openxmlformats.org/officeDocument/2006/relationships/image" Target="../media/image58.jpeg"/><Relationship Id="rId6" Type="http://schemas.openxmlformats.org/officeDocument/2006/relationships/hyperlink" Target="http://images.yandex.ru/yandsearch?p=3&amp;text=&#1090;&#1088;&#1086;&#1080;&#1094;&#1072;%20&#1086;&#1073;&#1099;&#1095;&#1072;&#1080;&amp;noreask=1&amp;img_url=http%3A%2F%2Fshkolazhizni.ru%2Fimg%2Fcontent%2Fi1%2F1449.jpg&amp;pos=91&amp;rpt=simage&amp;lr=51&amp;nojs=1" TargetMode="External"/><Relationship Id="rId7" Type="http://schemas.openxmlformats.org/officeDocument/2006/relationships/image" Target="../media/image59.jpeg"/><Relationship Id="rId8" Type="http://schemas.openxmlformats.org/officeDocument/2006/relationships/hyperlink" Target="http://images.yandex.ru/yandsearch?img_url=http%3A%2F%2Fimg-fotki.yandex.ru%2Fget%2F5903%2Feugenio19.47%2F0_5637c_d8acc3b4_XL&amp;iorient=&amp;icolor=&amp;site=&amp;text=&#1088;&#1091;&#1089;&#1089;&#1082;&#1072;&#1103;%20&#1073;&#1072;&#1085;&#1103;%20&#1082;&#1072;&#1088;&#1090;&#1080;&#1085;&#1082;&#1080;&amp;wp=&amp;pos=1&amp;isize=&amp;type=&amp;recent=&amp;rpt=simage&amp;itype=&amp;nojs=1" TargetMode="External"/><Relationship Id="rId9" Type="http://schemas.openxmlformats.org/officeDocument/2006/relationships/image" Target="../media/image60.jpeg"/><Relationship Id="rId10" Type="http://schemas.openxmlformats.org/officeDocument/2006/relationships/image" Target="../media/image61.jpeg"/><Relationship Id="rId11" Type="http://schemas.openxmlformats.org/officeDocument/2006/relationships/image" Target="../media/image62.jpeg"/><Relationship Id="rId12" Type="http://schemas.openxmlformats.org/officeDocument/2006/relationships/image" Target="../media/image63.jpeg"/><Relationship Id="rId13" Type="http://schemas.openxmlformats.org/officeDocument/2006/relationships/image" Target="../media/image64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65.jpeg"/><Relationship Id="rId5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hyperlink" Target="http://images.yandex.ru/yandsearch?img_url=http%3A%2F%2Fafield.org.ua%2Fmod3%2Fimg%2Fmod74_1_8.jpg&amp;iorient=&amp;icolor=&amp;p=1&amp;site=&amp;text=&#1084;&#1091;&#1078;&#1089;&#1082;&#1086;&#1081;%20&#1082;&#1086;&#1089;&#1090;&#1102;&#1084;%20%20&#1088;&#1091;&#1089;&#1080;%20&#1082;&#1072;&#1088;&#1090;&#1080;&#1085;&#1082;&#1080;&amp;wp=&amp;pos=31&amp;isize=&amp;type=&amp;recent=&amp;rpt=simage&amp;itype=&amp;nojs=1" TargetMode="External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45minut.info/load/42-1-0-14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.wmf"/><Relationship Id="rId5" Type="http://schemas.openxmlformats.org/officeDocument/2006/relationships/hyperlink" Target="http://klk.pp.ru/uploads/posts/uz-v1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g-fotki.yandex.ru/get/3509/swirelka.21/0_29f64_dc55dd10_XL" TargetMode="External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8.jpeg"/><Relationship Id="rId5" Type="http://schemas.openxmlformats.org/officeDocument/2006/relationships/hyperlink" Target="http://img11.nnm.ru/7/5/4/8/3/d632aabfc2f44bd2c2b7a8eaa68_prev.jpg" TargetMode="External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hyperlink" Target="http://vasi.net/uploads/posts/2008-05/mthumbs/1212071084_2201_08_1.jpg" TargetMode="External"/><Relationship Id="rId9" Type="http://schemas.openxmlformats.org/officeDocument/2006/relationships/image" Target="../media/image81.jpeg"/><Relationship Id="rId10" Type="http://schemas.openxmlformats.org/officeDocument/2006/relationships/image" Target="../media/image82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iromagazin.ru/img/fed/182.jpg" TargetMode="External"/><Relationship Id="rId2" Type="http://schemas.openxmlformats.org/officeDocument/2006/relationships/image" Target="../media/image83.jpeg"/><Relationship Id="rId3" Type="http://schemas.openxmlformats.org/officeDocument/2006/relationships/image" Target="../media/image71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84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g-fotki.yandex.ru/get/5402/kovlevelen.0/0_31adb_28e571bd_L" TargetMode="External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900igr.net/datai/istorija/Russkij-narod/0006-012-Samo-slovo-folklor-prishlo-k-nam-iz-dalekoj-Anglii-i-perevoditsja.jpg" TargetMode="External"/><Relationship Id="rId5" Type="http://schemas.openxmlformats.org/officeDocument/2006/relationships/image" Target="../media/image86.jpeg"/><Relationship Id="rId6" Type="http://schemas.openxmlformats.org/officeDocument/2006/relationships/hyperlink" Target="http://mith.ru/folk/folk01.jpg" TargetMode="External"/><Relationship Id="rId7" Type="http://schemas.openxmlformats.org/officeDocument/2006/relationships/image" Target="../media/image87.jpeg"/><Relationship Id="rId8" Type="http://schemas.openxmlformats.org/officeDocument/2006/relationships/image" Target="../media/image88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clubtrade.ru/images/artcats/625/photo/1_clubtrade_dk_(10).jpg" TargetMode="External"/><Relationship Id="rId5" Type="http://schemas.openxmlformats.org/officeDocument/2006/relationships/image" Target="../media/image89.jpeg"/><Relationship Id="rId6" Type="http://schemas.openxmlformats.org/officeDocument/2006/relationships/hyperlink" Target="http://www.lipetskinfo.ru/photo/theme/033/142/main.jpg" TargetMode="External"/><Relationship Id="rId7" Type="http://schemas.openxmlformats.org/officeDocument/2006/relationships/image" Target="../media/image90.jpeg"/><Relationship Id="rId8" Type="http://schemas.openxmlformats.org/officeDocument/2006/relationships/image" Target="../media/image91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hyperlink" Target="http://2c-foto.ru/5ff078f9436028dbdf43147ec817617a.jpg" TargetMode="External"/><Relationship Id="rId7" Type="http://schemas.openxmlformats.org/officeDocument/2006/relationships/image" Target="../media/image94.jpe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image" Target="../media/image101.jpeg"/><Relationship Id="rId11" Type="http://schemas.openxmlformats.org/officeDocument/2006/relationships/image" Target="../media/image10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text=&#1085;&#1072;&#1088;&#1086;&#1076;&#1099;%20&#1088;&#1086;&#1089;&#1089;&#1080;&#1080;%20&#1080;%20&#1080;&#1093;%20&#1090;&#1088;&#1072;&#1076;&#1080;&#1094;&#1080;&#1080;&amp;noreask=1&amp;img_url=http%3A%2F%2Fmariuver.files.wordpress.com%2F2009%2F06%2Fmolodezh_bashkirii.jpg&amp;pos=0&amp;rpt=simage&amp;lr=240&amp;noj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03.jpeg"/><Relationship Id="rId5" Type="http://schemas.openxmlformats.org/officeDocument/2006/relationships/hyperlink" Target="http://novostey.com/i4/2009/07/30/6a6252360d917f4211e099fdf3ea8441.JPEG" TargetMode="External"/><Relationship Id="rId6" Type="http://schemas.openxmlformats.org/officeDocument/2006/relationships/image" Target="../media/image104.jpeg"/><Relationship Id="rId7" Type="http://schemas.openxmlformats.org/officeDocument/2006/relationships/image" Target="../media/image105.jpeg"/><Relationship Id="rId8" Type="http://schemas.openxmlformats.org/officeDocument/2006/relationships/image" Target="../media/image106.jpe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stihi.ru/pics/2012/07/28/3396.jpg" TargetMode="External"/><Relationship Id="rId5" Type="http://schemas.openxmlformats.org/officeDocument/2006/relationships/image" Target="../media/image108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image" Target="../media/image111.jpeg"/><Relationship Id="rId6" Type="http://schemas.openxmlformats.org/officeDocument/2006/relationships/hyperlink" Target="http://images.yandex.ru/yandsearch?img_url=http%3A%2F%2Fwww.ozon.ru%2Fmultimedia%2Fbooks_covers%2Fsv266.jpg&amp;iorient=&amp;icolor=&amp;site=&amp;text=&#1076;&#1077;&#1090;&#1103;&#1084;%20&#1086;%20%20&#1090;&#1088;&#1072;&#1076;&#1080;&#1094;&#1080;&#1103;&#1093;%20&#1080;%20&#1086;&#1073;&#1099;&#1095;&#1072;&#1103;&#1093;%20&#1088;&#1091;&#1089;&#1089;&#1082;&#1086;&#1075;&#1086;%20&#1085;&#1072;&#1088;&#1086;&#1076;&#1072;&amp;wp=&amp;pos=21&amp;isize=&amp;type=&amp;recent=&amp;rpt=simage&amp;itype=&amp;nojs=1" TargetMode="External"/><Relationship Id="rId7" Type="http://schemas.openxmlformats.org/officeDocument/2006/relationships/image" Target="../media/image112.jpeg"/><Relationship Id="rId8" Type="http://schemas.openxmlformats.org/officeDocument/2006/relationships/hyperlink" Target="http://www.kmrz.ru/catimg/34/344843.jpg" TargetMode="External"/><Relationship Id="rId9" Type="http://schemas.openxmlformats.org/officeDocument/2006/relationships/image" Target="../media/image113.jpeg"/><Relationship Id="rId10" Type="http://schemas.openxmlformats.org/officeDocument/2006/relationships/image" Target="../media/image114.jpeg"/><Relationship Id="rId11" Type="http://schemas.openxmlformats.org/officeDocument/2006/relationships/hyperlink" Target="http://images.yandex.ru/yandsearch?img_url=http%3A%2F%2Fstat.vcene.ua%2Fcommon%2Fimage%2Fproduct%2F90%2F9005%2F900528%2Fpreview.jpg&amp;iorient=&amp;nojs=1&amp;icolor=&amp;p=7&amp;site=&amp;text=&#1083;&#1080;&#1090;&#1077;&#1088;&#1072;&#1090;&#1091;&#1088;&#1072;%20&#1086;%20&#1085;&#1072;&#1088;&#1086;&#1076;&#1099;%20&#1088;&#1086;&#1089;&#1089;&#1080;&#1080;%20&#1080;%20&#1080;&#1093;%20&#1090;&#1088;&#1072;&#1076;&#1080;&#1094;&#1080;&#1080;&amp;wp=&amp;pos=221&amp;recent=&amp;type=&amp;isize=&amp;rpt=simage&amp;itype=" TargetMode="External"/><Relationship Id="rId12" Type="http://schemas.openxmlformats.org/officeDocument/2006/relationships/image" Target="../media/image115.jpeg"/><Relationship Id="rId13" Type="http://schemas.openxmlformats.org/officeDocument/2006/relationships/image" Target="../media/image116.jpeg"/><Relationship Id="rId14" Type="http://schemas.openxmlformats.org/officeDocument/2006/relationships/image" Target="../media/image117.jpeg"/><Relationship Id="rId15" Type="http://schemas.openxmlformats.org/officeDocument/2006/relationships/image" Target="../media/image118.jpeg"/><Relationship Id="rId16" Type="http://schemas.openxmlformats.org/officeDocument/2006/relationships/image" Target="../media/image119.jpeg"/><Relationship Id="rId17" Type="http://schemas.openxmlformats.org/officeDocument/2006/relationships/image" Target="../media/image120.jpeg"/><Relationship Id="rId18" Type="http://schemas.openxmlformats.org/officeDocument/2006/relationships/image" Target="../media/image121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img_url=http%3A%2F%2Fcicpx.narod.ru%2F2005-03-09%2Fimage007.jpg&amp;iorient=&amp;nojs=1&amp;icolor=&amp;site=&amp;text=&#1088;&#1091;&#1089;&#1089;&#1082;&#1086;&#1077;%20&#1085;&#1072;&#1088;&#1086;&#1076;&#1085;&#1086;&#1077;%20%20&#1088;&#1091;&#1082;&#1086;&#1087;&#1086;&#1078;&#1072;&#1090;&#1080;&#1077;&amp;wp=&amp;pos=4&amp;isize=&amp;type=&amp;recent=&amp;rpt=simage&amp;itype=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zhaba.ru/_pics/ordjt4e0wnv7y5x0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img_url=http%3A%2F%2Fcs4321.userapi.com%2Fu10335256%2F94635287%2Fs_ba99279f.jpg&amp;iorient=&amp;nojs=1&amp;icolor=&amp;site=&amp;text=&#1088;&#1091;&#1089;&#1089;&#1082;&#1072;&#1103;%20&#1089;&#1074;&#1072;&#1076;&#1100;&#1073;&#1072;&amp;wp=&amp;pos=3&amp;isize=&amp;type=&amp;recent=&amp;rpt=simage&amp;itype=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hyperlink" Target="http://slavs.org.ua/img/calendar_t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971640" y="33336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olero script"/>
              </a:rPr>
              <a:t>Обычаи, обряды и традиции русского наро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go4.imgsmail.ru/imgpreview?key=http%3A//900igr.net/datai/istorija/Russkij-byt/0002-002-Byt-russkikh-ljudej.jpg&amp;mb=imgdb_preview_108"/>
          <p:cNvPicPr/>
          <p:nvPr/>
        </p:nvPicPr>
        <p:blipFill>
          <a:blip r:embed="rId1"/>
          <a:stretch/>
        </p:blipFill>
        <p:spPr>
          <a:xfrm>
            <a:off x="5148360" y="2781360"/>
            <a:ext cx="384624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900000" y="451188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Чем дальше в будущее вход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м больше прошлым дорожим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5003640" y="6093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1692360" y="6308640"/>
            <a:ext cx="1839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frame22P_var"/>
          <p:cNvPicPr/>
          <p:nvPr/>
        </p:nvPicPr>
        <p:blipFill>
          <a:blip r:embed="rId2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1187280" y="0"/>
            <a:ext cx="77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зднично-обрядовая куль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971640" y="33336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(по старому стилю)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 , обязательным элементом святок было 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im4-tub-ru.yandex.net/i?id=314727918-0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20500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im2-tub-ru.yandex.net/i?id=458563178-6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213372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6" descr="http://culture.astrgorod.ru/sites/default/files/maslenitsapost42.jpg"/>
          <p:cNvPicPr/>
          <p:nvPr/>
        </p:nvPicPr>
        <p:blipFill>
          <a:blip r:embed="rId4"/>
          <a:stretch/>
        </p:blipFill>
        <p:spPr>
          <a:xfrm>
            <a:off x="1042920" y="189000"/>
            <a:ext cx="381636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5003640" y="476280"/>
            <a:ext cx="38894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воды зимы и встреча весны)- длилась целую неделю и   Начиная с четверга масленичной недели все работы прекращались, начиналось шумное веселье. Ходили друг к другу в гости, обильно угощались блинами, оладьями, пирогами, была и выпи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900000" y="3357720"/>
            <a:ext cx="468000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Масленица – Сырная неде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ришла нарядная к нам Весну встреча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 блины и развлекаться будем всю недел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иму студёную из дому прог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 – «Встреч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ник – «Заигрыш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- «Лаком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г – «Разгуля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 «Вечера  у тё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а –»Золовкины угощ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ье – «Прощеный ден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е гулянье Ярмарка венча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ья, Масленица, приходи опя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://ru-an.info/Photo/2011/news_linked/foto-878-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357720"/>
            <a:ext cx="44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971640" y="1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расцвет весны, пробуждение жизни) - церков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украшали дом  срезанной вербой, пекли сдобные хлеба (куличи, пасхи), красили яйца (Крашенки), посещали церковь, ходили друг к другу в гости, обменивались при встрече крашенками, христосовались (целовалис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риветствовали  друг друг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«Христос воскрес!» - «Воистину воскрес!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2916360" y="6488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– символ Солнца и зарождения новой жиз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http://img-fotki.yandex.ru/get/4307/sunny-fanny.51/0_35b5b_a331cd03_X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213000"/>
            <a:ext cx="2665440" cy="3213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1"/>
          <p:cNvSpPr/>
          <p:nvPr/>
        </p:nvSpPr>
        <p:spPr>
          <a:xfrm>
            <a:off x="3924360" y="4292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водили хороводы, гуляли  по улицам, катались на качелях, катали яйца . После пасхальной недели во вторник отмечали родительский день - посещали кладбища, приносили еду к могилам умерших родственников, в том числе и пасхальну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http://www.spochan.ee/1123i367x5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60280"/>
            <a:ext cx="3025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1116000" y="14760"/>
            <a:ext cx="4643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емик 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иц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праздновали на седьмой неделе после Пасхи (Семик - в четверг, а Троицу - в воскресенье), В Семик девушки ходили в лес, плели венки из березовых ветвей, пели троичные песни и бросали венки в реку. Если венок тонул, это считалось плохой приметой, если же приставал к берегу, это означало, что девушка должна скоро выйти замуж. До этого варили в складчину пиво и веселились с парнями на берегу реки до поздней ноч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im3-tub-ru.yandex.net/i?id=180458430-65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3500280"/>
            <a:ext cx="3168720" cy="295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s44.radikal.ru/i106/0906/46/1b4483f3a4fb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89000"/>
            <a:ext cx="3168360" cy="4319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"/>
          <p:cNvSpPr/>
          <p:nvPr/>
        </p:nvSpPr>
        <p:spPr>
          <a:xfrm>
            <a:off x="435600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этого варили в складчину пиво и веселились с парнями на берегу реки до поздней ночи. В Троицу было принято украшать внутреннюю часть дома березовыми ветвями. Традиционной пищей были яйца, яичница и другие блюда из я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187280" y="189000"/>
            <a:ext cx="705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 (супредки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ерку парни присматривали невест, шутили, развлек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40" descr="http://rtrclub.ru/images/VidHandmade/800/3/ru--7.jpg"/>
          <p:cNvPicPr/>
          <p:nvPr/>
        </p:nvPicPr>
        <p:blipFill>
          <a:blip r:embed="rId4"/>
          <a:stretch/>
        </p:blipFill>
        <p:spPr>
          <a:xfrm>
            <a:off x="6588000" y="2349360"/>
            <a:ext cx="23529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7893"/>
          <p:cNvPicPr/>
          <p:nvPr/>
        </p:nvPicPr>
        <p:blipFill>
          <a:blip r:embed="rId5"/>
          <a:stretch/>
        </p:blipFill>
        <p:spPr>
          <a:xfrm>
            <a:off x="1042920" y="2349360"/>
            <a:ext cx="504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4284720" y="333360"/>
            <a:ext cx="468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ы (хороводы, улицы)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ее развлечение  молодежи  на околице деревни, на берегу реки или у леса.  Плели венки из полевых цветов,  играли в игры, пели и плясали, водили хороводы. Задерживались допоздна. Главной фигурой был хороший местный гармо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08" descr="http://h6.img.mediacache.rugion.ru/_i/forum/files/95/72/96/9572962_0s369_1321208756.jpg"/>
          <p:cNvPicPr/>
          <p:nvPr/>
        </p:nvPicPr>
        <p:blipFill>
          <a:blip r:embed="rId4"/>
          <a:stretch/>
        </p:blipFill>
        <p:spPr>
          <a:xfrm>
            <a:off x="5148360" y="3645000"/>
            <a:ext cx="327636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71" descr="http://www.villina.net/_nw/1/64896255.jpg"/>
          <p:cNvPicPr/>
          <p:nvPr/>
        </p:nvPicPr>
        <p:blipFill>
          <a:blip r:embed="rId5"/>
          <a:stretch/>
        </p:blipFill>
        <p:spPr>
          <a:xfrm>
            <a:off x="1187280" y="189000"/>
            <a:ext cx="2880000" cy="2512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http://www.poseti-nn.ru/images/afisha/614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068640"/>
            <a:ext cx="237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971640" y="189000"/>
            <a:ext cx="7561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русской свадь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 что в каждой деревне, но даже и в городе существовали свои особенности, оттенки этого поэтического и одновременно исполненного глубокого смысла действа. Остается лишь удивляться, с какой основательностью и уважением подходили наши предки к рождению новой семьи. Навсегда оставалась у молодых память о главном моменте их жизни.  Молодых осыпали хмелем, так как хмель – это древний символ плодородия и многочадия . Невеста берет  с собою в дом жениха родительское благословение и сундук с приданым .Старинный обычай – разувание мужа молодой женой. Смысл  - таким образом молодая супруга подчеркивала свою покорность или согласие на главенство мужчины в семь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http://os1.i.ua/3/1/7778292_5504c0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3573360"/>
            <a:ext cx="4608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971640" y="189000"/>
            <a:ext cx="756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Кр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920" y="77220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обрядом, отмечавшим начало жизни ребенка было его крещение. Обряд совершали в церкви или дома. Как правило, младенца крестили на третий или сороковой день после рождения. Родителям не положено было присутствовать при крещении, вместо них были крестная мать, которая дарила рубашку и крестный отец, который должен был подарить ребенку нательный крес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Обряд крещени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42100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2987640" y="1890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ние на русской трой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i?id=18758126-36-72&amp;n=21"/>
          <p:cNvPicPr/>
          <p:nvPr/>
        </p:nvPicPr>
        <p:blipFill>
          <a:blip r:embed="rId4"/>
          <a:stretch/>
        </p:blipFill>
        <p:spPr>
          <a:xfrm>
            <a:off x="971640" y="692280"/>
            <a:ext cx="4105080" cy="28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s6.postimage.org/qn8efdzk1/image.jpg"/>
          <p:cNvPicPr/>
          <p:nvPr/>
        </p:nvPicPr>
        <p:blipFill>
          <a:blip r:embed="rId5"/>
          <a:stretch/>
        </p:blipFill>
        <p:spPr>
          <a:xfrm>
            <a:off x="4427640" y="3357720"/>
            <a:ext cx="4537080" cy="3352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5219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а, тройка прилете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куны в той тройке бел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анях сидит цариц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са, белолиц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хнула рукавом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крыло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3205440" y="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http://www.drugaya-arh.ru/200-text/arh-slov/pic-hat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149720"/>
            <a:ext cx="3673440" cy="250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http://img0.liveinternet.ru/images/attach/c/1/54/668/54668832_srub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3978360"/>
            <a:ext cx="3321000" cy="26193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1042920" y="620640"/>
            <a:ext cx="4897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Передний конец крыши имел конёк – знак устремления. Только русские сравнивали дом с колесницей, которая должна привести семью к лучшему будущему. Снаружи дома украшались резьбой. До наших времён сохранилась традиция использования наличников. В сенях хозяева хранили различную утварь, а в самом доме чётко выделялся, так называемый «бабий кут». Где хозяйки готовили и рукодельнич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7" descr="http://www.burykina-o.narod.ru/club/r_slides/slide04.jpg"/>
          <p:cNvPicPr/>
          <p:nvPr/>
        </p:nvPicPr>
        <p:blipFill>
          <a:blip r:embed="rId8"/>
          <a:stretch/>
        </p:blipFill>
        <p:spPr>
          <a:xfrm>
            <a:off x="5940360" y="549360"/>
            <a:ext cx="30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900000" y="907920"/>
            <a:ext cx="41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за собы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сутолокою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ы своей не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ем мы о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более привыч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полёты на Лу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ые обыча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у стари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3" descr="http://admin.unassvadba.ru/Image/Nastja/kras_gorka/krasnaya_gorka_horovod.jpg"/>
          <p:cNvPicPr/>
          <p:nvPr/>
        </p:nvPicPr>
        <p:blipFill>
          <a:blip r:embed="rId1"/>
          <a:stretch/>
        </p:blipFill>
        <p:spPr>
          <a:xfrm>
            <a:off x="4211640" y="189000"/>
            <a:ext cx="4824360" cy="633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rame22P_var"/>
          <p:cNvPicPr/>
          <p:nvPr/>
        </p:nvPicPr>
        <p:blipFill>
          <a:blip r:embed="rId2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ttp://supercook.ru/images-skazki-vypusk/rus-izba-0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26028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5364000" y="90792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и терем, ни изб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олота, да резь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, терем, терем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тейлив и вы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окошки слюдя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наличники рез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 крыше пет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ые гребе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в перилах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 вырезал коле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тушки да ц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аскрасил о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рему резные дв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верях цветы и з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разцах на печке в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ы райские си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042920" y="198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горницей пе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 в горнице сосе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ель в ней вы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 – до потол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ерины, оде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ушек там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, покрыт ков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с хозяйкиным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0_21cd4_f693cc32_XL"/>
          <p:cNvPicPr/>
          <p:nvPr/>
        </p:nvPicPr>
        <p:blipFill>
          <a:blip r:embed="rId4"/>
          <a:stretch/>
        </p:blipFill>
        <p:spPr>
          <a:xfrm>
            <a:off x="5580000" y="26028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1312409706_muzei"/>
          <p:cNvPicPr/>
          <p:nvPr/>
        </p:nvPicPr>
        <p:blipFill>
          <a:blip r:embed="rId5"/>
          <a:stretch/>
        </p:blipFill>
        <p:spPr>
          <a:xfrm>
            <a:off x="1116000" y="2708280"/>
            <a:ext cx="3456000" cy="38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img1.liveinternet.ru/images/attach/c/3/77/406/77406103_4bf4f21c80ff5351d55169f7c800b18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708280"/>
            <a:ext cx="3672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2050920" y="-288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5580000" y="4005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нам резные 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бовый стол ре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печки сохнут тра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их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стой варили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 зимою от хво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http://a18003.rimg.info/icon/17615530005312f4a72fc8da96650b9b0eba3897c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2708280"/>
            <a:ext cx="3961080" cy="375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900igr.net/datas/istorija/Russkij-byt/0027-027-Pech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83664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1116000" y="557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 доме бы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чёрны, закопчё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асивы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гнил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ли людям добрым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пились печи по-чёр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im0-tub-ru.yandex.net/i?id=18277144-0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141720"/>
            <a:ext cx="324036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2634840" y="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угол в русской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ttp://im8-tub-ru.yandex.net/i?id=620618422-1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907920"/>
            <a:ext cx="2951280" cy="18734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4929120" y="692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Гой ты, Русь моя р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, ризы в образах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ttp://rosgorodishe.narod.ru/fotoalbom/pic14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1557360"/>
            <a:ext cx="309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3"/>
          <p:cNvSpPr/>
          <p:nvPr/>
        </p:nvSpPr>
        <p:spPr>
          <a:xfrm>
            <a:off x="2624760" y="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уда   на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a640"/>
          <p:cNvPicPr/>
          <p:nvPr/>
        </p:nvPicPr>
        <p:blipFill>
          <a:blip r:embed="rId4"/>
          <a:stretch/>
        </p:blipFill>
        <p:spPr>
          <a:xfrm>
            <a:off x="1116000" y="692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image002"/>
          <p:cNvPicPr/>
          <p:nvPr/>
        </p:nvPicPr>
        <p:blipFill>
          <a:blip r:embed="rId5"/>
          <a:stretch/>
        </p:blipFill>
        <p:spPr>
          <a:xfrm>
            <a:off x="1042920" y="335772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8" descr="http://www.ocnt.isu.ru/decor/IMG/b4.jpg"/>
          <p:cNvPicPr/>
          <p:nvPr/>
        </p:nvPicPr>
        <p:blipFill>
          <a:blip r:embed="rId6"/>
          <a:stretch/>
        </p:blipFill>
        <p:spPr>
          <a:xfrm>
            <a:off x="6588000" y="692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42" descr="http://im3-tub-ru.yandex.net/i?id=5505095-37-72"/>
          <p:cNvPicPr/>
          <p:nvPr/>
        </p:nvPicPr>
        <p:blipFill>
          <a:blip r:embed="rId7"/>
          <a:stretch/>
        </p:blipFill>
        <p:spPr>
          <a:xfrm>
            <a:off x="4500720" y="692280"/>
            <a:ext cx="142848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9" descr="http://img-2007-08.photosight.ru/20/2257889.jpg"/>
          <p:cNvPicPr/>
          <p:nvPr/>
        </p:nvPicPr>
        <p:blipFill>
          <a:blip r:embed="rId8"/>
          <a:stretch/>
        </p:blipFill>
        <p:spPr>
          <a:xfrm>
            <a:off x="4356000" y="2997360"/>
            <a:ext cx="453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637720" y="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р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1116000" y="476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шник – небольшое полотенце для утирания рук и лица, а также вешали для украшения в красный угол избы. Рушник – это символ дома и семьи. Это не только полотенце, а также предмет для обрядов и риту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5219640" y="48045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яное полотенце, по кра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тое большими пе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ое творенье женских ру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етуха – косые гребни, шпо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трубили зорю, а в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заплели цветы, легли уз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http://im6-tub-ru.yandex.net/i?id=310007379-66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3068640"/>
            <a:ext cx="3529080" cy="3097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im2-tub-ru.yandex.net/i?id=213091162-23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1413000"/>
            <a:ext cx="184788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im2-tub-ru.yandex.net/i?id=257828191-69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48360" y="141300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2637720" y="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ут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muzey_241-160x213"/>
          <p:cNvPicPr/>
          <p:nvPr/>
        </p:nvPicPr>
        <p:blipFill>
          <a:blip r:embed="rId4"/>
          <a:stretch/>
        </p:blipFill>
        <p:spPr>
          <a:xfrm>
            <a:off x="5003640" y="620640"/>
            <a:ext cx="18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17748"/>
          <p:cNvPicPr/>
          <p:nvPr/>
        </p:nvPicPr>
        <p:blipFill>
          <a:blip r:embed="rId5"/>
          <a:stretch/>
        </p:blipFill>
        <p:spPr>
          <a:xfrm>
            <a:off x="1116000" y="620640"/>
            <a:ext cx="3456000" cy="2792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313823929_kerosinovaya-lampa"/>
          <p:cNvPicPr/>
          <p:nvPr/>
        </p:nvPicPr>
        <p:blipFill>
          <a:blip r:embed="rId6"/>
          <a:stretch/>
        </p:blipFill>
        <p:spPr>
          <a:xfrm>
            <a:off x="7596360" y="620640"/>
            <a:ext cx="1368360" cy="252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http://im8-tub-ru.yandex.net/i?id=100077084-3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3645000"/>
            <a:ext cx="1726920" cy="287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muzei01_full"/>
          <p:cNvPicPr/>
          <p:nvPr/>
        </p:nvPicPr>
        <p:blipFill>
          <a:blip r:embed="rId9"/>
          <a:stretch/>
        </p:blipFill>
        <p:spPr>
          <a:xfrm>
            <a:off x="1619280" y="3716280"/>
            <a:ext cx="5076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20688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б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http://pics.livejournal.com/kristyushatmb/pic/00018hsk/s640x4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3716280"/>
            <a:ext cx="3492360" cy="2936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http://im6-tub-ru.yandex.net/i?id=403824467-10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3716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im5-tub-ru.yandex.net/i?id=200960048-49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765000"/>
            <a:ext cx="2520720" cy="23036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4" descr="http://www.burykina-o.narod.ru/club/r_slides/slide16.jpg"/>
          <p:cNvPicPr/>
          <p:nvPr/>
        </p:nvPicPr>
        <p:blipFill>
          <a:blip r:embed="rId10"/>
          <a:stretch/>
        </p:blipFill>
        <p:spPr>
          <a:xfrm>
            <a:off x="0" y="9220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7" descr="http://www.burykina-o.narod.ru/club/r_slides/slide17.jpg"/>
          <p:cNvPicPr/>
          <p:nvPr/>
        </p:nvPicPr>
        <p:blipFill>
          <a:blip r:embed="rId11"/>
          <a:stretch/>
        </p:blipFill>
        <p:spPr>
          <a:xfrm>
            <a:off x="0" y="13677840"/>
            <a:ext cx="5943600" cy="44672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0" descr="http://www.burykina-o.narod.ru/club/r_slides/slide18.jpg"/>
          <p:cNvPicPr/>
          <p:nvPr/>
        </p:nvPicPr>
        <p:blipFill>
          <a:blip r:embed="rId12"/>
          <a:stretch/>
        </p:blipFill>
        <p:spPr>
          <a:xfrm>
            <a:off x="0" y="181450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3" descr="http://www.burykina-o.narod.ru/club/r_slides/slide19.jpg"/>
          <p:cNvPicPr/>
          <p:nvPr/>
        </p:nvPicPr>
        <p:blipFill>
          <a:blip r:embed="rId13"/>
          <a:stretch/>
        </p:blipFill>
        <p:spPr>
          <a:xfrm>
            <a:off x="0" y="226029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971640" y="421920"/>
            <a:ext cx="51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я была не только местом для мытья, а также особенным, почти священным местом. Считалось, что баня объединяет 4 главные природные стихии: огонь, воду, воздух и землю. Поэтому человек, посетивший баню, как бы вбирал в себя силу всех этих стихий и становился крепче, сильнее и здоровее. Недаром на Руси бытовала поговорка «Помылся – будто заново родился!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зря веник является не только символом русской парной бани, её украшением, но и инструментом лечения или профилактики болезней. Веники, собранные из разнообразных пород деревьев и лекарственных трав используются для лечения самых разных заболеваний и неду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" descr="tropa_922"/>
          <p:cNvPicPr/>
          <p:nvPr/>
        </p:nvPicPr>
        <p:blipFill>
          <a:blip r:embed="rId4"/>
          <a:stretch/>
        </p:blipFill>
        <p:spPr>
          <a:xfrm>
            <a:off x="5435640" y="620640"/>
            <a:ext cx="2844720" cy="23767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1250640" y="18900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http://im0-tub-ru.yandex.net/i?id=123309110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69228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content.foto.mail.ru/mail/lyudmila-1946/_blogs/i-18110.jpg"/>
          <p:cNvPicPr/>
          <p:nvPr/>
        </p:nvPicPr>
        <p:blipFill>
          <a:blip r:embed="rId7"/>
          <a:stretch/>
        </p:blipFill>
        <p:spPr>
          <a:xfrm>
            <a:off x="2124000" y="328464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79340759_large_russkie_narodnuye_kostyumuy_6"/>
          <p:cNvPicPr/>
          <p:nvPr/>
        </p:nvPicPr>
        <p:blipFill>
          <a:blip r:embed="rId4"/>
          <a:stretch/>
        </p:blipFill>
        <p:spPr>
          <a:xfrm>
            <a:off x="1258920" y="1844640"/>
            <a:ext cx="3097080" cy="4824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97164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нски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чья рубаха, праздничные головные уборы, пон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53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а, порты, пояс, серм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?id=241750542-29-72"/>
          <p:cNvPicPr/>
          <p:nvPr/>
        </p:nvPicPr>
        <p:blipFill>
          <a:blip r:embed="rId5"/>
          <a:stretch/>
        </p:blipFill>
        <p:spPr>
          <a:xfrm>
            <a:off x="5219640" y="3141720"/>
            <a:ext cx="2448000" cy="26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im5-tub-ru.yandex.net/i?id=636355988-4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333360"/>
            <a:ext cx="2519280" cy="266400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923040" y="1159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042920" y="189000"/>
            <a:ext cx="7777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интерес к истории и народному творчеств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ить  с народным традициям, обычаями, обряд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их представлений о культуре русского нар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эстетического и нравственного восприятия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представление об устройстве дома, об истории народного костюма, о народном промысле, о народном фольклоре,  о  русской национальной кух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go2.imgsmail.ru/imgpreview?key=http%3A//dou1787.ru/pics/%25D0%25A0%25D0%25B8%25D1%2581%25D1%2583%25D0%25BD%25D0%25BE%25D0%25BA3.jpg&amp;mb=imgdb_preview_100"/>
          <p:cNvPicPr/>
          <p:nvPr/>
        </p:nvPicPr>
        <p:blipFill>
          <a:blip r:embed="rId1"/>
          <a:stretch/>
        </p:blipFill>
        <p:spPr>
          <a:xfrm>
            <a:off x="1476360" y="3429000"/>
            <a:ext cx="3024360" cy="303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45minut.info/klass/clip_image0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64080" y="3500280"/>
            <a:ext cx="3195720" cy="29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rame22P_var"/>
          <p:cNvPicPr/>
          <p:nvPr/>
        </p:nvPicPr>
        <p:blipFill>
          <a:blip r:embed="rId4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uz-v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219564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i?id=17692540-52-72&amp;n=21"/>
          <p:cNvPicPr/>
          <p:nvPr/>
        </p:nvPicPr>
        <p:blipFill>
          <a:blip r:embed="rId4"/>
          <a:stretch/>
        </p:blipFill>
        <p:spPr>
          <a:xfrm>
            <a:off x="1476360" y="98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i?id=431694681-20-72&amp;n=21"/>
          <p:cNvPicPr/>
          <p:nvPr/>
        </p:nvPicPr>
        <p:blipFill>
          <a:blip r:embed="rId5"/>
          <a:stretch/>
        </p:blipFill>
        <p:spPr>
          <a:xfrm>
            <a:off x="1332000" y="4076640"/>
            <a:ext cx="2768400" cy="25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i?id=78847383-38-72&amp;n=21"/>
          <p:cNvPicPr/>
          <p:nvPr/>
        </p:nvPicPr>
        <p:blipFill>
          <a:blip r:embed="rId6"/>
          <a:stretch/>
        </p:blipFill>
        <p:spPr>
          <a:xfrm>
            <a:off x="5580000" y="407664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7"/>
          <p:cNvSpPr/>
          <p:nvPr/>
        </p:nvSpPr>
        <p:spPr>
          <a:xfrm>
            <a:off x="4356000" y="1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Лапти плелись из лыка различных деревьев, преимущественно липы (лычники), из мочала – липового луба, размоченного и разодранного на волокна (мочалыжники)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971640" y="47628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20" descr="http://www.clipartbank.ru/watermark.php?i=75304"/>
          <p:cNvPicPr/>
          <p:nvPr/>
        </p:nvPicPr>
        <p:blipFill>
          <a:blip r:embed="rId4"/>
          <a:stretch/>
        </p:blipFill>
        <p:spPr>
          <a:xfrm>
            <a:off x="1258920" y="206064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175" descr="http://moygorod.tv/uploads/posts/2012-09/prihodite-v-gosti-2.jpg"/>
          <p:cNvPicPr/>
          <p:nvPr/>
        </p:nvPicPr>
        <p:blipFill>
          <a:blip r:embed="rId5"/>
          <a:stretch/>
        </p:blipFill>
        <p:spPr>
          <a:xfrm>
            <a:off x="5219640" y="3789360"/>
            <a:ext cx="32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262728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засто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116000" y="404640"/>
            <a:ext cx="755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лавное праздничное застолье с давних времен хранит множество традиций, обычаев и обрядов.   За столом собирались все члены семьи и близкие родственники. Застольный этикет был очень сдержан и строг. За столом сидели чинно, да и разговоры старались вести серьезные и добрые.  Обязательным элементом праздника является молитва.  Для многих праздников предназначались строго определенные ритуальные блюда, и часто их готовили только раз в году. Заранее знали и ждали, когда на столе будут фаршированный поросенок, гусь или индейка, медовый или маковый пирог, пышные и румяные блины, крашеные яйца и кулич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http://img-fotki.yandex.ru/get/3509/swirelka.21/0_29f64_dc55dd10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2565360"/>
            <a:ext cx="5977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im2-tub-ru.yandex.net/i?id=46487969-15-72&amp;n=17"/>
          <p:cNvPicPr/>
          <p:nvPr/>
        </p:nvPicPr>
        <p:blipFill>
          <a:blip r:embed="rId4"/>
          <a:stretch/>
        </p:blipFill>
        <p:spPr>
          <a:xfrm>
            <a:off x="2050920" y="549360"/>
            <a:ext cx="5616720" cy="324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http://img11.nnm.ru/7/5/4/8/3/d632aabfc2f44bd2c2b7a8eaa68_pre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933720"/>
            <a:ext cx="2016360" cy="2719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http://im6-tub-ru.yandex.net/i?id=275927320-63-72"/>
          <p:cNvPicPr/>
          <p:nvPr/>
        </p:nvPicPr>
        <p:blipFill>
          <a:blip r:embed="rId7"/>
          <a:stretch/>
        </p:blipFill>
        <p:spPr>
          <a:xfrm>
            <a:off x="5292720" y="393372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http://vasi.net/uploads/posts/2008-05/mthumbs/1212071084_2201_08_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03640" y="3933720"/>
            <a:ext cx="2016000" cy="2719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http://im2-tub-ru.yandex.net/i?id=133821087-03-72"/>
          <p:cNvPicPr/>
          <p:nvPr/>
        </p:nvPicPr>
        <p:blipFill>
          <a:blip r:embed="rId10"/>
          <a:stretch/>
        </p:blipFill>
        <p:spPr>
          <a:xfrm>
            <a:off x="7308720" y="3933720"/>
            <a:ext cx="1656000" cy="2664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"/>
          <p:cNvSpPr/>
          <p:nvPr/>
        </p:nvSpPr>
        <p:spPr>
          <a:xfrm>
            <a:off x="320364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кух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042920" y="62064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й чаепития  на Руси обычай древний 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 гость – так привеча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й ему целеб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ный, крепкий 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piromagazin.ru/img/fed/1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620640"/>
            <a:ext cx="3252960" cy="208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260993858_chastushki-russkiy-folklor-v-tuve"/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епитие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80" descr="http://i066.radikal.ru/1006/6e/e87271179c10.jpg"/>
          <p:cNvPicPr/>
          <p:nvPr/>
        </p:nvPicPr>
        <p:blipFill>
          <a:blip r:embed="rId6"/>
          <a:stretch/>
        </p:blipFill>
        <p:spPr>
          <a:xfrm>
            <a:off x="1476360" y="2852640"/>
            <a:ext cx="5759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4"/>
          <p:cNvSpPr/>
          <p:nvPr/>
        </p:nvSpPr>
        <p:spPr>
          <a:xfrm>
            <a:off x="1042920" y="692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народных промыслов – это связующее звено прошедшего с настоящим, настоящего с бу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 земля российская разнообразными народными промыслами: гжель, хохлома, жостово, русская матрешка, палех, тульские самовары, вологодские кружева, русская финифть, уральские промыслы, , павловские посадские платки 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2476800" y="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ые промыс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ttp://img-fotki.yandex.ru/get/5402/kovlevelen.0/0_31adb_28e571bd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42100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2426040" y="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1042920" y="341640"/>
            <a:ext cx="741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, приуроченные к крупным праздникам, включали большое количество разных произведений народного искусства (Фольклор): старинные лирические песни, свадебные, хороводные, календарно-обрядовые, плясовые; однако в повседневной жизни преобладали частушки,песни, приговоры, хороводы, игры, танцы, драматические сценки, маски, народные костюмы, своеобразный реквизит, устное народное творчество-  пестушки, загадки, сказки, поговорки и многое друг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http://900igr.net/datai/istorija/Russkij-narod/0006-012-Samo-slovo-folklor-prishlo-k-nam-iz-dalekoj-Anglii-i-perevoditsj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1337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http://mith.ru/folk/folk0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206064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://im6-tub-ru.yandex.net/i?id=120778090-22-72"/>
          <p:cNvPicPr/>
          <p:nvPr/>
        </p:nvPicPr>
        <p:blipFill>
          <a:blip r:embed="rId8"/>
          <a:stretch/>
        </p:blipFill>
        <p:spPr>
          <a:xfrm>
            <a:off x="277164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072800" y="0"/>
            <a:ext cx="77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clubtrade.ru/images/artcats/625/photo/1_clubtrade_dk_(10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549360"/>
            <a:ext cx="3457800" cy="3095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http://www.lipetskinfo.ru/photo/theme/033/142/ma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9640" y="549360"/>
            <a:ext cx="3710160" cy="31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" descr="http://im8-tub-ru.yandex.net/i?id=233145215-61-72"/>
          <p:cNvPicPr/>
          <p:nvPr/>
        </p:nvPicPr>
        <p:blipFill>
          <a:blip r:embed="rId8"/>
          <a:stretch/>
        </p:blipFill>
        <p:spPr>
          <a:xfrm>
            <a:off x="1116000" y="386064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7"/>
          <p:cNvSpPr/>
          <p:nvPr/>
        </p:nvSpPr>
        <p:spPr>
          <a:xfrm>
            <a:off x="4140360" y="3716280"/>
            <a:ext cx="48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нструменты в фольклоре используются обычно в быту пастухов или для некоторых видов танцев и пе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нные инструменты - балалайка, гудок, духовые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ые инструменты –дудка, рожок, жалейка   военные трубы, охотничьи рога, буб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900000" y="476280"/>
            <a:ext cx="80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ин дом на Руси не обходился без народных оберегов. Русский народ верил, что обереги надёжно охраняют от болезней, «дурного глаза», стихийных бедствий и различных напастей,  для защиты дома и его обитателей от злых духов, болезней, для привлечения домового и его задабривания. Собираясь в дальнюю дорогу, человек брал с собой оберег, чтобы вложенные в него добро и любовь согревали душу и напоминали о родном доме и семь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еги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47_r_venichek"/>
          <p:cNvPicPr/>
          <p:nvPr/>
        </p:nvPicPr>
        <p:blipFill>
          <a:blip r:embed="rId4"/>
          <a:stretch/>
        </p:blipFill>
        <p:spPr>
          <a:xfrm>
            <a:off x="6588000" y="2565360"/>
            <a:ext cx="2229120" cy="3743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884372-5e77e71b14f95a5e"/>
          <p:cNvPicPr/>
          <p:nvPr/>
        </p:nvPicPr>
        <p:blipFill>
          <a:blip r:embed="rId5"/>
          <a:stretch/>
        </p:blipFill>
        <p:spPr>
          <a:xfrm>
            <a:off x="3780000" y="2565360"/>
            <a:ext cx="2571480" cy="3816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2c-foto.ru/5ff078f9436028dbdf43147ec817617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2565360"/>
            <a:ext cx="2305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4"/>
          <p:cNvSpPr/>
          <p:nvPr/>
        </p:nvSpPr>
        <p:spPr>
          <a:xfrm>
            <a:off x="248436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1042920" y="47628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кукла является исторической частицей культуры народов России. Кукла, как игровой образ, символизирует человека, его эпоху, историю культуры народов (русские обряды и обычаи). Тряпичные куклы выполнялись в народных традициях с применением старинных техник и технологий. Народная кукла с давних времён делалась из веточек и лоскутиков, сухой травы. 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553" descr="Русская народна кукла"/>
          <p:cNvPicPr/>
          <p:nvPr/>
        </p:nvPicPr>
        <p:blipFill>
          <a:blip r:embed="rId4"/>
          <a:stretch/>
        </p:blipFill>
        <p:spPr>
          <a:xfrm>
            <a:off x="971640" y="249228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76" descr="Берегиня"/>
          <p:cNvPicPr/>
          <p:nvPr/>
        </p:nvPicPr>
        <p:blipFill>
          <a:blip r:embed="rId5"/>
          <a:stretch/>
        </p:blipFill>
        <p:spPr>
          <a:xfrm>
            <a:off x="3059280" y="249228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78" descr="http://img-fotki.yandex.ru/get/6005/zaryanka-tlt.6/0_5a158_871afc8a_M"/>
          <p:cNvPicPr/>
          <p:nvPr/>
        </p:nvPicPr>
        <p:blipFill>
          <a:blip r:embed="rId6"/>
          <a:stretch/>
        </p:blipFill>
        <p:spPr>
          <a:xfrm>
            <a:off x="5219640" y="2492280"/>
            <a:ext cx="165600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80" descr="Капустка"/>
          <p:cNvPicPr/>
          <p:nvPr/>
        </p:nvPicPr>
        <p:blipFill>
          <a:blip r:embed="rId7"/>
          <a:stretch/>
        </p:blipFill>
        <p:spPr>
          <a:xfrm>
            <a:off x="7236000" y="2492280"/>
            <a:ext cx="1692000" cy="20163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588" descr="Коляда"/>
          <p:cNvPicPr/>
          <p:nvPr/>
        </p:nvPicPr>
        <p:blipFill>
          <a:blip r:embed="rId8"/>
          <a:stretch/>
        </p:blipFill>
        <p:spPr>
          <a:xfrm>
            <a:off x="971640" y="465300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Неразлучники"/>
          <p:cNvPicPr/>
          <p:nvPr/>
        </p:nvPicPr>
        <p:blipFill>
          <a:blip r:embed="rId9"/>
          <a:stretch/>
        </p:blipFill>
        <p:spPr>
          <a:xfrm>
            <a:off x="3059280" y="4653000"/>
            <a:ext cx="194436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593" descr="Птица-Радость"/>
          <p:cNvPicPr/>
          <p:nvPr/>
        </p:nvPicPr>
        <p:blipFill>
          <a:blip r:embed="rId10"/>
          <a:stretch/>
        </p:blipFill>
        <p:spPr>
          <a:xfrm>
            <a:off x="7380360" y="472428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04" descr="Травница"/>
          <p:cNvPicPr/>
          <p:nvPr/>
        </p:nvPicPr>
        <p:blipFill>
          <a:blip r:embed="rId11"/>
          <a:stretch/>
        </p:blipFill>
        <p:spPr>
          <a:xfrm>
            <a:off x="5435640" y="4653000"/>
            <a:ext cx="1512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790720" y="180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усский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00000" y="562680"/>
            <a:ext cx="82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енная область расселения русского народа- Восточно-Европейская равнина. По мере освоения земель русские находились в тесном контакте с другими народами. Благодаря этому великое географическое и историческое пространство , объединяемое понятием Русь и Ро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является многонациональным государством, на территории которого проживает более 180 народов, важность этого факта отображена в преамбуле к Конституции РФ. Но по критериям Организации Объединённых Наций, Россия является мононациональным государством, так как более 67 % её населения приходится на одну национальность, при этом в официальных документах ООН Россия — многонациональн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im4-tub-ru.yandex.net/i?id=45978915-03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95640" y="3357720"/>
            <a:ext cx="5976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"/>
          <p:cNvSpPr/>
          <p:nvPr/>
        </p:nvSpPr>
        <p:spPr>
          <a:xfrm>
            <a:off x="1116000" y="476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а -  оберег  и  дошедшая до наших дней традиция росписи птичьих яиц пчелиным воском и красками. Раньше писанки сопровождали человека в течении всей его жизни - от рождения, до смерти, оберегая его от зла. Узоры, которые наносились на писанку не случайны - каждый имеет своё значение. Узоры писанок, цветовые сочетания передавались из поколение в поколение, сохраняя неизменными. Считалось, что писанка придает силу всему, что рождает новое - земле, человеку, животным, растениям. Приносит красоту, здоровье и достат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3501000" y="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а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567" descr="http://img-fotki.yandex.ru/get/5822/113913574.f/0_65f0b_a9b4ed90_L"/>
          <p:cNvPicPr/>
          <p:nvPr/>
        </p:nvPicPr>
        <p:blipFill>
          <a:blip r:embed="rId4"/>
          <a:stretch/>
        </p:blipFill>
        <p:spPr>
          <a:xfrm>
            <a:off x="6156360" y="2637000"/>
            <a:ext cx="1571760" cy="230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http://novostey.com/i4/2009/07/30/6a6252360d917f4211e099fdf3ea8441.JPE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3213000"/>
            <a:ext cx="2087640" cy="2737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http://im2-tub-ru.yandex.net/i?id=383293974-20-72"/>
          <p:cNvPicPr/>
          <p:nvPr/>
        </p:nvPicPr>
        <p:blipFill>
          <a:blip r:embed="rId7"/>
          <a:stretch/>
        </p:blipFill>
        <p:spPr>
          <a:xfrm>
            <a:off x="3564000" y="3141720"/>
            <a:ext cx="1800000" cy="2808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http://im5-tub-ru.yandex.net/i?id=133141747-54-72"/>
          <p:cNvPicPr/>
          <p:nvPr/>
        </p:nvPicPr>
        <p:blipFill>
          <a:blip r:embed="rId8"/>
          <a:stretch/>
        </p:blipFill>
        <p:spPr>
          <a:xfrm>
            <a:off x="6875640" y="5157720"/>
            <a:ext cx="178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5"/>
          <p:cNvSpPr/>
          <p:nvPr/>
        </p:nvSpPr>
        <p:spPr>
          <a:xfrm>
            <a:off x="3562920" y="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"/>
          <p:cNvSpPr/>
          <p:nvPr/>
        </p:nvSpPr>
        <p:spPr>
          <a:xfrm>
            <a:off x="1042920" y="907920"/>
            <a:ext cx="40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в домах и дворах. На Руси верили, что ни один дом не стоит без домового. От уважительного отношения к домовому напрямую зависело благополучие дома. При переезде на новое место домовой обязательно звался с собой. Его перевозили в лапте, на хлебной лопатке или на венике, приговаривая при этом «вот те сани, поезжай с нами  Ежели в котором дому Домовой полюбит хозяина, то кормит и холит его лошадей, о всём печётся, и у самого хозяина бороду плетёт в косы. Чей же дом не полюбит, там разоряет хозяина в корень, переводя у него скот, беспокоя его по ночам, и ломая всё в до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http://im3-tub-ru.yandex.net/i?id=102206690-20-72"/>
          <p:cNvPicPr/>
          <p:nvPr/>
        </p:nvPicPr>
        <p:blipFill>
          <a:blip r:embed="rId4"/>
          <a:stretch/>
        </p:blipFill>
        <p:spPr>
          <a:xfrm>
            <a:off x="5292720" y="692280"/>
            <a:ext cx="36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1116000" y="300816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дставить семью в виде дерева, то крона – это вы, наше будущ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что радует глаз  ветви – ваши родите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линии его потом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- в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ни –  родоначальник, это что держит крону, это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www.stihi.ru/pics/2012/07/28/339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836640"/>
            <a:ext cx="3816360" cy="554508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782080" y="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енеалогическое древ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971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ьное древо – схематическое представление родственных связей в виде дерева .Генеалогическим деревом также называют представление родословных в виде восходящих или нисходящих генеалогически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im3-tub-ru.yandex.net/i?id=520387936-15-72"/>
          <p:cNvPicPr/>
          <p:nvPr/>
        </p:nvPicPr>
        <p:blipFill>
          <a:blip r:embed="rId3"/>
          <a:stretch/>
        </p:blipFill>
        <p:spPr>
          <a:xfrm>
            <a:off x="2627280" y="2205000"/>
            <a:ext cx="12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http://im4-tub-ru.yandex.net/i?id=250978463-58-72"/>
          <p:cNvPicPr/>
          <p:nvPr/>
        </p:nvPicPr>
        <p:blipFill>
          <a:blip r:embed="rId4"/>
          <a:stretch/>
        </p:blipFill>
        <p:spPr>
          <a:xfrm>
            <a:off x="4140360" y="2205000"/>
            <a:ext cx="1295280" cy="208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2" descr="http://im4-tub-ru.yandex.net/i?id=86326689-42-72"/>
          <p:cNvPicPr/>
          <p:nvPr/>
        </p:nvPicPr>
        <p:blipFill>
          <a:blip r:embed="rId5"/>
          <a:stretch/>
        </p:blipFill>
        <p:spPr>
          <a:xfrm>
            <a:off x="4140360" y="4508640"/>
            <a:ext cx="1368360" cy="22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0" descr="http://im6-tub-ru.yandex.net/i?id=373905463-27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220500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6" descr="http://www.kmrz.ru/catimg/34/344843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51640" y="4508640"/>
            <a:ext cx="1368360" cy="2089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ttp://im4-tub-ru.yandex.net/i?id=292712538-60-72"/>
          <p:cNvPicPr/>
          <p:nvPr/>
        </p:nvPicPr>
        <p:blipFill>
          <a:blip r:embed="rId10"/>
          <a:stretch/>
        </p:blipFill>
        <p:spPr>
          <a:xfrm>
            <a:off x="5724360" y="4508640"/>
            <a:ext cx="1440000" cy="2160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http://im4-tub-ru.yandex.net/i?id=497938428-35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71640" y="4437000"/>
            <a:ext cx="1439640" cy="2305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8" descr="http://im5-tub-ru.yandex.net/i?id=158402802-54-72&amp;n=21"/>
          <p:cNvPicPr/>
          <p:nvPr/>
        </p:nvPicPr>
        <p:blipFill>
          <a:blip r:embed="rId13"/>
          <a:stretch/>
        </p:blipFill>
        <p:spPr>
          <a:xfrm>
            <a:off x="2556000" y="4508640"/>
            <a:ext cx="1368360" cy="2219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http://im3-tub-ru.yandex.net/i?id=203152549-12-72&amp;n=21"/>
          <p:cNvPicPr/>
          <p:nvPr/>
        </p:nvPicPr>
        <p:blipFill>
          <a:blip r:embed="rId14"/>
          <a:stretch/>
        </p:blipFill>
        <p:spPr>
          <a:xfrm>
            <a:off x="971640" y="2133720"/>
            <a:ext cx="1268280" cy="2087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http://im8-tub-ru.yandex.net/i?id=535442434-30-72"/>
          <p:cNvPicPr/>
          <p:nvPr/>
        </p:nvPicPr>
        <p:blipFill>
          <a:blip r:embed="rId15"/>
          <a:stretch/>
        </p:blipFill>
        <p:spPr>
          <a:xfrm>
            <a:off x="7380360" y="2205000"/>
            <a:ext cx="1450800" cy="208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4" descr="http://mediatekaioc.narod.ru/images/p95_prazdnikiiobyichai.jpg"/>
          <p:cNvPicPr/>
          <p:nvPr/>
        </p:nvPicPr>
        <p:blipFill>
          <a:blip r:embed="rId16"/>
          <a:stretch/>
        </p:blipFill>
        <p:spPr>
          <a:xfrm>
            <a:off x="7451640" y="189000"/>
            <a:ext cx="1460520" cy="1727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0" descr="http://libgmb.ru/images/kukli_i_knigi/IMG_0009.jpg"/>
          <p:cNvPicPr/>
          <p:nvPr/>
        </p:nvPicPr>
        <p:blipFill>
          <a:blip r:embed="rId17"/>
          <a:stretch/>
        </p:blipFill>
        <p:spPr>
          <a:xfrm>
            <a:off x="6084720" y="189000"/>
            <a:ext cx="1195560" cy="1727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im2-tub-ru.yandex.net/i?id=453794345-07-72"/>
          <p:cNvPicPr/>
          <p:nvPr/>
        </p:nvPicPr>
        <p:blipFill>
          <a:blip r:embed="rId18"/>
          <a:stretch/>
        </p:blipFill>
        <p:spPr>
          <a:xfrm>
            <a:off x="3995640" y="18900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18"/>
          <p:cNvSpPr/>
          <p:nvPr/>
        </p:nvSpPr>
        <p:spPr>
          <a:xfrm>
            <a:off x="1121760" y="33336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971640" y="720"/>
            <a:ext cx="8172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циональная культура 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, получить духовную поддержку и жизненную опор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талит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каждый народ имеет свои уникальные свойства менталитета, присущие только ему, в зависимости от ментальности нации строятся традиции, обряды, обычаи  и другие составляющие культуры. Менталитет русского народа, безусловно, качественно отличается от других национальностей, в первую очередь особым гостеприимством, широтой традиций и другими особен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42920" y="3659040"/>
            <a:ext cx="7705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радиция», «обычай», «обряд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жнейшие элементы культуры каждого нар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эти слова всем знакомы, вызывают в памяти определённые ассоциации и обычно бывают связаны с воспоминаниями о той, «ушедшей Руси». Неоценимая ценность традиций, обычаев и обрядов в том, что они свято хранят и воспроизводят духовный облик того или иного народа, его уникальные особ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кумулируя  в себе весь накопленный культурный опыт многих поколений людей, привносят в нашу жизнь всё самое лучшее из духовного наследия народ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агодаря традициям, обычаям и обрядам народы наиболее всего и отличается один от другого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9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zhdemgostey.ru/wp-content/uploads/2012/01/gosty.jpg"/>
          <p:cNvPicPr/>
          <p:nvPr/>
        </p:nvPicPr>
        <p:blipFill>
          <a:blip r:embed="rId4"/>
          <a:stretch/>
        </p:blipFill>
        <p:spPr>
          <a:xfrm>
            <a:off x="1692360" y="2637000"/>
            <a:ext cx="6408720" cy="403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900000" y="180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, обычай, обря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нятия тождественные в общих своих чертах, но имеющие свои характерные особенности и признаки</a:t>
            </a:r>
            <a:r>
              <a:rPr b="0" lang="ru-RU" sz="9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1547640" y="6206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332000" y="126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ыча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ет человеку более детальные поведение и поступки в определённых ситуация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имволическое, но всякое вообще повторяющееся и установленное традицией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рукопожатия при встрече близких друзей или родственнико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и вечерняя молитва Богу,  вредными обычай-  угощать спиртным при встрече родственников, друзей и знакомых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im5-tub-ru.yandex.net/i?id=84543357-1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91628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ttp://www.zhaba.ru/_pics/ordjt4e0wnv7y5x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997360"/>
            <a:ext cx="3889440" cy="3600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124000" y="4809240"/>
            <a:ext cx="266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поди, прошу: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щити всех тех, кого люблю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х родных моих и всех друз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лебом накорми и обогрей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рудный час им Ангела пош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 сберёг их на краю пути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й им счастья, радость и покой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грехи прости и успокой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 любить их и прощать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елай так, чтоб те, к то дорог м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остили дольше на Земле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1042920" y="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изирует форму выражения общепринятого в той или иной местности поведения в особо яркие моменты жизни человек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обряды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й,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щения, погреб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ряды считались столь же необходимым компонентом жизни, как и празд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овая культур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есть порядок во всех проявлениях общественной жизни к данному случаю, обрядов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, этический кодекс, регулирующий коллективные настроения и эмоц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6-tub-ru.yandex.net/i?id=261442159-0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421000"/>
            <a:ext cx="374328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im7-tub-ru.yandex.net/i?id=532937725-54-72"/>
          <p:cNvPicPr/>
          <p:nvPr/>
        </p:nvPicPr>
        <p:blipFill>
          <a:blip r:embed="rId6"/>
          <a:stretch/>
        </p:blipFill>
        <p:spPr>
          <a:xfrm>
            <a:off x="5076720" y="306864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5-tub-ru.yandex.net/i?id=250097992-01-72"/>
          <p:cNvPicPr/>
          <p:nvPr/>
        </p:nvPicPr>
        <p:blipFill>
          <a:blip r:embed="rId4"/>
          <a:stretch/>
        </p:blipFill>
        <p:spPr>
          <a:xfrm>
            <a:off x="5940360" y="260280"/>
            <a:ext cx="2952720" cy="273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http://slavs.org.ua/img/calendar_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2421000"/>
            <a:ext cx="4680000" cy="4221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1042920" y="18900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й календар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 назывался месяцесловом. Месяцеслов охватывал весь год крестьянской жизни, «описывая» его  по дням месяц за месяцем, где каждому дню соответствовали свои праздники или будни, обычаи и суеверия, традиции и обряды, природные приметы и 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724360" y="3429000"/>
            <a:ext cx="341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й календарь является своего рода энциклопедией крестьянского быта.  Он включает в себя знание  природы,  сельскохозяйственный опыт, обряды, нормы общественной жизни и является слиянием языческого и христианского начал, народным православием.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DMX</cp:lastModifiedBy>
  <dcterms:modified xsi:type="dcterms:W3CDTF">2013-10-18T14:08:48Z</dcterms:modified>
  <cp:revision>141</cp:revision>
  <dc:subject/>
  <dc:title>Слайд 1</dc:title>
</cp:coreProperties>
</file>