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5C58-9257-45E8-BA6C-22599BBE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5020-9C32-409D-B27A-CAE65F6F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56D-0C79-4D68-8B74-AAF6159E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ECA-C16B-400B-97CB-CB367D1F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D2C6-789A-4113-ADC2-5214216D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08E-82B8-46CD-986D-0E2DAE6A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BAB-4F02-454E-9418-E182F593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0981-BE4B-48E5-B5A8-4F156E5F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A05-0454-4235-A320-7274C87B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EF1E-5335-4A81-9D7D-41FADE80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3F9-02CF-4008-A93B-FB2281E4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5C4-F056-4988-8CC9-5D6DA497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07A3-06BF-4A94-82C0-903DDDE5F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6600" y="0"/>
            <a:ext cx="90774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идея\Desktop\b5474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идея\Desktop\14260126085096.jpg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 мы…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идея\Desktop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 страницу 25-27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4284" t="5714" r="60004" b="5714"/>
          <a:stretch/>
        </p:blipFill>
        <p:spPr>
          <a:xfrm rot="1728000">
            <a:off x="6476760" y="1828800"/>
            <a:ext cx="1371600" cy="4724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39999" t="5714" r="37146" b="5714"/>
          <a:stretch/>
        </p:blipFill>
        <p:spPr>
          <a:xfrm rot="19779600">
            <a:off x="1603080" y="781200"/>
            <a:ext cx="1474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7T13:57:42Z</dcterms:created>
  <dc:creator>1</dc:creator>
  <dc:description/>
  <dc:language>en-US</dc:language>
  <cp:lastModifiedBy>1</cp:lastModifiedBy>
  <dcterms:modified xsi:type="dcterms:W3CDTF">2019-09-17T14:10:1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