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A41-06B9-40B3-A859-D1F9199A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D55-79FE-444D-9BDA-2707F8F2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BA6-DAEC-4B29-AF7A-63062522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2A5-8E0E-427F-8E20-B044E53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3367-DAFC-40A9-95FB-5E3C3891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1C5B-5277-467B-BCAB-C6BFD41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4C84-7E29-4F80-BAAE-6DA6A17C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A15A-A77D-46BB-AE8C-7D86DE13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E242-772E-401A-98E1-9F4DD81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DDE6-AAFF-498B-842A-4DAC6E91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2A3-2125-423D-BC97-3167043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B4D-F123-45A1-A754-C953289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4181-2134-48EB-BF37-7EFF553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B715-B6FA-47E0-8B72-B20D8D2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1BBB-A367-4962-85B6-6E3D764E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7A51-3ED9-46AA-BD97-F248A6EA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D97-88EE-4E2C-8649-0368A338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7F7A-2198-44A6-B7D3-1E1E394B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4E8B-75DC-42A8-AE00-480F04AB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FE9A-35FF-4769-A648-F8D0B6E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4014-2D21-46C2-8A6F-B559BB9F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5E75-7C61-4BCA-A347-407765F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E7C-F796-4345-8394-73D3135A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F463-8A2C-4CF1-B752-FE6F0A87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9D7B-9A4E-40C4-9D2A-3D86BAC4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39C5-3491-482D-81B9-E07AB88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75F4-DC9A-49D9-8DD9-7F455E80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5034-CCA0-435C-8C1D-1823A94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3BBF-0F8D-4724-815B-104CE116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53F9-FAEE-47A9-8B51-D5FCCFF1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2235F-AA08-49C2-A45E-C8B1671F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70A8-F81E-44B1-B0BD-FC46A59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099B-579D-4401-B5AB-AF03D194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BEC-F3EC-478F-9525-F79CD0DF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F972D-95B4-4D63-9992-5E43EAF4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7722-BA63-4732-B395-707FEAB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68A0-C4F1-4C27-9895-3EFEA5B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6E3A5-23E0-45D3-9CAB-2F34887C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617C3-6422-437B-870C-A23E2972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F09E-255C-44A5-8CD4-FD9ABA5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61EEC-7A4D-4F89-9F54-2664CE53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FED0-21FB-452B-B7C6-F60B91E2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ED8D-2BA5-4838-A191-27491E98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8819-E44C-4A82-81FB-B5435EE6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F88-44C4-4304-A0BA-70B74B6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E2D7-5C34-4B1C-B958-36B02900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E5EBB-44A9-4515-837F-C604DDF0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1EEAF-9C3D-460E-BC73-97A4EA42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3109-3AA5-4A5C-8D5C-BD9E44D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E64E-75C2-47B6-AF56-29C9DA7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080A8-060C-40B4-97B2-06660152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8A39-85EF-414C-B32B-E80E27C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0EDC-2647-427E-A44D-FB187C7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7988-E41D-4117-A271-E7A8A082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61EB-25DF-43F1-9FD3-3C78D558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B3E-4F49-429E-8F56-E4A6352B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69502-2816-44BE-8D5E-66B82064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56FA-754D-4E95-8130-69EADE56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52563-FB59-43AA-8F8F-84180962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6CB0-9B90-4E4B-8738-C4B7F72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EBE8-A8C6-4D3E-8F43-DB58B3AD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4C3D8-EDE1-4B95-8E3E-2AF1507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52B6-6B55-492E-A261-CB723179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F1364-B310-402A-83DC-268E83E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3C9C-5F55-4EDB-A4FA-B9D4125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F8E8-8B75-4112-9314-D05F9B63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2B8-BDFB-4A9E-B068-9D6A9AC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6C0A-1A22-4FB2-9670-B8DFD3FB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40C4-F0EE-4409-A05C-E4B7E649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762E-2099-487E-B62F-65CBFED8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0BF01-7819-4CFB-A4DD-26471411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AB47-4B38-48A1-9AC4-E236B00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C8680-5A09-448F-A2D5-BCBC4F07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8F079-BDF1-45E6-A642-B41579BF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A3D2C-784A-4E66-9A5F-CAEACB2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B830E-31F9-485E-BC50-06B471DB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D1BA6-BAF1-4886-A5DE-6DF9BCF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3F6-9B04-4EC8-AB7D-6653FCA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76D39-C0C9-4E7E-B4F2-D611236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E9073-2EFB-45A6-9FFE-7120AD75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4E0F-861D-4F3D-98F6-E4C0D75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4114-CC77-4C57-A731-5FAFB98B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5704-2CB1-4603-B39A-F6FC4C5E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F3C1A-A007-40C9-8359-0ABFCA0C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460CD-8269-4596-8C77-868FD8A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18CA6-11AB-4234-9A82-45D69E07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BB22-7FEB-48DD-B65B-0D1CDF7B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2F489-7395-4197-AEC2-24695593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77E-FF44-4C04-A5CA-998E2AD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D755-BF80-4324-AC24-900A039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0908-26B5-427D-AA91-B40020C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E66AF-AE7B-498A-96DD-82199E8E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98E48-4AA0-4339-9F68-C7B8C97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14C00-5B9B-43AD-A067-85EFBC4F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C388F-248D-48A3-B524-FF28EFC1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3581-EB21-405A-9725-3E4848EB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F47-3BD8-4CEE-82A9-B46315035A7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2B30-B4C5-4867-972A-ABEBD262C71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EB17-CB2A-41A9-B4B9-908627339F8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5FE7-48BE-426E-A9E2-253919B3007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3412-2D92-492D-86AE-E42ADB52E2C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CEE-5B2D-4758-A711-A0CFCEB3AFC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EA6-97DB-4513-835A-6A3740ED772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AD13-348F-4A6B-B5CE-EC1103AEFD5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907920" y="4237200"/>
            <a:ext cx="7785360" cy="20905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четные награды за воинские отличия и заслуги в бою и в военной служб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ерой Российской Федерац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ерой Российской Федерации— высшее почётное звание в Российской Федерации, знак особого отличия; присваивается за заслуги перед государством и народом, связанные с совершением геройского подвига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Звание было учреждено Законом Российской Федерации «Об установлении звания Герой Российской Федерации и учреждении знака особого отличия — Медали «Золотая Звезда» от 20 марта 1992 года и введено в действие в тот же день согласно постановлению Верховного Совета РФ. Звание Героя Российской Федерации присваивается Президентом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7" descr="100px-Hero_of_Russia_Gold_Star"/>
          <p:cNvPicPr/>
          <p:nvPr/>
        </p:nvPicPr>
        <p:blipFill>
          <a:blip r:embed="rId1"/>
          <a:stretch/>
        </p:blipFill>
        <p:spPr>
          <a:xfrm>
            <a:off x="4095720" y="4167360"/>
            <a:ext cx="9525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Удостоенные звания Герой Российской Федерац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реди удостоенных звания — лётчики-космонавты Сергей Крикалёв (медаль «Золотая Звезда» №1)[1], Геннадий Падалка, Валерий Поляков, лётчики-испытатели, генералы Владимир Шаманов, Геннадий Трошев, Виктор Казанцев, Сергей Шойгу, спортсмены Любовь Егорова, Александр Карелин, Лариса Лазутина, политики Ахмат Кадыров, Рамзан Кадыр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ущественную часть Героев России составляют участники Великой Отечественной войны, по тем или иным причинам не получившие аналогичное звание ранее. Среди них и единственная женщина — пилот-штурмовик Лидия Ивановна Шулайкина, погибшие в 1945 году лётчики Виктор Носов и Фёдор Дорофее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ыре Героя России являются одновременно Героями Советского Союза: С. К. Крикалёв, В. В. Поляков, полковник Н. С. Майданов, профессор А. Н. Чилингаров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бщее число награждённых (по состоянию на март 2007 года) составило 876 человек, из них 408 награждены посмертно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емного о истории!!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же в античную эпоху появилась стройная система воинских наград. Так, римские воины, отличившиеся в битве и проявившие особую храбрость в бою, награждались почетным знаком в виде венка или короны, которые носили на одежде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среднем веке в Европе Появился новый вид знаков отличия, получивший со временем название орден. Образовались понятия знаки ордена, которые включали в себя крест и звезду. В эпоху крестовых походов на Восток возникли полувоенные, полумонашеские организации-ордена(Ливонский, Тевтонский, Тамплиеров и т.д.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рден святого Андрея Первозванного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 России первый орден появился в самом конце 18 века.В 1699 году Петром первым был учрежден орден Святого Андрея Первозванного  с девизом «За веру и верность»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Знак ордена- крест особой формы в виде буквы «Х» с изображением фигуры Святого Андрея Первозванного, который носили на  широкой голубой ленте через правое плечо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4" name="Picture 8" descr="416_0"/>
          <p:cNvPicPr/>
          <p:nvPr/>
        </p:nvPicPr>
        <p:blipFill>
          <a:blip r:embed="rId1"/>
          <a:stretch/>
        </p:blipFill>
        <p:spPr>
          <a:xfrm>
            <a:off x="3571920" y="4114800"/>
            <a:ext cx="2000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рден Святой Екатерины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1713  году Пётр 1 в честь достойного поведения своей супруги Екатерины Алексеевны  во время неудачного для него Прутского похода 1711 года учредил орден по имени мученицы Святой Екатерины. Первоначально он назывался орденом Освобождения и предназначался только Екатерине. В том походе русская армия была окружена турецким войском, и Екатерина по легенде пожертвовала все свои драгоценности на подкуп турецкого командующего Мехмед-паши, в результате чего русские смогли заключить перемирие и вырваться. Екатерина Алексеевна получила знаки из рук государя 24 ноября 1714 года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7" name="Picture 7" descr="21600404_685pxSt_Ekaterina_Orden_both_sides"/>
          <p:cNvPicPr/>
          <p:nvPr/>
        </p:nvPicPr>
        <p:blipFill>
          <a:blip r:embed="rId1"/>
          <a:stretch/>
        </p:blipFill>
        <p:spPr>
          <a:xfrm>
            <a:off x="3438360" y="4114800"/>
            <a:ext cx="226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рден Святой Анн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rbel"/>
              </a:rPr>
              <a:t>Орден Святой Анны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— орден, учреждённый в 1735 году как частная награда и в 1797 году введённый императором Павлом I в иерархию государственных наград Российской империи для отличия широкого круга государственных чиновников и военных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татут ордена утверждён в 1829 году. Имел 4 степени, низшая 4-я степень предназначалась для награждения только за боевые заслуги (самый младший офицерский орден). По старшинству орден стоял на ступень ниже ордена Святого Владимира и был самым младшим в иерархии орденов Российской империи до 1831 года. С 1831 года в иерархию государственных наград был введен орден Святого Станислава, ставший на ступень ниже по старшинству ордена Св. Анны. Всего орденом Св. Анны награждены сотни тысяч человек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0" name="Picture 7" descr="jhlty"/>
          <p:cNvPicPr/>
          <p:nvPr/>
        </p:nvPicPr>
        <p:blipFill>
          <a:blip r:embed="rId1"/>
          <a:stretch/>
        </p:blipFill>
        <p:spPr>
          <a:xfrm>
            <a:off x="3703680" y="4114800"/>
            <a:ext cx="1736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Орден «За заслуги перед Отечеством»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Орден «За заслуги перед Отечеством»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предназначен для награждения граждан за особо выдающиеся заслуги перед государством, связанные с развитием российской государственности, достижениями в труде, укреплением мира, дружбы и сотрудничества между народами, за значительный вклад в дело защиты Отечества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Орден учреждён 2 марта 1994 года Указом Президента Российской Федерации № 442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3" name="Picture 7" descr="150px-Order_of_Services_to_the_Fatherland_1st"/>
          <p:cNvPicPr/>
          <p:nvPr/>
        </p:nvPicPr>
        <p:blipFill>
          <a:blip r:embed="rId1"/>
          <a:stretch/>
        </p:blipFill>
        <p:spPr>
          <a:xfrm>
            <a:off x="3857760" y="4376880"/>
            <a:ext cx="14284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рден Мужеств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rbel"/>
              </a:rPr>
              <a:t>Из Указа Президента Российской Федерации от 2 марта 1994 года 442 (в редакции Указа Президента Российской Федерации от 6 января 1999 года № 19)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Орденом Мужества награждаются граждане за самоотверженность, мужество и отвагу, проявленные при спасении людей, охране общественного порядка, в борьбе с преступностью, во время стихийных бедствий, пожаров, катастроф и других чрезвычайных обстоятельств, а также за смелые и решительные действия, совершенные при исполнении воинского, гражданского или служебного долга в условиях, сопряжённых с риском для жизни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Орден Мужества носится на левой стороне груди и при наличии других орденов Российской Федерации располагается после ордена «За заслуги перед Отечеством» IV степени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7" descr="150px-Order_of_Courage"/>
          <p:cNvPicPr/>
          <p:nvPr/>
        </p:nvPicPr>
        <p:blipFill>
          <a:blip r:embed="rId1"/>
          <a:stretch/>
        </p:blipFill>
        <p:spPr>
          <a:xfrm>
            <a:off x="4068720" y="4114800"/>
            <a:ext cx="1006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рден «За военные заслуги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Орден «За военные заслуги»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— государственная награда Российской Федерации. Орденом награждаются военнослужащие за образцовое исполнение воинского долга, за обеспечение обороноспособности Российской Федерации, за храбрость и отвагу. Одно из требований к награждённым — добросовестная служба в течение не менее 10 лет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Орден учреждён Указом Президента Российской Федерации от 2 марта 1994 года № 442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Носится на левой стороне груди. При наличии других орденов Российской Федерации располагается после ордена Мужества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7" descr="150px-OrderforMilitaryMerit"/>
          <p:cNvPicPr/>
          <p:nvPr/>
        </p:nvPicPr>
        <p:blipFill>
          <a:blip r:embed="rId1"/>
          <a:stretch/>
        </p:blipFill>
        <p:spPr>
          <a:xfrm>
            <a:off x="4343400" y="4641840"/>
            <a:ext cx="4572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рден жуков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Орден Жукова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— государственная награда Российской Федерации. Орден учреждён указом Президента Российской Федерации от 9 мая 1994 года № 930 для награждения лиц высшего офицерского состава за заслуги в разработке и проведении крупных военных операций, в том числе в период Великой Отечественной войны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иерархии государственных наград орден Жукова занимает место сразу после ордена «За заслуги перед Отечеством»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Указом Президента Российской Федерации № 413 от 25 апреля 1995 года состоялись первые 15 награждений орденом. Всего орденом Жукова награждены 100 человек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2" name="Picture 7" descr="150px-Order_of_Zhukov"/>
          <p:cNvPicPr/>
          <p:nvPr/>
        </p:nvPicPr>
        <p:blipFill>
          <a:blip r:embed="rId1"/>
          <a:stretch/>
        </p:blipFill>
        <p:spPr>
          <a:xfrm>
            <a:off x="3857760" y="43909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4:51:44Z</dcterms:created>
  <dc:creator>u1706</dc:creator>
  <dc:description/>
  <dc:language>en-US</dc:language>
  <cp:lastModifiedBy>Andrey</cp:lastModifiedBy>
  <dcterms:modified xsi:type="dcterms:W3CDTF">2009-01-05T15:50:12Z</dcterms:modified>
  <cp:revision>5</cp:revision>
  <dc:subject/>
  <dc:title>             Ордена</dc:title>
</cp:coreProperties>
</file>