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404-DA22-45FE-9BFE-D89B6C3B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97C-AACF-4B8F-AAAF-2DA1509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FC2-0394-462A-8D46-FF56293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EFF-DB11-40B9-B8EC-F3B93A7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3B9-3E30-4C27-875A-B121D0B6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989-C6A5-4796-9C09-8807EB7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F12-4DCC-49C1-8CE7-E376CD45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C17-5F90-4DBC-AD08-912B99A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AF9-E274-4215-82D6-5B003B8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2D8-3317-4D24-BC96-90833BA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15D-713F-44B5-A85A-CDF6C1E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E1C-58C5-49EA-BD1C-ACD4D3E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ED0E-FD57-4AA0-99FB-15CFDE55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нятие о воинской обязан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981000"/>
            <a:ext cx="36716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ойсках гражданской об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981000"/>
            <a:ext cx="47530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инженерно-технических  и дорожно-строительных воинских формированиях при федеральных органах исполнительно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31812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745080" cy="2759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2878200" cy="199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4653000"/>
            <a:ext cx="14493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907920"/>
            <a:ext cx="3600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внутренних войсках Министерства внутренних 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907920"/>
            <a:ext cx="43196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ойсках Федерального агентства правительственной связи и информации при президенте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29544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3241800" cy="240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35640" y="3789360"/>
            <a:ext cx="3384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981000"/>
            <a:ext cx="3492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лужбе внешней разве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4140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рганах Федеральной службы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241800" cy="23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3456000" cy="2435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867280" y="4076640"/>
            <a:ext cx="309564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716360" y="1125360"/>
            <a:ext cx="4176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рганах Федеральной пограничной служб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125360"/>
            <a:ext cx="396072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федеральных органах правительственной связи и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87640" cy="24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251928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19640" cy="3036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88000" y="1662120"/>
            <a:ext cx="4105080" cy="30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1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1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404640"/>
            <a:ext cx="54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резидент Российской федер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являясь Верховным Главнокомандующим Вооруженными Силами РФ, в случае агрессии или непосредственной угрозы агрессии против Российской Федерации, возникновения вооруженных конфликтов, направленных против РФ, объявляет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бщую или частичну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обилизац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вводит на территории страны или в отдельных ее местностях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енное 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тдает приказ о ведении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военных действ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1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1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Мобилиз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комплекс мероприятий по переводу на военное положение Вооруженных Сил, экономики государства и органов государственной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5080320" cy="339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87820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1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1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250"/>
                            </p:stCondLst>
                            <p:childTnLst>
                              <p:par>
                                <p:cTn id="4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25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40464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енное 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особый правовой режим в стране или отдельной её части, устанавливаемый решением высшего органа власти при исключительных обстоятельствах, выражается в расширении полномочий военных властей, возложение на граждан ряда дополнительных обязанностей и определённых ограни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527280" cy="2636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2953080" cy="219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76720" y="4761000"/>
            <a:ext cx="273672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1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1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431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310"/>
                            </p:stCondLst>
                            <p:childTnLst>
                              <p:par>
                                <p:cTn id="4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31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79280" y="40464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Воинская обязанность – это установленный законом долг граждан нести службу в рядах Вооруженных Сил и выполнять другие обязанности, связанные с обороной страны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Ожегов С. И. Словарь русского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6920" y="260280"/>
            <a:ext cx="57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гласно принятом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Федеральному зак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«Об обороне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т 31 мая 1996 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целях обороны, т.е. подготовки к вооруженной защите и защиты, устанавливается воинская обязанность граж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7644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374328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7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23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23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23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1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1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80000" y="1052280"/>
            <a:ext cx="536400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инская обязанно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о основанная на принадлежности к государству обязанность граждан служить в составе организованных вооруженных сил государ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а носит название всеобщей, когда выполнение ее возлагается на всех граждан мужского пола, достигших определен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3600720" cy="237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1847880" cy="223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1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ИНСКАЯ 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7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7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7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67280" y="1052640"/>
            <a:ext cx="5076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редственным предназначением воинской обязанности является обеспечение Вооруженных Сил необходимым количеством всех категорий личного состава, отвечающего современным требованиям вооруженной защиты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9284"/>
          <a:stretch/>
        </p:blipFill>
        <p:spPr>
          <a:xfrm>
            <a:off x="250920" y="1052640"/>
            <a:ext cx="3960720" cy="269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АЯ 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1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1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64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ИНСКАЯ 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500280"/>
            <a:ext cx="223380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ИНСКАЯ ОБЯЗ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1052640"/>
            <a:ext cx="5761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инский 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1989000"/>
            <a:ext cx="5761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язательная подготовка к военной служ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2997360"/>
            <a:ext cx="5761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ыв на воен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3933720"/>
            <a:ext cx="5761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хождение военной службы по призы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4869000"/>
            <a:ext cx="5761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бывание в зап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5734080"/>
            <a:ext cx="576108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ыв на военные сборы и прохождение военных сборов в период пребывания в зап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126828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86064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27280" y="1267920"/>
            <a:ext cx="0" cy="2592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213372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21300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414972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508464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6093000"/>
            <a:ext cx="5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27280" y="3860280"/>
            <a:ext cx="0" cy="289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627280" y="4149360"/>
            <a:ext cx="0" cy="934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27280" y="501300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413000"/>
            <a:ext cx="34578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граничение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1413000"/>
            <a:ext cx="27352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яз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133720"/>
            <a:ext cx="27370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781360"/>
            <a:ext cx="27370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2133720"/>
            <a:ext cx="35290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обяз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708280"/>
            <a:ext cx="3529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а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допускает за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3716280"/>
            <a:ext cx="352908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иту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653000"/>
            <a:ext cx="6697440" cy="1785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Условия выполнения воинской обязан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ижение установлен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ая го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ственное достои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1844640"/>
            <a:ext cx="0" cy="57636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63640" y="2421000"/>
            <a:ext cx="576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63640" y="2997360"/>
            <a:ext cx="576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1881360"/>
            <a:ext cx="0" cy="485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2349360"/>
            <a:ext cx="360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89000"/>
            <a:ext cx="84247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ОСОБЕННОСТИ ВОИНСКОЙ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692280"/>
            <a:ext cx="0" cy="7207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692280"/>
            <a:ext cx="0" cy="7207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349360"/>
            <a:ext cx="0" cy="6652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3141720"/>
            <a:ext cx="360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2349360"/>
            <a:ext cx="0" cy="809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3141720"/>
            <a:ext cx="0" cy="8096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44936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354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189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836640"/>
            <a:ext cx="4356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ограничных войсках Федеральной погранич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836640"/>
            <a:ext cx="33112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ооруженных с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2057400" cy="208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2873520" cy="190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6804000" y="2060640"/>
            <a:ext cx="2109960" cy="3346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323856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0" y="14130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1">
                                  <p:stCondLst>
                                    <p:cond delay="7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7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7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02:04Z</dcterms:created>
  <dc:creator>admin</dc:creator>
  <dc:description/>
  <dc:language>en-US</dc:language>
  <cp:lastModifiedBy>Аня</cp:lastModifiedBy>
  <dcterms:modified xsi:type="dcterms:W3CDTF">2008-12-18T17:30:15Z</dcterms:modified>
  <cp:revision>41</cp:revision>
  <dc:subject/>
  <dc:title>Слайд 1</dc:title>
</cp:coreProperties>
</file>