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nrom.edurm.ru/" TargetMode="External"/><Relationship Id="rId2" Type="http://schemas.openxmlformats.org/officeDocument/2006/relationships/hyperlink" Target="http://anrom.edurm.ru/users/LiudmilaF" TargetMode="External"/><Relationship Id="rId3" Type="http://schemas.openxmlformats.org/officeDocument/2006/relationships/hyperlink" Target="http://anrom.edurm.ru/users/LiudmilaF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nsportal.ru/" TargetMode="External"/><Relationship Id="rId2" Type="http://schemas.openxmlformats.org/officeDocument/2006/relationships/hyperlink" Target="https://nsportal.ru/" TargetMode="External"/><Relationship Id="rId3" Type="http://schemas.openxmlformats.org/officeDocument/2006/relationships/hyperlink" Target="http://nsportal.ru/lyudmila19740128" TargetMode="External"/><Relationship Id="rId4" Type="http://schemas.openxmlformats.org/officeDocument/2006/relationships/hyperlink" Target="http://nsportal.ru/lyudmila19740128" TargetMode="External"/><Relationship Id="rId5" Type="http://schemas.openxmlformats.org/officeDocument/2006/relationships/hyperlink" Target="http://nsportal.ru/lyudmila19740128" TargetMode="External"/><Relationship Id="rId6" Type="http://schemas.openxmlformats.org/officeDocument/2006/relationships/hyperlink" Target="http://nsportal.ru/lyudmila19740128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olncesvet.ru/" TargetMode="External"/><Relationship Id="rId2" Type="http://schemas.openxmlformats.org/officeDocument/2006/relationships/hyperlink" Target="http://solncesvet.ru/" TargetMode="External"/><Relationship Id="rId3" Type="http://schemas.openxmlformats.org/officeDocument/2006/relationships/hyperlink" Target="http://solncesvet.ru/" TargetMode="External"/><Relationship Id="rId4" Type="http://schemas.openxmlformats.org/officeDocument/2006/relationships/hyperlink" Target="http://solncesvet.ru/" TargetMode="External"/><Relationship Id="rId5" Type="http://schemas.openxmlformats.org/officeDocument/2006/relationships/hyperlink" Target="http://solncesvet.ru/" TargetMode="External"/><Relationship Id="rId6" Type="http://schemas.openxmlformats.org/officeDocument/2006/relationships/hyperlink" Target="http://solncesvet.ru/" TargetMode="External"/><Relationship Id="rId7" Type="http://schemas.openxmlformats.org/officeDocument/2006/relationships/hyperlink" Target="http://solncesvet.ru/" TargetMode="External"/><Relationship Id="rId8" Type="http://schemas.openxmlformats.org/officeDocument/2006/relationships/hyperlink" Target="http://solncesvet.ru/" TargetMode="External"/><Relationship Id="rId9" Type="http://schemas.openxmlformats.org/officeDocument/2006/relationships/hyperlink" Target="http://solncesvet.ru/" TargetMode="External"/><Relationship Id="rId10" Type="http://schemas.openxmlformats.org/officeDocument/2006/relationships/hyperlink" Target="http://solncesvet.ru/" TargetMode="External"/><Relationship Id="rId11" Type="http://schemas.openxmlformats.org/officeDocument/2006/relationships/hyperlink" Target="http://solncesvet.ru/" TargetMode="External"/><Relationship Id="rId12" Type="http://schemas.openxmlformats.org/officeDocument/2006/relationships/hyperlink" Target="http://solncesvet.ru/" TargetMode="External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sportal.ru/lyudmila19740128" TargetMode="External"/><Relationship Id="rId2" Type="http://schemas.openxmlformats.org/officeDocument/2006/relationships/hyperlink" Target="http://nsportal.ru/lyudmila19740128" TargetMode="External"/><Relationship Id="rId3" Type="http://schemas.openxmlformats.org/officeDocument/2006/relationships/hyperlink" Target="http://nsportal.ru/lyudmila19740128" TargetMode="External"/><Relationship Id="rId4" Type="http://schemas.openxmlformats.org/officeDocument/2006/relationships/hyperlink" Target="http://nsportal.ru/lyudmila19740128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0872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инистерство образования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РМ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ртфолио </a:t>
            </a:r>
            <a:br>
              <a:rPr sz="28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Фатиной Людмилы Федоровны</a:t>
            </a: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, </a:t>
            </a:r>
            <a:br>
              <a:rPr sz="2000"/>
            </a:b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учителя СП МБОУ «Дракинская средняя общеобразовательная школа» </a:t>
            </a:r>
            <a:br>
              <a:rPr sz="2000"/>
            </a:b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в селе Никольское </a:t>
            </a:r>
            <a:br>
              <a:rPr sz="2000"/>
            </a:b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Торбеевского района </a:t>
            </a:r>
            <a:br>
              <a:rPr sz="2000"/>
            </a:br>
            <a:r>
              <a:rPr b="1" i="1" lang="ru-RU" sz="2000" spc="-1" strike="noStrike">
                <a:solidFill>
                  <a:srgbClr val="262699"/>
                </a:solidFill>
                <a:latin typeface="Arial"/>
              </a:rPr>
              <a:t>Республики Мордовия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92360" y="3213000"/>
            <a:ext cx="55008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Дата рождения: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8.01.1974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Профессиональное образование: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реднее-специаль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, Зубово-Полянское педагогическое училище, диплом № СТ 715128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дата выдачи 30 июня 1993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 (по специальности):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Общий трудовой стаж: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2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ер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b80047"/>
                </a:solidFill>
                <a:latin typeface="Times New Roman"/>
              </a:rPr>
              <a:t>Дата последней аттестации: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5.02.2015,</a:t>
            </a:r>
            <a:r>
              <a:rPr b="1" lang="ru-RU" sz="16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риказ №1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5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Министерства образования 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30970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Результаты участия обучающихся во  Всероссийской предметной олимпиаде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449440" cy="331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84720" y="1844640"/>
            <a:ext cx="2303640" cy="338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2376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896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Позитивные результаты внеурочной деятельности обучающихс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очные/дистанционные мероприятия в сети Интернет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2491920"/>
            <a:ext cx="88200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ькова Любовь, </a:t>
            </a:r>
            <a:r>
              <a:rPr b="0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иплом победителя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нлайн олимпиады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е «Учи.ру» (Заврики) ноябрь, 201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зайкин Сергей, </a:t>
            </a:r>
            <a:r>
              <a:rPr b="0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иплом победителя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нлайн олимпиады   межпредметной онлайн олимпиады «Учи.ру» (Дино-олимпиад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абрь 2017 г – январь 201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зайкин Сергей, </a:t>
            </a:r>
            <a:r>
              <a:rPr b="0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иплом победителя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ой онлайн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мпиады «Учи.ру» (Заврики), октябрь 2018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очные/дистанционные мероприятия в сети Интернет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456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очные/дистанционные мероприятия в сети Интернет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00360" cy="48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367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260280"/>
            <a:ext cx="77500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6640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атин Владимир, </a:t>
            </a:r>
            <a:r>
              <a:rPr b="0" lang="ru-RU" sz="1400" spc="-1" strike="noStrike" u="sng">
                <a:solidFill>
                  <a:srgbClr val="262699"/>
                </a:solidFill>
                <a:uFillTx/>
                <a:latin typeface="Times New Roman"/>
                <a:ea typeface="Times New Roman"/>
              </a:rPr>
              <a:t>призёр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 районном фестивале детского творчества «Рождествеская Звезда» (в номинации «Декоративно-прикладное искусство»), п. Торбеево, 201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Базайкин Сергей, призёр в районном конкурсе «Экология. Дети. Творчество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(в номинации «Декоративно-прикладное искусство), п. Торбеево, 201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аськова Любовь, победитель в районном конкурсе «Экология. Дети. Творчеств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(в номинации «Декоративно-прикладное искусство), п. Торбеево, 2018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аськова Любовь, призёр 4 открытой республиканской учебно-практической конференции «Юный исследователь» (секция «Начальные классы»), п. Торбеево, 201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Базайкин Сергей, призёр 7 республиканского конкурса проектно-исследовательских работ «Природа и мы» (секция «Природа и мы») п. Примокшанский, Ковылкинский район,201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Базайкин Сергей, победитель 4 республиканской учебно-практической конференции «Мордовия глазами детей» (секция «Начальные классы»), с. Варжеляй, Торбеевский район, 2019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1816200"/>
            <a:ext cx="3744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 учебным предметам</a:t>
            </a:r>
            <a:br>
              <a:rPr sz="2400"/>
            </a:b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Муниципальный уровень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376360" cy="309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52108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76720" y="2997360"/>
            <a:ext cx="2808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 по учебным предметам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663640" cy="381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12000" y="1700280"/>
            <a:ext cx="288108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987640" y="2781360"/>
            <a:ext cx="302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Наличие публикаций, включая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320" y="2060280"/>
            <a:ext cx="8358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алы, прошедшие экспертизу на сайтах, порталах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urok.ru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Инфоурок». Свидетельство о регистрации в СМИ: Эл №ФС77-60625 от 20.01 201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на тему:</a:t>
            </a:r>
            <a:r>
              <a:rPr b="0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«Изучение табличных случаев умножения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2.10.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3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urok.ru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Инфоурок». Свидетельство о регистрации в СМИ: Эл №ФС77-60625 от 20.01 2015</a:t>
            </a: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«Рабочая программа по литературному чтению 2 класс ФГОС Школа России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11.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urok.ru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Инфоурок». Свидетельство о регистрации в СМИ: Эл №ФС77-60625 от 20.01 2015</a:t>
            </a: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на тему:</a:t>
            </a:r>
            <a:r>
              <a:rPr b="0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«История села Слаим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11.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20640"/>
            <a:ext cx="77900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включая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ы, прошедшие экспертизу на сайтах, порталах сети Интернет</a:t>
            </a:r>
            <a:br>
              <a:rPr sz="2000"/>
            </a:br>
            <a:br>
              <a:rPr sz="1400"/>
            </a:b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44800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2735280" cy="388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6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2050920" y="189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Характеристика- предст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432108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включая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2060280"/>
            <a:ext cx="8358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спубликанский урове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anrom.edurm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сеть «Педагог 13.р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исок публика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ый урок математики в малокомплектной школе на тем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Число и цифра 9. Письмо цифры 9. Таблица умножения и деления с числом 9». 6.11.201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Рабочая программа по окружающему миру 2 класс. ФГОС. Школа России». 6.11.201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Рабочая программа по русскому языку 2 класс. ФГОС. Школа России». 6. 11.201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сылка на адрес личной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иц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anrom.edurm.ru/users/Liudmil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8968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включая интернет-публикации</a:t>
            </a:r>
            <a:br>
              <a:rPr sz="3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3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оссийский уровень</a:t>
            </a:r>
            <a:br>
              <a:rPr sz="23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://nsportal.ru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Социальная сеть работников образования 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                                 «Наша сеть».</a:t>
            </a:r>
            <a:br>
              <a:rPr sz="1400"/>
            </a:b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исок публикаций: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ие собственного педагогического опыта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ему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роблемы формирования навыка грамотного письма у обучающихся   начальной школы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Презентация-представление собственного педагогического опыта на тему:     «Проблемы формирования навыков грамотного письма у обучающихся начальной школы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Портфолио - представление собственного педагогического опыта с    материалами  к аттестации в 2020 году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сылка на адрес личного мини-сайта: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://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sportal.ru</a:t>
            </a:r>
            <a:r>
              <a:rPr b="1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lyudmila19740128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ключая интернет-публикации</a:t>
            </a:r>
            <a:br>
              <a:rPr sz="3000"/>
            </a:br>
            <a:endParaRPr b="1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Российски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Список публикаций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оклад на тему: «Успешный учитель – успешная школа. Пути к вершинам педагогического мастерства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крытый урок русского языка в 1, 3 классах малокомплектной школ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включая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endParaRPr b="1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Российский уров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465280"/>
            <a:ext cx="3240000" cy="420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331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139320"/>
            <a:ext cx="77900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включая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2349000"/>
            <a:ext cx="8429760" cy="19306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lIns="0" rIns="0" tIns="28080" bIns="0" anchor="t">
            <a:normAutofit fontScale="56000"/>
          </a:bodyPr>
          <a:p>
            <a:pPr marL="191880" indent="-1918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еждународн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ttp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://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olncesvet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.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u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е сетевое издание «Солнечный свет». Свидетельство о регистрации СМИ ЭЛ №ФС 77 – 653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 на тему: «Использование современных образовательных технологий». 2.11.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ttp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://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olncesvet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.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u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е сетевое издание «Солнечный свет». Свидетельство о регистрации СМИ ЭЛ №ФС 77 – 653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й урок обучения грамоте и русского языка в малокомплектной школе». 5.11.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, включа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публикаци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еждународны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74328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60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134640"/>
            <a:ext cx="77979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Наличие авторских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ограмм , методических пособий, методических рекомендаций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68360" y="2133720"/>
            <a:ext cx="83516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урочной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и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класса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ллектуального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«Весёлая грамматика», рассчитанная на 34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а. Программа утверждена директор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Дракинская средняя общеобразовательная школа» приказ №25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02.09.201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по внеурочной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и 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класса   художественно-эстетического направления  «Волшебство кисти и карандаша», расчитанная на 34 часа.  Программа  утверждена директором  МБОУ «Дракинская средняя общеобразовательная школа» приказ №258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02.09.201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134640"/>
            <a:ext cx="77979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Наличие авторских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ограмм , методических пособий, методических рекомендаций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68360" y="21337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74328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83960"/>
            <a:ext cx="8569440" cy="10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.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 и т. д.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разовательная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2016 г.  Доклад на тему «Урок – основная форма организации школьник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 2018 г. Доклад на тему «Успешный учитель – успешная школа – пути к вершинам педагогического мастер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3960"/>
            <a:ext cx="8569440" cy="10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 и т. д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разовательная организ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03200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14480"/>
            <a:ext cx="7940880" cy="150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едставление 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едагогического опыт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2852280"/>
            <a:ext cx="7845120" cy="3087720"/>
          </a:xfrm>
          <a:prstGeom prst="rect">
            <a:avLst/>
          </a:prstGeom>
          <a:solidFill>
            <a:srgbClr val="6666ff"/>
          </a:solidFill>
          <a:ln w="9360">
            <a:solidFill>
              <a:srgbClr val="cc0000"/>
            </a:solidFill>
            <a:round/>
          </a:ln>
        </p:spPr>
        <p:txBody>
          <a:bodyPr lIns="0" rIns="0" tIns="20160" bIns="0" anchor="ctr">
            <a:noAutofit/>
          </a:bodyPr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Методическая проблема, над которой я работа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 Black"/>
              </a:rPr>
              <a:t>«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Проблемы формирования навыков грамотного письма у обучающихся начальной школы</a:t>
            </a:r>
            <a:r>
              <a:rPr b="1" lang="ru-RU" sz="2200" spc="-1" strike="noStrike">
                <a:solidFill>
                  <a:srgbClr val="000099"/>
                </a:solidFill>
                <a:latin typeface="Arial Black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сылка на мой сай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0" i="1" lang="ru-RU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i="1" lang="ru-RU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i="1" lang="ru-RU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nsportal.ru</a:t>
            </a:r>
            <a:r>
              <a:rPr b="0" i="1" lang="ru-RU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lyudmila19740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95280" y="3141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765440" y="3429000"/>
            <a:ext cx="1073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825480" y="5603760"/>
          <a:ext cx="2546280" cy="1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5480" y="5603760"/>
                    <a:ext cx="2546280" cy="1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83960"/>
            <a:ext cx="856944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 и т. д.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799308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7880" indent="0" algn="ctr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Республикански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октября 2018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е ГБУ ДПО «Мордовский республиканский институт образования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ом научно-практическом  семина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одержание и технологии математического образования в начальной школ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 на тему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Методические особенности изучения табличных случаев умножения в начальной шко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 algn="just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7880" indent="0" algn="just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 и т. д.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Республикански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367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7900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. Проведение открытых уроков,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астер-классов, мероприятий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1760" y="1125360"/>
            <a:ext cx="849600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6000"/>
          </a:bodyPr>
          <a:p>
            <a:pPr>
              <a:lnSpc>
                <a:spcPct val="93000"/>
              </a:lnSpc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организация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Март 2017 г., СП МБОУ «Дракинская СОШ» в селе Никольское, урок математики в 1, 3 классах малокомплектной школы на тему: «Числа 8 и 9. Письмо цифры 9. Таблица умножения и деления с числом 9», открытый урок для учителей начальных классов в рамках заседания школьного методического объединения началь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Декабрь 2018 г., СП  МБОУ «Дракинская СОШ» в селе Никольское, урок окружающего мира на тему «Откуда берётся снег и лёд», открытый урок в рамках недели открытых уроков с использованием И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Ноябрь 2019 г. МБОУ «Дракинская СОШ», урок русского языка на тему «Правописание слов с безударным гласным звуком в корне слова», открытый урок для учителей начальных классов в рамках заседания школьного методического объединения учителей началь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. Проведение открытых уроков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астер-классов, мероприят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разовательная организация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272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. Проведение открытых уроков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астер-классов, мероприят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Муниципальн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Март 2019 г. СП МБОУ «Дракинская средняя общеобразовательная школа» в селе Никольское, урок русского языка в 1, 3 классах малокомплектной школы на тему «Слова, обозначающие предметы, признаки предметов. Роль имён прилагательных в тексте», открытый урок для учителей начальных классов  в рамках заседания районного методического объединения учителей начальных классов.</a:t>
            </a:r>
            <a:r>
              <a:rPr b="0" lang="ru-RU" sz="25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. Проведение открытых уроков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астер-классов, мероприят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500" spc="-1" strike="noStrike">
                <a:solidFill>
                  <a:srgbClr val="3333cc"/>
                </a:solidFill>
                <a:latin typeface="Arial"/>
              </a:rPr>
              <a:t>Муниципальный уров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89680" cy="8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. Наставничество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9640" y="3033720"/>
            <a:ext cx="8496360" cy="164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Lucida Sans Unicode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Lucida Sans Unicode"/>
              </a:rPr>
              <a:t>Данное направление деятельности отсут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896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. Экспертная деятельность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9640" y="3033720"/>
            <a:ext cx="8496360" cy="164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Lucida Sans Unicode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Lucida Sans Unicode"/>
              </a:rPr>
              <a:t>Данное направление деятельности отсут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440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. Общественно-педагогическая активность педагога: участие в работе педагогических сообществ, комиссий, жюри конкур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425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йский уровен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6165d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Участие в проведении и проверке Всероссийских проверочных работ ВПР – октябрь 2017, 2 класса по русскому языку Московский Центр непрерывного математического образования, 20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500040" y="184320"/>
            <a:ext cx="82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Lucida Sans Unicode"/>
              </a:rPr>
              <a:t>Общественно-педагогическая активность педагога: участие в работе педагогических сообществ, комиссий,  жюри конкур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4033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896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Стабильные положительные результаты(положительная динамика) освоения обучающимися образовательных программ по итогам мониторингов, проводимых организацией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032360" cy="482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865680" y="32439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ьные полож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79796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. Участие педагога в профессиональных конкурсах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53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На порталах сети Интернет различных уровн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тал «Единый урок», всероссийское тестирование педагогов 2018 (тестирование «Учитель начальных классов» в соответствии с требованиями профессионального стандарта и ФГОС,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896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педагога в профессиональных конкурсах</a:t>
            </a:r>
            <a:endParaRPr b="1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3600360" cy="460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92360" y="141300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На порталах сети интернет различных уров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. Участие педагога в профессиональных конкурсах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Муниципальный уров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Март 2016 год, участие в районном конкурсе профилактических мероприятий «Жизнь в твоих руках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иказ №15 от 30.03.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педагога в профессиональных конкурсах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педагога в профессиональных конкурсах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Муниципальны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49600" y="3220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189000"/>
            <a:ext cx="77979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. Награды и поощрени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92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Сайты и порталы сети Интерн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лагодарственное письмо образовательной платформы Учи.ру за помощь в проведении олимпиады «Заврики».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тябрь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ы и поощрени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96720" y="1773000"/>
            <a:ext cx="7789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Положительные результаты освоения обучающимися образовательных программ по итогам внешнего мониторинга системы образования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36720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84240"/>
            <a:ext cx="8367840" cy="1535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Реализация программ углубленного изучения предмета, профильного обучения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033360"/>
            <a:ext cx="8496360" cy="164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нное направление деятельности отсут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участия в инновационной (экспериментальной) деятельности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328428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нное направление деятельности отсут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Результаты участия обучающихся во  Всероссийской предметной олимпиаде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4297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ькова Любовь, 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зер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этапа Всероссийской предметной  олимпиады младших школьников по литературному чтению,  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ькова Любовь,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зер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униципального этапа Всероссийской предметной олимпиады по  литературному чтению для обучающихся начальных классов,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шуняева Ольга,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зер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униципального этапа Всероссийской олимпиады по окружающему миру для обучающихся начальных классов,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участия обучающихся во  Всероссийской предметной олимпиаде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user</cp:lastModifiedBy>
  <dcterms:modified xsi:type="dcterms:W3CDTF">2019-12-04T15:09:10Z</dcterms:modified>
  <cp:revision>362</cp:revision>
  <dc:subject/>
  <dc:title>Роль ПНПО в развитии (модернизации) образования страны</dc:title>
</cp:coreProperties>
</file>