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F859-2AC6-4439-B021-324F15E8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56C8-0035-4EBC-A330-91DB4375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F2A50-2057-403A-82C5-6C9A6CD9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FD9A-7E41-430D-B5AD-F516710B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5276-98AD-4A62-A962-2CA1F960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A47D-E42B-49C2-BDD8-AB4D3A90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3488-5A56-4DF6-AC9F-9EE67B7B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CD97-2213-4F16-9634-9217A281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2308-1DA6-4BE7-BA33-2668C2DC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40BF-99D4-4B6A-88F5-A58573D7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167C-DC48-40D9-A321-F3E57FD8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572F-5408-4D86-A91D-C8D16F2A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3F35-E142-42BD-95E7-392AC41B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F9B2-A24B-40ED-914D-6169387B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67EE-336E-44F6-9D70-827CA10F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D115-CE4F-4922-BBE6-77564DB8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DA53-FB75-4C85-AB2E-1BCCB2C6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DFD15-AA7C-40B3-A0B6-E4A666DB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807E-F08D-4941-8FCD-8DE1AF85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22C4-1765-4F87-9C2E-C31710F8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F757-BAFA-45F1-87B7-39CCB058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95CC-0C37-4EF4-A6C9-C6E8379C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BE70-AC57-4A01-BF80-6343150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D9EAA-E17E-4B1D-954E-A94C1245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2962-B937-48B6-9F3B-FB8C355F3F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F934-B77D-4611-8CF6-F0C8D5340C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124000" y="2349360"/>
            <a:ext cx="49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0880" y="69228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«Последовательность овладения детьми с речевыми нарушениями различными формами звукобуквеного анализа. Игры и упражнения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276720" y="414972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Лобынцева Елена Юрьевна      учитель-логопед МБДОУ №2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286000" y="566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. Нижний Новго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019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228600" y="532080"/>
            <a:ext cx="8915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глухие и звонкие согласные зв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гры и упражне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Четвертый лишний» (дети определяют лишний зву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Рассели картинки в дом» (дети учатся определять глухие и звонкие согласные звуки в составе слова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Глушилки-звонилки» (дети учатся определять глухие и звонкие согласные звуки в составе слова, опираясь на символ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PA210005"/>
          <p:cNvPicPr/>
          <p:nvPr/>
        </p:nvPicPr>
        <p:blipFill>
          <a:blip r:embed="rId1"/>
          <a:stretch/>
        </p:blipFill>
        <p:spPr>
          <a:xfrm>
            <a:off x="1692360" y="2852640"/>
            <a:ext cx="589752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425520"/>
            <a:ext cx="92534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знакомство с букв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гры и упражнения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Необычный конструктор» (дети определяют элементы, необходимые для букв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Кто внимательнее» (дети определят буквы, которые состоят из одного элемента , двух элементов ,  и т.д.; буквы, которые смотрят прямо, вправо, влево, «открыты», «закрыты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Пальчиковая азбука» (дети изображают букву с помощью пальцев рук по методике Е.Н.Рыжанковой и В.А.Ракитиной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PA270001"/>
          <p:cNvPicPr/>
          <p:nvPr/>
        </p:nvPicPr>
        <p:blipFill>
          <a:blip r:embed="rId1"/>
          <a:stretch/>
        </p:blipFill>
        <p:spPr>
          <a:xfrm>
            <a:off x="1187280" y="3429000"/>
            <a:ext cx="68756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2"/>
          <p:cNvSpPr/>
          <p:nvPr/>
        </p:nvSpPr>
        <p:spPr>
          <a:xfrm>
            <a:off x="3352680" y="54324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От того, как ребенку будет откры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уковая действительность язы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ение звуковой формы сло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исит не только усвоение грамо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и всё последующее  усвоение язы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Б.Элько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0" y="2741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Актуаль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304920" y="3395520"/>
            <a:ext cx="853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7d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обучения звукобуквенному анализу невозможно полноценное овладение письмом и чт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7d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евременная целенаправленная работа по развитию звукового анализа является важной частью работы  по предупреждению дисграфии и дислексии у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7d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ФГОС Д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речевое развитие включает формирование звуковой аналитико-синтетической активности как предпосылки обучения грамоте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1828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Система коррекционной работы по обучению звукобуквенному анализу старших дошкольников</a:t>
            </a: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7d"/>
                </a:solidFill>
                <a:uFillTx/>
                <a:latin typeface="Times New Roman"/>
              </a:rPr>
              <a:t>Подготовительны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Цель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Формирование базы для овладения детьми навыка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звукобуквенного анализа и синтез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7d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Основны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Развитие у детей фонематического восприят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Устранение ошибок, связанных с артикуляцией звуков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Формирование представления о конкретной фонеме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вязанные с акустическими и артикуляционными е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собенностям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Формирование процессов дифференциации звук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Развитие фонематического восприят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знавание неречевых 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шумит?», «Узнай инструмент», «Слушай и делай», «Эхо», «Будь внимателен», «Тихо – громко», «Иди на звук», «Сравни песен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Различение высоты, силы, тембра голоса на материал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одинаковых звуков, слов,  ф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адай по голосу», «Кто позвал?», «Делай как я скажу, а не как покажу»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и  медведя», «Тихо – громко», «Близко – далеко», «Дочки – матер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Различение слов, близких по своему звуковому сост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ошибку», «Убери словечко», «Какое слово отличается от других?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твёртый лишний», «Какие пары слов похожи по звучанию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Дифференциация с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лишний», «Путаница», «Эхо», «Будь внимателен», «Поезд», «Какой слог отличается от других?», «Четвёртый лиш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Дифференциация фо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хо», «Будь внимателен», «Какой звук отличается от других?», «Четвёртый лишний», «Какие пары звуков похож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7d"/>
                </a:solidFill>
                <a:uFillTx/>
                <a:latin typeface="Times New Roman"/>
              </a:rPr>
              <a:t>Основной этап</a:t>
            </a:r>
            <a:br>
              <a:rPr sz="4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7d"/>
                </a:solidFill>
                <a:uFillTx/>
                <a:latin typeface="Times New Roman"/>
              </a:rPr>
              <a:t>Формирование простейших операций по звукобуквенному анали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простейших операций по звукобуквенному анализу на уровне сл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Основны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деление слова как наиболее конкретизированной единицы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ределение количества слов и их порядка в предлож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ставление схемы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7d"/>
                </a:solidFill>
                <a:uFillTx/>
                <a:latin typeface="Times New Roman"/>
              </a:rPr>
              <a:t>Формирование навыков звукобуквенного анализа и синтеза сл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операций по звукобуквенному анализу и синтезу на уровне зв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Основны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деление звука из состава сло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ределение позиции звука в сло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ределение количества и последовательности звуков в слов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деление ударного гласного зву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ведение анализа звуков по их качественным характеристик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авильное соотнесение звука и бук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691920"/>
            <a:ext cx="89154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Работа строится в следующей последователь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тдельный звук и звук, выделенный из состава 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гры и упражнения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Волшебный кубик» (дети определяют наличие или отсутствие заданного звука в слов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Четвертый лишний» (дети определяют лишний зву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PA270010"/>
          <p:cNvPicPr/>
          <p:nvPr/>
        </p:nvPicPr>
        <p:blipFill>
          <a:blip r:embed="rId1"/>
          <a:stretch/>
        </p:blipFill>
        <p:spPr>
          <a:xfrm>
            <a:off x="457200" y="3048120"/>
            <a:ext cx="81946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79280" y="331560"/>
            <a:ext cx="89647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пределение порядка звуков в слове, схема 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гры и упражне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Рассели картинки в дом» (дети учатся выделять первый и последний звуки в составе сло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Куда перелетела бабочка?» (дети учатся определять и отмечать позицию заданного звука на карточке-схеме с помощью бабочк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Чьи следы?» (дети учатся составлять звуковые модели слова, соотносить слово с моделью, подбирать слова к заданной модел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«®Ј®ЇҐ¤  ввҐбв жЁп 017"/>
          <p:cNvPicPr/>
          <p:nvPr/>
        </p:nvPicPr>
        <p:blipFill>
          <a:blip r:embed="rId1"/>
          <a:stretch/>
        </p:blipFill>
        <p:spPr>
          <a:xfrm>
            <a:off x="2533680" y="3429000"/>
            <a:ext cx="40766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455760"/>
            <a:ext cx="914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гласные и согласные зв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гры и упражне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Четвертый лишний» (дети определяют лишний зву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Рассели картинки в дом» (дети учатся определять гласные и согласные звуки в составе слов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PA210011"/>
          <p:cNvPicPr/>
          <p:nvPr/>
        </p:nvPicPr>
        <p:blipFill>
          <a:blip r:embed="rId1"/>
          <a:stretch/>
        </p:blipFill>
        <p:spPr>
          <a:xfrm>
            <a:off x="539640" y="2209680"/>
            <a:ext cx="82026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379440"/>
            <a:ext cx="9144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вердые и мягкие согласные зв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гры и упражне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Спичка – ватка» (дети учатся различать твердые и мягкие согласные звуки и соотносить их с символам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Четвертый лишний» (дети определяют лишний зву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Рассели картинки в дом» (дети учатся определять твердые и мягкие согласные звуки в составе слова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PA210016"/>
          <p:cNvPicPr/>
          <p:nvPr/>
        </p:nvPicPr>
        <p:blipFill>
          <a:blip r:embed="rId1"/>
          <a:stretch/>
        </p:blipFill>
        <p:spPr>
          <a:xfrm>
            <a:off x="1403280" y="2590920"/>
            <a:ext cx="6112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04T11:53:40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