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83EC-9D9C-4A3E-944E-7FEF84189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0139-8317-4F92-9AB7-56212E439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7A5B-A4EB-4B3E-B332-1A1AC87E4E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669-FDE8-4026-BBFD-D25C7A84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01D-1DC4-4939-B8BA-AE8F33F9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116-FB4C-4E6A-BA86-ABE778FE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A50-8613-4EA1-A092-553108CE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FDC-72F0-4326-8710-FF474A64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A62-25CD-49D7-A4A0-C0AD57B3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0DE-9702-42DD-BF75-3383E42E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A1D-5BA6-4EB2-98E2-CBE15A2F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8BD-AFA6-435B-9D95-DF5E556A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B2F-F687-4FE3-8E63-4F7ED924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1E6-4E7D-476D-8652-91A38DE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BA8-A353-44DD-8EA2-F27AE2D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BDB8-3C65-4D1C-B84F-22C8B0C0D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533520"/>
            <a:ext cx="6400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ая деятельность в детском са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личных видов  театра  для развития 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Юрий\Desktop\фон для презинтаций\502773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676520" y="1143000"/>
            <a:ext cx="5943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mic Sans MS"/>
              </a:rPr>
              <a:t>Мастер-класс для родите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mic Sans MS"/>
              </a:rPr>
              <a:t>«Жизнь –театр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mic Sans MS"/>
              </a:rPr>
              <a:t>а люди в ней актеры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196640" y="4842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Перчаточный и пальчиков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теат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5562720" y="1684440"/>
            <a:ext cx="2743200" cy="19684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990720" y="1523880"/>
            <a:ext cx="4038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Monotype Corsiva"/>
              </a:rPr>
              <a:t>Перчаточный теат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р - популярный вид театрализованной игрушки, кото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надевается на ру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Основой игрушки является перча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Monotype Corsiva"/>
              </a:rPr>
              <a:t>Пальчиковый театр.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Обычно набор фигурок для кукольного театра состоит из небольшого количества куколок-героев, каждую можно одеть на свой пальчик. Обычно такие наборы объединяют персонажей из той или иной сказки, иногда объединение идет по тематическому принципу – набор фигурок животных, людей, разных предметов, их можно использовать в качестве декораций. Иногда к набору пальчикового театра прилагается готовая сц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5562720" y="396252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5228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447920" y="7747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Monotype Corsiva"/>
              </a:rPr>
              <a:t>Платочный теа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086440" y="4038480"/>
            <a:ext cx="3448080" cy="21891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533520" y="1752480"/>
            <a:ext cx="455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Маска пришитая к платку одевается через голову, кончики платка одеваются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пальчик с помощью резиночек. Дети свободно могут выполнять разл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движения при инсценировке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869480" y="484200"/>
            <a:ext cx="28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Театр те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6172200" y="1093680"/>
            <a:ext cx="1620720" cy="255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6172200" y="4003560"/>
            <a:ext cx="1855800" cy="2133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914400" y="1295280"/>
            <a:ext cx="5105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Театр теней - вид театрального зрелища, основан на использ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плоских кукол (из картона, кожи,специальной цветной пленки)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находятся между источником света и экраном или накладываются на 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Театр теней - это немного искаженное название, потому что мы имеем дело не просто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тенями, а скорее с силуэтами изоб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Театр ручных теней - один из самых простых видов теневого теа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Для его оборудования и проведения нужны самые обычные предм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настольная лампа и экран, большой лист белой бумаги или ткань (простыня). Есл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комнате светлые стены, представление теневого театра можно показывать прямо на сте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Юрий\Desktop\фон для презинтаций\502773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атрализованная деятельность позволяет решать многие педагогические задачи, касающиеся выразительности речи ребенка, интеллектуального и художественно-эстетического 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атрализованная деятельность – неисчерпаемый источник развития чувств, переживаний и эмоциональных открытий, способ приобщения к духовному богат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результате театрализованной деятельности ребенок познает мир умом и сердцем, выражая своё отношение к добру и злу; познаёт радость, связанную с преодолением трудностей общения, неуверенности в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Юрий\Desktop\фон для презинтаций\502773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инус 20"/>
          <p:cNvSpPr/>
          <p:nvPr/>
        </p:nvSpPr>
        <p:spPr>
          <a:xfrm rot="21254400">
            <a:off x="2971440" y="1457280"/>
            <a:ext cx="3505320" cy="719280"/>
          </a:xfrm>
          <a:custGeom>
            <a:avLst/>
            <a:gdLst/>
            <a:ahLst/>
            <a:rect l="l" t="t" r="r" b="b"/>
            <a:pathLst>
              <a:path w="3505200" h="719138">
                <a:moveTo>
                  <a:pt x="464614" y="274998"/>
                </a:moveTo>
                <a:lnTo>
                  <a:pt x="3040586" y="274998"/>
                </a:lnTo>
                <a:lnTo>
                  <a:pt x="3040586" y="444140"/>
                </a:lnTo>
                <a:lnTo>
                  <a:pt x="464614" y="444140"/>
                </a:lnTo>
                <a:lnTo>
                  <a:pt x="464614" y="27499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22"/>
          <p:cNvSpPr/>
          <p:nvPr/>
        </p:nvSpPr>
        <p:spPr>
          <a:xfrm>
            <a:off x="6629400" y="1523880"/>
            <a:ext cx="1981080" cy="13384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Arial"/>
              </a:rPr>
              <a:t>Театр-помощник в воспит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Горизонтальный свиток 24"/>
          <p:cNvSpPr/>
          <p:nvPr/>
        </p:nvSpPr>
        <p:spPr>
          <a:xfrm>
            <a:off x="3276720" y="0"/>
            <a:ext cx="2971800" cy="2286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атрализова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Горизонтальный свиток 26"/>
          <p:cNvSpPr/>
          <p:nvPr/>
        </p:nvSpPr>
        <p:spPr>
          <a:xfrm>
            <a:off x="533520" y="1676520"/>
            <a:ext cx="2286000" cy="1218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речи, фантазии, во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Горизонтальный свиток 27"/>
          <p:cNvSpPr/>
          <p:nvPr/>
        </p:nvSpPr>
        <p:spPr>
          <a:xfrm>
            <a:off x="1066680" y="2895480"/>
            <a:ext cx="2133720" cy="1600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 и эмоции маленького арт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Горизонтальный свиток 28"/>
          <p:cNvSpPr/>
          <p:nvPr/>
        </p:nvSpPr>
        <p:spPr>
          <a:xfrm>
            <a:off x="5562720" y="4495680"/>
            <a:ext cx="2590560" cy="19814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становимся ум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память, сообразительность, находчивость, кругоз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Горизонтальный свиток 31"/>
          <p:cNvSpPr/>
          <p:nvPr/>
        </p:nvSpPr>
        <p:spPr>
          <a:xfrm>
            <a:off x="5943600" y="2743200"/>
            <a:ext cx="2286000" cy="1719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Мы становимся добр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Горизонтальный свиток 32"/>
          <p:cNvSpPr/>
          <p:nvPr/>
        </p:nvSpPr>
        <p:spPr>
          <a:xfrm>
            <a:off x="1905120" y="4648320"/>
            <a:ext cx="2209680" cy="16761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становимся смел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уверенность, раскова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Юрий\Desktop\фон для презинтаций\502773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дачи по развитию речи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br>
              <a:rPr sz="2800"/>
            </a:b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    Пополнение и активизация словаря (за счёт слов, обозначающих названия предметов, действий, признаков);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    Закрепление навыка использования прямой и косвенной реч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    Совершенствование монологической и диалогической форм речи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    Воспитание культуры речевого общения, умения действовать согласованно в коллектив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Юрий\Desktop\фон для презинтаций\50277370.jpg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523880" y="685800"/>
            <a:ext cx="640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Сегодня мы расскажем вам о тех видах театра, которые мы используем в детском саду для работы с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690560" y="4842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Кукольный 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8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2266920" cy="2552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3154320" y="1295280"/>
            <a:ext cx="5151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Театр кукол (би-ба-бо) или театр «Петрушки» - театр, куклы которого надеваются на три пальца рук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Голова имеет специальное отверстие под указательный палец, а большой и средний палец служат для жестикуляции руками кук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Таким образом, движения головы, рук, туловища игрушки осуществляются с помощью движений пальцев, кисти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Би-Ба-Бо часто используются в передвижных кукольных теа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Кукольный театр - вид театрального представления, в которых действуют куклы, приводимые в движение актерами-кукловодами, чаще всего скрытыми от зр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497240" y="484200"/>
            <a:ext cx="54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Театр на фланелеграф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5486400" y="3807000"/>
            <a:ext cx="2895480" cy="22953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457200" y="1366920"/>
            <a:ext cx="48769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Театр на фланелеграфе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один из замеч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способов занятий с ребенком, возможность разв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его способности в различных направл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ЭТОТ ВИД ТЕАТРА ВКЛЮЧАЕТ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исполнение песен, потешек, стихов с одновременным выкладыванием фигурок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фланелеграфе в соответствии с сюжетом. Фигурки могут сменять друг друг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дополнять, в зависимости от описываемых действий. Дети слушают сказку, а перед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глазами на экране возникают новые и новые иллюст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682640" y="484200"/>
            <a:ext cx="43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Настольный 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685800" y="1447920"/>
            <a:ext cx="769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Название такого вида театра говорит само за себя — игровая деятельность проводится на столе. Его особенностью является то, что декорации и персонажи должны быть небольшого размера, чтобы была возможность разместить все необходимые атрибуты игры на поверхности. Каким же бывает настольный театр в детском са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1.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Monotype Corsiva"/>
              </a:rPr>
              <a:t>Бумажный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(картонный). Нередко такой готовый театр можно найти в каком-либо детском журнале - нужно лишь вырезать и собрать все необходимые детали и можно начинать спектакль. Такой театр легко изготовить самостоятельно, например из втулок,  нужно лишь проявить немного фантаз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3840120" y="4368960"/>
            <a:ext cx="3780000" cy="178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685800" y="3998880"/>
            <a:ext cx="27417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682640" y="484200"/>
            <a:ext cx="43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Настольный 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533520" y="158256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2.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Monotype Corsiva"/>
              </a:rPr>
              <a:t>Деревя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Monotype Corsiva"/>
              </a:rPr>
              <a:t>3. Магни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Monotype Corsiva"/>
              </a:rPr>
              <a:t>4. Из природного материала, например из шишек или желу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Фигурки всех объемов могут быть целостными, а также состоять из основной и дополнительных частей: плоскостная фигурка с движущимися конечностями, мягкая игрушка, сшитая из отдельных частей:  туловище, голова, руки, ноги (у животных -лап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Передвигаются фигурки в настольном театре по-разному с помощью только рук кукловода, с помощью проволочки, магн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74560" y="2743200"/>
            <a:ext cx="247356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3124080" y="2514600"/>
            <a:ext cx="243864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4"/>
          <a:stretch/>
        </p:blipFill>
        <p:spPr>
          <a:xfrm>
            <a:off x="5867280" y="27511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ХХ</dc:creator>
  <dc:description/>
  <dc:language>en-US</dc:language>
  <cp:lastModifiedBy>Cons</cp:lastModifiedBy>
  <dcterms:modified xsi:type="dcterms:W3CDTF">2019-12-03T21:02:33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