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50E1-5204-4092-B993-C3D86E19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EF13-4B90-42A4-9BF9-D173C6D8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34CE-9E5E-4333-80DC-11F9D3E4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B1BF-0348-4DA1-940F-907FAE5A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4E0E-2C6D-45DF-B105-CB3D848E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9F06-48CB-43CD-961C-529B4376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2EA8-34E6-4D0B-B950-1141D710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20F3-DF32-4CB3-B3D3-BFADE8E8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AAFF-8AC0-4776-ACBA-1DB2750E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DC7-52D8-43B0-B171-9BFA11CD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FC0F-772C-4DC1-9B04-033597E8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BA58-C1C9-402A-89BC-CA893338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0392B-82E5-4D70-91A3-86710539F1F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755640" y="620640"/>
            <a:ext cx="78199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дактические иг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правилам дорожного движения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ля детей старшего дошкольного возрас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724000" y="2673000"/>
            <a:ext cx="3419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Подготовила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Никитина.О.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3276720" y="2421000"/>
            <a:ext cx="2590560" cy="4437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116000" y="4869000"/>
            <a:ext cx="1800360" cy="184464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"/>
          <p:cNvGrpSpPr/>
          <p:nvPr/>
        </p:nvGrpSpPr>
        <p:grpSpPr>
          <a:xfrm>
            <a:off x="826920" y="1700280"/>
            <a:ext cx="2444760" cy="1517760"/>
            <a:chOff x="826920" y="1700280"/>
            <a:chExt cx="2444760" cy="1517760"/>
          </a:xfrm>
        </p:grpSpPr>
        <p:pic>
          <p:nvPicPr>
            <p:cNvPr id="76" name="Picture 3" descr=""/>
            <p:cNvPicPr/>
            <p:nvPr/>
          </p:nvPicPr>
          <p:blipFill>
            <a:blip r:embed="rId2"/>
            <a:stretch/>
          </p:blipFill>
          <p:spPr>
            <a:xfrm>
              <a:off x="826920" y="1700280"/>
              <a:ext cx="244476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4"/>
            <p:cNvSpPr/>
            <p:nvPr/>
          </p:nvSpPr>
          <p:spPr>
            <a:xfrm>
              <a:off x="2647800" y="1793880"/>
              <a:ext cx="623880" cy="70632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Group 5"/>
          <p:cNvGrpSpPr/>
          <p:nvPr/>
        </p:nvGrpSpPr>
        <p:grpSpPr>
          <a:xfrm>
            <a:off x="826920" y="3357720"/>
            <a:ext cx="2372040" cy="1506240"/>
            <a:chOff x="826920" y="3357720"/>
            <a:chExt cx="2372040" cy="1506240"/>
          </a:xfrm>
        </p:grpSpPr>
        <p:pic>
          <p:nvPicPr>
            <p:cNvPr id="79" name="Picture 6" descr=""/>
            <p:cNvPicPr/>
            <p:nvPr/>
          </p:nvPicPr>
          <p:blipFill>
            <a:blip r:embed="rId3"/>
            <a:stretch/>
          </p:blipFill>
          <p:spPr>
            <a:xfrm>
              <a:off x="826920" y="3357720"/>
              <a:ext cx="2372040" cy="15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WordArt 7"/>
            <p:cNvSpPr txBox="1"/>
            <p:nvPr/>
          </p:nvSpPr>
          <p:spPr>
            <a:xfrm>
              <a:off x="1276200" y="3470400"/>
              <a:ext cx="702000" cy="169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хлеб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81" name="WordArt 8"/>
          <p:cNvSpPr txBox="1"/>
          <p:nvPr/>
        </p:nvSpPr>
        <p:spPr>
          <a:xfrm>
            <a:off x="2411280" y="333360"/>
            <a:ext cx="4410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дактическая иг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Куда едут машины?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Line 9"/>
          <p:cNvSpPr/>
          <p:nvPr/>
        </p:nvSpPr>
        <p:spPr>
          <a:xfrm>
            <a:off x="3419640" y="2638440"/>
            <a:ext cx="2447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3492360" y="3068640"/>
            <a:ext cx="244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3276720" y="393372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3492360" y="4149720"/>
            <a:ext cx="2159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3492360" y="4581360"/>
            <a:ext cx="251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3132000" y="5950080"/>
            <a:ext cx="280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3132000" y="6597720"/>
            <a:ext cx="2880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6" descr=""/>
          <p:cNvPicPr/>
          <p:nvPr/>
        </p:nvPicPr>
        <p:blipFill>
          <a:blip r:embed="rId4"/>
          <a:stretch/>
        </p:blipFill>
        <p:spPr>
          <a:xfrm>
            <a:off x="6012000" y="1484280"/>
            <a:ext cx="1512720" cy="158292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17"/>
          <p:cNvGrpSpPr/>
          <p:nvPr/>
        </p:nvGrpSpPr>
        <p:grpSpPr>
          <a:xfrm>
            <a:off x="5796000" y="3357720"/>
            <a:ext cx="2732040" cy="1295280"/>
            <a:chOff x="5796000" y="3357720"/>
            <a:chExt cx="2732040" cy="1295280"/>
          </a:xfrm>
        </p:grpSpPr>
        <p:pic>
          <p:nvPicPr>
            <p:cNvPr id="91" name="Picture 18" descr=""/>
            <p:cNvPicPr/>
            <p:nvPr/>
          </p:nvPicPr>
          <p:blipFill>
            <a:blip r:embed="rId5"/>
            <a:stretch/>
          </p:blipFill>
          <p:spPr>
            <a:xfrm>
              <a:off x="5796000" y="3357720"/>
              <a:ext cx="27320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WordArt 19"/>
            <p:cNvSpPr txBox="1"/>
            <p:nvPr/>
          </p:nvSpPr>
          <p:spPr>
            <a:xfrm>
              <a:off x="7229520" y="3586320"/>
              <a:ext cx="963720" cy="29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6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хлеб</a:t>
              </a:r>
              <a:endPara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93" name="Picture 20" descr=""/>
          <p:cNvPicPr/>
          <p:nvPr/>
        </p:nvPicPr>
        <p:blipFill>
          <a:blip r:embed="rId8"/>
          <a:stretch/>
        </p:blipFill>
        <p:spPr>
          <a:xfrm>
            <a:off x="5796000" y="4941720"/>
            <a:ext cx="2698560" cy="162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1" descr=""/>
          <p:cNvPicPr/>
          <p:nvPr/>
        </p:nvPicPr>
        <p:blipFill>
          <a:blip r:embed="rId9"/>
          <a:stretch/>
        </p:blipFill>
        <p:spPr>
          <a:xfrm>
            <a:off x="900000" y="260280"/>
            <a:ext cx="824040" cy="1368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4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1"/>
          <p:cNvSpPr/>
          <p:nvPr/>
        </p:nvSpPr>
        <p:spPr>
          <a:xfrm>
            <a:off x="5940360" y="5013360"/>
            <a:ext cx="2232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2"/>
          <p:cNvSpPr/>
          <p:nvPr/>
        </p:nvSpPr>
        <p:spPr>
          <a:xfrm>
            <a:off x="6012000" y="5445000"/>
            <a:ext cx="2232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5940360" y="6021360"/>
            <a:ext cx="2303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6012000" y="6453360"/>
            <a:ext cx="2232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3924360" y="4653000"/>
            <a:ext cx="1933560" cy="865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2268360" y="4365720"/>
            <a:ext cx="1656000" cy="1152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4140360" y="5589720"/>
            <a:ext cx="1703160" cy="993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4"/>
          <a:stretch/>
        </p:blipFill>
        <p:spPr>
          <a:xfrm>
            <a:off x="108000" y="5516640"/>
            <a:ext cx="1942920" cy="93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5"/>
          <a:stretch/>
        </p:blipFill>
        <p:spPr>
          <a:xfrm>
            <a:off x="971640" y="1268280"/>
            <a:ext cx="7129440" cy="302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"/>
          <p:cNvPicPr/>
          <p:nvPr/>
        </p:nvPicPr>
        <p:blipFill>
          <a:blip r:embed="rId6"/>
          <a:stretch/>
        </p:blipFill>
        <p:spPr>
          <a:xfrm>
            <a:off x="2050920" y="5661000"/>
            <a:ext cx="1920960" cy="741240"/>
          </a:xfrm>
          <a:prstGeom prst="rect">
            <a:avLst/>
          </a:prstGeom>
          <a:ln w="0">
            <a:noFill/>
          </a:ln>
        </p:spPr>
      </p:pic>
      <p:sp>
        <p:nvSpPr>
          <p:cNvPr id="105" name="WordArt 11"/>
          <p:cNvSpPr txBox="1"/>
          <p:nvPr/>
        </p:nvSpPr>
        <p:spPr>
          <a:xfrm>
            <a:off x="2124000" y="260280"/>
            <a:ext cx="49719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идактическая игра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Кто проедет первым?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Oval 12"/>
          <p:cNvSpPr/>
          <p:nvPr/>
        </p:nvSpPr>
        <p:spPr>
          <a:xfrm>
            <a:off x="3780000" y="1484280"/>
            <a:ext cx="144360" cy="21600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13"/>
          <p:cNvGrpSpPr/>
          <p:nvPr/>
        </p:nvGrpSpPr>
        <p:grpSpPr>
          <a:xfrm>
            <a:off x="108000" y="4581360"/>
            <a:ext cx="1868400" cy="897120"/>
            <a:chOff x="108000" y="4581360"/>
            <a:chExt cx="1868400" cy="897120"/>
          </a:xfrm>
        </p:grpSpPr>
        <p:pic>
          <p:nvPicPr>
            <p:cNvPr id="108" name="Picture 14" descr=""/>
            <p:cNvPicPr/>
            <p:nvPr/>
          </p:nvPicPr>
          <p:blipFill>
            <a:blip r:embed="rId7"/>
            <a:stretch/>
          </p:blipFill>
          <p:spPr>
            <a:xfrm>
              <a:off x="108000" y="4581360"/>
              <a:ext cx="18684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WordArt 15"/>
            <p:cNvSpPr txBox="1"/>
            <p:nvPr/>
          </p:nvSpPr>
          <p:spPr>
            <a:xfrm>
              <a:off x="324000" y="4797360"/>
              <a:ext cx="787320" cy="13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молоко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p:transition>
    <p:diamond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0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9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3680" bIns="13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дактическая игра «Светофо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накомить детей с правилами перехода (переезда) перекрестка, регулируемого светофо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: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ые, желтые, и зеленые круги, машины, фигурки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д иг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из играющих устанавливает определенные цвета светофора (наложением красных, желтых или зеленых кругов),  второй фигурки детей идущих ( по пешеходным дорожкам) в соответствии с правилами дорожного движения .Третий проводит через перекресток машины ( по проезжей части). Затем игроки меняются ролями. Рассматриваются различные ситуации, определяемые цветами светофора и положением машин и пешеходов. Тот из игроков, который безошибочно решает все возникшие в процессе игры задачи или допускает меньше ошибок (набирает меньшее число штрафных очков),считается победите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3"/>
          <p:cNvSpPr txBox="1"/>
          <p:nvPr/>
        </p:nvSpPr>
        <p:spPr>
          <a:xfrm>
            <a:off x="755640" y="620640"/>
            <a:ext cx="78199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434080" y="2565000"/>
            <a:ext cx="28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2340000" y="4581360"/>
            <a:ext cx="45720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73737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816840"/>
            <a:ext cx="8224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532360" y="1599840"/>
            <a:ext cx="1494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8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55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 «Угадай транспор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4035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549360"/>
            <a:ext cx="84358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акреплять представления детей о транспорте, умению описанию (загадке) узнавать предметы; развивать смекалку, быстроту мышления и речевую актив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зывать транспорт можно только после того, как прозвучит загадка о нём. Выигрывает тот, кто больше даст правильных ответов, т. е. получивший больше фишек. Дети сидят полук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ы с вами беседовали о транспорте, наблюдали за его движением по дороге, а сегодня поиграем в игру, которая называется «Угадай транспорт». Послушайте правила игры. Я буду загадывать загадки о транспорте, а вы должны подумать и правильно их отгадать. Кто первым правильно отгадает, о каком транспорте идёт речь в загадке, получает фишку. У кого в конце игры будет больше фишек, тот и побед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видно по всюду, их видно из окон,                                Мчится огненной стрелой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лице движутся быстрым потоком.                              Мчится в даль маш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перевозят различные грузы –                                      И зальет пожар люб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пич и железо, зерно и арбузы .                                      Смелая друж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рузовики)                                                                           (Пожарная маши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адай транспорт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4035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549360"/>
            <a:ext cx="84358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6769080" cy="5484600"/>
          </a:xfrm>
          <a:prstGeom prst="rect">
            <a:avLst/>
          </a:prstGeom>
          <a:ln w="0">
            <a:noFill/>
          </a:ln>
        </p:spPr>
      </p:pic>
      <p:pic>
        <p:nvPicPr>
          <p:cNvPr id="58" name="Объект 3" descr=""/>
          <p:cNvPicPr/>
          <p:nvPr/>
        </p:nvPicPr>
        <p:blipFill>
          <a:blip r:embed="rId2"/>
          <a:stretch/>
        </p:blipFill>
        <p:spPr>
          <a:xfrm>
            <a:off x="1774800" y="1158840"/>
            <a:ext cx="58006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й да смекай (лот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5280" y="1150560"/>
            <a:ext cx="38703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азвивать зрительное восприяти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соотносить речевую фор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я( называния) дорожных зна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 их графическим изображение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зображение дорожного зна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вается только после прослуши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и о нё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игрывает тот, кто первым правиль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оет все изоб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1640" y="1125360"/>
            <a:ext cx="4397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4572000" y="1150920"/>
            <a:ext cx="442440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дактическая игра «Весёлый жез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549360"/>
            <a:ext cx="4788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бобщить представление о правилах поведения пешеходов на улице; активизировать знания детей, их речь, память, мышление; воспитывать желание выполнять ПДД в 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лушать внимательно ответы товарищей и не повторяться. Выигрывает та команда, которая назовёт больше правил для пешеходов.  Давать ответ можно, только получив жез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делит детей на две соревнующиеся команды, сообщает название игры и её прави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Тот, кому я в руки дам жезл, должен будет назвать одно из правил поведения пешехода на улице. Названные правила повторять нельзя, поэтому будьте очень внимательны! Победит та команда, которая назовёт больше правил и не повтор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з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ходит поочерёдно из одной команды в другую. Дети называют прави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ереходить улицу можно по пешеходному подземному переходу или только на зелёный сигнал светофора. Пешеходам разрешается ходить только потротуарам; если нет тротуара, можно двигаться полевой обочине навстречу движению транспорта. Нельзя играть около дороги и на проезжей части. Нельзя перебегать улицу перед близко идущим транспортом и переходить улицу маленьким детям без взрослых. Прежде чем перейти улицу, надо посмотреть сначала налево, затем направо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59280" y="1620360"/>
            <a:ext cx="40370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Объект 3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4137120" cy="4608720"/>
          </a:xfrm>
          <a:prstGeom prst="rect">
            <a:avLst/>
          </a:prstGeom>
          <a:ln w="0">
            <a:noFill/>
          </a:ln>
        </p:spPr>
      </p:pic>
      <p:pic>
        <p:nvPicPr>
          <p:cNvPr id="67" name="Объект 3" descr=""/>
          <p:cNvPicPr/>
          <p:nvPr/>
        </p:nvPicPr>
        <p:blipFill>
          <a:blip r:embed="rId2"/>
          <a:stretch/>
        </p:blipFill>
        <p:spPr>
          <a:xfrm>
            <a:off x="4643280" y="1197000"/>
            <a:ext cx="4353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Угадай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ой зна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?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0920" y="691920"/>
            <a:ext cx="8070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детей различать дорожные знаки, закреплять знания детей о правилах дорожного движения; воспитывать умение самостоятельно пользоваться полученными знаниями в повседнев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ики с наклеенными на них дорожными знаками: предупреждающими, запрещающими, указательными и знаками сервис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 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вариан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едущий приглашает по очереди к столу, где лежат кубики. Ребенок берет кубик, называет знак и подходит к детям, у которых уже есть знаки этой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вариан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едущий показывает знак. Дети находят этот знак на своих кубиках, показывают его и рассказывают, что он обознач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вариан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грающим раздают кубики. Дети внимательно изучают их. Далее каждый ребенок рассказывает о своем зн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597360"/>
            <a:ext cx="9036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08000" y="128160"/>
            <a:ext cx="4464000" cy="66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/И  Светофор и     регулировщ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ить знания детей о работе сотрудников ГИБДД (регулировщика); объяснить значение его жестов; учить детей соотносить жесты регулировщика с цветом светоф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ровщик, палочка регулировщика, знаки светоф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бъяснения воспитателя дети по очереди выступают в роли регулировщика, показывая его жесты, остальные в зависимости от положения «регулировщика показывает нужный сигнал светоф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0560" y="180720"/>
            <a:ext cx="4681440" cy="67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Правила повед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акрепить с детьми правила поведения; обсудить различные опасные ситуации, которые могут возникнуть при играх во дворе дома, на улице; научить необходимым мерам предосторо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азрезные карт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ске картинки, на которых изображены люди в различных ситуациях. Воспитатель предлагает детям рассмотреть их. Дети рассматривают эти картинки, выбирают любую и рассказывают, вспоминая правила дорожного движения, чего нельзя делать и как надо поступ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0:13:24Z</dcterms:created>
  <dc:creator>student</dc:creator>
  <dc:description/>
  <cp:keywords>урок швейного мастерства</cp:keywords>
  <dc:language>en-US</dc:language>
  <cp:lastModifiedBy>оля</cp:lastModifiedBy>
  <dcterms:modified xsi:type="dcterms:W3CDTF">2019-12-04T11:49:41Z</dcterms:modified>
  <cp:revision>130</cp:revision>
  <dc:subject/>
  <dc:title>УРОК ШВЕЙНОГО МАСТЕРСТВА. ИНСТРУМЕНТЫ И ПРИСПОСОБЛЕНИЯ.</dc:title>
</cp:coreProperties>
</file>