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1.jpeg" ContentType="image/jpeg"/>
  <Override PartName="/ppt/media/image9.jpeg" ContentType="image/jpeg"/>
  <Override PartName="/ppt/media/image8.jpeg" ContentType="image/jpeg"/>
  <Override PartName="/ppt/media/image5.png" ContentType="image/png"/>
  <Override PartName="/ppt/media/image28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13.gif" ContentType="image/gif"/>
  <Override PartName="/ppt/media/image4.jpeg" ContentType="image/jpeg"/>
  <Override PartName="/ppt/media/image2.png" ContentType="image/png"/>
  <Override PartName="/ppt/media/image25.jpeg" ContentType="image/jpeg"/>
  <Override PartName="/ppt/media/image26.jpeg" ContentType="image/jpeg"/>
  <Override PartName="/ppt/media/image24.png" ContentType="image/png"/>
  <Override PartName="/ppt/media/image23.jpeg" ContentType="image/jpeg"/>
  <Override PartName="/ppt/media/image20.jpeg" ContentType="image/jpeg"/>
  <Override PartName="/ppt/media/image15.gif" ContentType="image/gif"/>
  <Override PartName="/ppt/media/image18.png" ContentType="image/png"/>
  <Override PartName="/ppt/media/image19.jpeg" ContentType="image/jpeg"/>
  <Override PartName="/ppt/media/image21.png" ContentType="image/png"/>
  <Override PartName="/ppt/media/image16.gif" ContentType="image/gif"/>
  <Override PartName="/ppt/media/image14.png" ContentType="image/png"/>
  <Override PartName="/ppt/media/image3.png" ContentType="image/png"/>
  <Override PartName="/ppt/media/image17.jpeg" ContentType="image/jpeg"/>
  <Override PartName="/ppt/media/image10.png" ContentType="image/png"/>
  <Override PartName="/ppt/media/image2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FB0D-A71C-4E28-B587-D2DE82BBC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6DBF-EC6C-465E-A839-3B5E74D36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2BB8-AD27-4217-AC2E-014B9BA1F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CA4E-2CAA-406A-8BBF-100B2F41C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7785F-DD1A-4166-9A97-E69205269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239AB-4719-418B-A44F-56C4D0AD0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1B152-AD68-4B0A-B7F3-BAAFD2DD2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B7D84-BE56-4AEA-8A04-D99B3ED5F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CF66A-ECA2-40CA-8867-D56DE7755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49AA7-C92B-45B1-BC25-69909AD50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DFEC6-0BB6-46C8-BC95-6317953AA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ECE8-D1AF-4127-9906-DB780B31A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57FD4-4BFE-495D-B793-6FB79A18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87030-FE0D-4616-B384-B5D66574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A6BEC-5FE3-42EB-9E38-626C8FC1E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29759-DD05-4F0D-B083-538EACDBC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E095B-22F1-4403-9CE1-948EE5B09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21C4B-3003-451D-88E0-0E4D18BD2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A7D1F-0238-4B41-9F0D-9662C93C1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8F260-4185-46AE-B453-FD1E71A7D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7A1CB-B92A-4131-8B6F-8BA54AB94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74F22-6B4F-435F-8D07-D4DF31A77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596F-ACDA-4CC4-9669-0D1A06D7B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CD18D-C6DA-430A-93BB-D5FC04A6B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EE70B-8428-4D41-8B4C-30B2521C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DB265-BB11-4018-BAC6-361F474C3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37650-23F2-4EF7-9E82-346D80F93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AD882-ABAB-4DCC-8A40-E6A7D949A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A6712-3261-40F5-A993-47597678D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78C40-4F46-4315-A0A9-A259FBA82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19EA5-2A84-4C35-93AA-2BDBA5BBC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51B0A-9525-4CBD-A9E7-808864EE5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F600A-027E-48C0-BC0B-D8F286A22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86DA-2BE2-46FD-BAC7-55ED1CBD9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C4084-B95C-4D82-84D7-1E79B2754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EB5B3-1F43-405A-AA8D-DA91B0036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08D9E-E6DE-47BE-BD27-72F23842F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2C651-B00F-49C0-909B-48D406C7D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F8CBD-39CB-4EAD-8C71-CE1E0AD3E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9BEC2-52CA-47F4-9619-0117FB5F1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3067C-F9D5-4FC7-B9E3-A19213092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A767C-2B8C-4F81-8550-4F883B3DE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0ED1F-7183-4F40-9DBF-71552F7D9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BDC9-F98D-466E-BA2D-EF34F16CA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E24B-0F60-4CF4-A998-A7D39E456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0B53-36B5-4E0F-84A3-44CF49C3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9E28-F35B-4C35-865F-0D05B32C0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4246-3C8A-4F11-885B-51F642114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60830-1DA5-4682-86E9-D15DFBDE440C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A2CE9-5B7A-4783-9710-7313A6760789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C20D5-1D53-48C8-9241-E2A3FB507518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0542D-7B10-4B4D-84F8-8507CC54F0A9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Прямоугольник 9" descr=""/>
          <p:cNvPicPr/>
          <p:nvPr/>
        </p:nvPicPr>
        <p:blipFill>
          <a:blip r:embed="rId1"/>
          <a:stretch/>
        </p:blipFill>
        <p:spPr>
          <a:xfrm>
            <a:off x="858960" y="2511360"/>
            <a:ext cx="7589880" cy="20844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C:\Documents and Settings\Наталья\Мои документы\Мои рисунки\sd10.gif"/>
          <p:cNvPicPr/>
          <p:nvPr/>
        </p:nvPicPr>
        <p:blipFill>
          <a:blip r:embed="rId2"/>
          <a:stretch/>
        </p:blipFill>
        <p:spPr>
          <a:xfrm>
            <a:off x="0" y="357120"/>
            <a:ext cx="2352600" cy="19908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Заголовок 1" descr=""/>
          <p:cNvPicPr/>
          <p:nvPr/>
        </p:nvPicPr>
        <p:blipFill>
          <a:blip r:embed="rId1"/>
          <a:stretch/>
        </p:blipFill>
        <p:spPr>
          <a:xfrm>
            <a:off x="189000" y="1566720"/>
            <a:ext cx="8905680" cy="11527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" descr="https://i2.wp.com/kladraz.ru/upload/blogs/5831_5621d88fd63b563e7cd43e334ba6730f.jpg"/>
          <p:cNvPicPr/>
          <p:nvPr/>
        </p:nvPicPr>
        <p:blipFill>
          <a:blip r:embed="rId2"/>
          <a:stretch/>
        </p:blipFill>
        <p:spPr>
          <a:xfrm>
            <a:off x="2643120" y="3071880"/>
            <a:ext cx="3376800" cy="34164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https://i2.wp.com/kladraz.ru/upload/blogs/5831_5621d88fd63b563e7cd43e334ba6730f.jpg"/>
          <p:cNvPicPr/>
          <p:nvPr/>
        </p:nvPicPr>
        <p:blipFill>
          <a:blip r:embed="rId1"/>
          <a:stretch/>
        </p:blipFill>
        <p:spPr>
          <a:xfrm>
            <a:off x="4767120" y="642960"/>
            <a:ext cx="4376880" cy="44290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4" descr="https://ds05.infourok.ru/uploads/ex/1150/0009872f-d47f3641/img1.jpg"/>
          <p:cNvPicPr/>
          <p:nvPr/>
        </p:nvPicPr>
        <p:blipFill>
          <a:blip r:embed="rId2"/>
          <a:stretch/>
        </p:blipFill>
        <p:spPr>
          <a:xfrm>
            <a:off x="142920" y="857160"/>
            <a:ext cx="4714920" cy="4214880"/>
          </a:xfrm>
          <a:prstGeom prst="rect">
            <a:avLst/>
          </a:prstGeom>
          <a:ln w="0">
            <a:noFill/>
          </a:ln>
        </p:spPr>
      </p:pic>
      <p:pic>
        <p:nvPicPr>
          <p:cNvPr id="199" name="Текст 8" descr=""/>
          <p:cNvPicPr/>
          <p:nvPr/>
        </p:nvPicPr>
        <p:blipFill>
          <a:blip r:embed="rId3"/>
          <a:stretch/>
        </p:blipFill>
        <p:spPr>
          <a:xfrm>
            <a:off x="281160" y="5230800"/>
            <a:ext cx="8654760" cy="14191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Рисунок 2" descr=""/>
          <p:cNvPicPr/>
          <p:nvPr/>
        </p:nvPicPr>
        <p:blipFill>
          <a:blip r:embed="rId1"/>
          <a:srcRect l="0" t="0" r="0" b="3069"/>
          <a:stretch/>
        </p:blipFill>
        <p:spPr>
          <a:xfrm>
            <a:off x="1428840" y="785880"/>
            <a:ext cx="6000840" cy="5857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" descr="H:\МАМА\АНИМАШКИ\6236051.gif"/>
          <p:cNvPicPr/>
          <p:nvPr/>
        </p:nvPicPr>
        <p:blipFill>
          <a:blip r:embed="rId2"/>
          <a:stretch/>
        </p:blipFill>
        <p:spPr>
          <a:xfrm>
            <a:off x="8001000" y="714240"/>
            <a:ext cx="1050840" cy="30006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H:\МАМА\АНИМАШКИ\7de2f52d7e092eb3600c2b41a224e24b.gif"/>
          <p:cNvPicPr/>
          <p:nvPr/>
        </p:nvPicPr>
        <p:blipFill>
          <a:blip r:embed="rId3"/>
          <a:stretch/>
        </p:blipFill>
        <p:spPr>
          <a:xfrm>
            <a:off x="142920" y="4178160"/>
            <a:ext cx="1071360" cy="26798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Заголовок 1" descr=""/>
          <p:cNvPicPr/>
          <p:nvPr/>
        </p:nvPicPr>
        <p:blipFill>
          <a:blip r:embed="rId1"/>
          <a:stretch/>
        </p:blipFill>
        <p:spPr>
          <a:xfrm>
            <a:off x="450720" y="603360"/>
            <a:ext cx="8321760" cy="124920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1"/>
          <p:cNvSpPr/>
          <p:nvPr/>
        </p:nvSpPr>
        <p:spPr>
          <a:xfrm>
            <a:off x="357120" y="186084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5d78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3e5d78"/>
                </a:solidFill>
                <a:latin typeface="Times New Roman"/>
                <a:ea typeface="Times New Roman"/>
              </a:rPr>
              <a:t>Дети имеют право на выживание и всестороннее развитие, включая физическое, эмоциональное, психосоциальное, познавательное социальное и культурн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3" descr="H:\МАМА\АНИМАШКИ\6f95c142022010aff6af7f0ca5166009.gif"/>
          <p:cNvPicPr/>
          <p:nvPr/>
        </p:nvPicPr>
        <p:blipFill>
          <a:blip r:embed="rId2"/>
          <a:stretch/>
        </p:blipFill>
        <p:spPr>
          <a:xfrm>
            <a:off x="214200" y="4357800"/>
            <a:ext cx="1928880" cy="20113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" descr="H:\МАМА\Презентации\Сашина презентация\359504974.gif"/>
          <p:cNvPicPr/>
          <p:nvPr/>
        </p:nvPicPr>
        <p:blipFill>
          <a:blip r:embed="rId3"/>
          <a:stretch/>
        </p:blipFill>
        <p:spPr>
          <a:xfrm>
            <a:off x="6286680" y="2500200"/>
            <a:ext cx="2746080" cy="22478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C:\Documents and Settings\Наталья\Мои документы\Мои рисунки\ef45a1b3ee50.jpg"/>
          <p:cNvPicPr/>
          <p:nvPr/>
        </p:nvPicPr>
        <p:blipFill>
          <a:blip r:embed="rId4"/>
          <a:stretch/>
        </p:blipFill>
        <p:spPr>
          <a:xfrm>
            <a:off x="2500200" y="3143160"/>
            <a:ext cx="3714840" cy="32860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Заголовок 4" descr=""/>
          <p:cNvPicPr/>
          <p:nvPr/>
        </p:nvPicPr>
        <p:blipFill>
          <a:blip r:embed="rId1"/>
          <a:stretch/>
        </p:blipFill>
        <p:spPr>
          <a:xfrm>
            <a:off x="2335320" y="-49320"/>
            <a:ext cx="6711840" cy="29149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" descr="D:\Права ребенка\44baf1b9d1bc76008382292dfaf65e18.jpg"/>
          <p:cNvPicPr/>
          <p:nvPr/>
        </p:nvPicPr>
        <p:blipFill>
          <a:blip r:embed="rId2"/>
          <a:stretch/>
        </p:blipFill>
        <p:spPr>
          <a:xfrm>
            <a:off x="357120" y="428760"/>
            <a:ext cx="2000160" cy="24177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" descr="C:\Documents and Settings\Наталья\Мои документы\Мои рисунки\99_1.jpg"/>
          <p:cNvPicPr/>
          <p:nvPr/>
        </p:nvPicPr>
        <p:blipFill>
          <a:blip r:embed="rId3"/>
          <a:stretch/>
        </p:blipFill>
        <p:spPr>
          <a:xfrm>
            <a:off x="1643040" y="3000240"/>
            <a:ext cx="4344840" cy="32544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" descr="C:\Documents and Settings\Наталья\Мои документы\Мои рисунки\pic01.jpg"/>
          <p:cNvPicPr/>
          <p:nvPr/>
        </p:nvPicPr>
        <p:blipFill>
          <a:blip r:embed="rId4"/>
          <a:stretch/>
        </p:blipFill>
        <p:spPr>
          <a:xfrm>
            <a:off x="6500880" y="2071800"/>
            <a:ext cx="2643120" cy="35208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5"/>
          <p:cNvSpPr/>
          <p:nvPr/>
        </p:nvSpPr>
        <p:spPr>
          <a:xfrm rot="475200">
            <a:off x="3691080" y="1546200"/>
            <a:ext cx="4471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Статья 24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ребенок имеет право на охрану своего здоровья: на получение медицинской помощи, чистой питьевой воды и полноценного питания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Рисунок 6" descr="https://onkologia.ru/wp-content/uploads/2018/11/gemangioma-u-detey-klassifikatsiya-mesta-lokalizatsii-etiologiya-i-patogenez-lechenie-profilaktika.jpg"/>
          <p:cNvPicPr/>
          <p:nvPr/>
        </p:nvPicPr>
        <p:blipFill>
          <a:blip r:embed="rId1"/>
          <a:stretch/>
        </p:blipFill>
        <p:spPr>
          <a:xfrm>
            <a:off x="142920" y="571680"/>
            <a:ext cx="3071880" cy="2286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8" descr="https://st4.depositphotos.com/16122460/25097/i/950/depositphotos_250972090-stock-photo-doctor-checking-little-boys-pulse.jpg"/>
          <p:cNvPicPr/>
          <p:nvPr/>
        </p:nvPicPr>
        <p:blipFill>
          <a:blip r:embed="rId2"/>
          <a:stretch/>
        </p:blipFill>
        <p:spPr>
          <a:xfrm>
            <a:off x="214200" y="3857760"/>
            <a:ext cx="2714760" cy="19796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Заголовок 1" descr=""/>
          <p:cNvPicPr/>
          <p:nvPr/>
        </p:nvPicPr>
        <p:blipFill>
          <a:blip r:embed="rId1"/>
          <a:stretch/>
        </p:blipFill>
        <p:spPr>
          <a:xfrm>
            <a:off x="249120" y="768240"/>
            <a:ext cx="8925120" cy="3608640"/>
          </a:xfrm>
          <a:prstGeom prst="rect">
            <a:avLst/>
          </a:prstGeom>
          <a:ln w="0">
            <a:noFill/>
          </a:ln>
        </p:spPr>
      </p:pic>
      <p:pic>
        <p:nvPicPr>
          <p:cNvPr id="216" name="Рисунок 2" descr="https://static3.depositphotos.com/1005091/220/v/950/depositphotos_2202060-stock-illustration-house-with-garden.jpg"/>
          <p:cNvPicPr/>
          <p:nvPr/>
        </p:nvPicPr>
        <p:blipFill>
          <a:blip r:embed="rId2"/>
          <a:stretch/>
        </p:blipFill>
        <p:spPr>
          <a:xfrm>
            <a:off x="5500800" y="3929040"/>
            <a:ext cx="3214440" cy="27860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1176480"/>
            <a:ext cx="221292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Статья 28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Прямоугольник 5"/>
          <p:cNvSpPr/>
          <p:nvPr/>
        </p:nvSpPr>
        <p:spPr>
          <a:xfrm>
            <a:off x="4143240" y="500040"/>
            <a:ext cx="4857840" cy="43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ребенок имеет право н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ние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чальное образование должно быть обязательным и бесплатным, среднее и высшее - доступным для всех детей. В школах должны соблюдаться права ребенка и проявляться уважение к его человеческому достоинств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4" descr="http://image.websib.ru/06/img/kid_with_book.jpg"/>
          <p:cNvPicPr/>
          <p:nvPr/>
        </p:nvPicPr>
        <p:blipFill>
          <a:blip r:embed="rId1"/>
          <a:stretch/>
        </p:blipFill>
        <p:spPr>
          <a:xfrm>
            <a:off x="142920" y="500040"/>
            <a:ext cx="4000320" cy="44290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42600" y="713880"/>
            <a:ext cx="2212920" cy="901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Статья 31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Rectangle 1"/>
          <p:cNvSpPr/>
          <p:nvPr/>
        </p:nvSpPr>
        <p:spPr>
          <a:xfrm rot="449400">
            <a:off x="3525840" y="1176120"/>
            <a:ext cx="4890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ребенок имеет право н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ых и игр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также на участие в культурной и творческой  жиз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5" descr="http://www.mddm.org/decor/arch/black06/009.jpg"/>
          <p:cNvPicPr/>
          <p:nvPr/>
        </p:nvPicPr>
        <p:blipFill>
          <a:blip r:embed="rId1"/>
          <a:srcRect l="7238" t="0" r="1619" b="0"/>
          <a:stretch/>
        </p:blipFill>
        <p:spPr>
          <a:xfrm>
            <a:off x="500040" y="2857680"/>
            <a:ext cx="4143240" cy="30715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2:28:57Z</dcterms:created>
  <dc:creator>школа</dc:creator>
  <dc:description/>
  <dc:language>en-US</dc:language>
  <cp:lastModifiedBy>User</cp:lastModifiedBy>
  <dcterms:modified xsi:type="dcterms:W3CDTF">2019-12-04T16:30:12Z</dcterms:modified>
  <cp:revision>96</cp:revision>
  <dc:subject/>
  <dc:title>Слайд 1</dc:title>
</cp:coreProperties>
</file>