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8A6-2DE7-458D-ACA8-04709E67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0BB-2430-4B0A-A12B-B5F4D367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FC2-32A9-4BF4-917F-D7C6B301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3B1-449C-45F9-86F9-270CA0C4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2547-9F7F-4BE7-9A12-AF15EE6E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48E3-B54A-42E4-88DD-032ED13E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EA4E-05F2-4354-9C37-B4C8A2DF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A21A-3ECE-400D-A570-48E190CC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D927-A60E-49D4-B04B-74AC3C22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DF1F-0EFC-49A9-B691-2870EB90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9364-8852-426F-A583-63B6573A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EF0-BC85-465C-B669-8075A8FD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75B7-8A86-4A7A-B510-992EDC9B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20C4-1929-4A8D-827E-B8E257C5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6E45-5CF6-40E2-87C2-C65F2B55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4D49-F9AC-47D3-BC9D-27451D46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8EF3-6426-44A4-9229-C1D37936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D5159-16E8-4B5E-8F37-1D2CD89F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346FD-F363-41C1-B1E1-DFF73D66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43BA9-6B1F-4256-A049-99E65263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BE47F-B79B-442A-927E-012C84C6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18292-4E28-4799-AC14-5BEA3643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7D3-3ADD-46A0-9FE4-53E79DCF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C85EB-BB1E-4373-A27F-4A51996E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7A150-5325-44E2-9978-0D82AF37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3D190-5381-4127-AC9D-4BAF647A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2277-6FC7-45EB-BA81-89ADFB92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1FDC7-BDCC-4C76-A3D9-991964D8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8F1F-39C8-4FEB-9988-051A01BF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C137-021B-4CD7-8EC7-FBD15829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F7A-AB9E-4674-A20C-62FB7D0B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09B2-B128-4084-AD8D-89349007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A87-E457-45FB-BA9F-E53191E3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131-9192-45A6-95B8-6C3FF8AA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CC7-1571-4295-9AFC-67C9356E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E8A-39A6-490A-9FBE-DDD1316E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328C-2EB5-4153-BE13-B895D77C1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C2AD-6D34-44CC-94E3-9C046A3837A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607F-2637-4CB6-BEDF-82BE8C16DF7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547280" y="475920"/>
            <a:ext cx="6409080" cy="13669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ползни, сели, обвалы, лавин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опасное явление"/>
          <p:cNvPicPr/>
          <p:nvPr/>
        </p:nvPicPr>
        <p:blipFill>
          <a:blip r:embed="rId1"/>
          <a:stretch/>
        </p:blipFill>
        <p:spPr>
          <a:xfrm>
            <a:off x="1619280" y="2060640"/>
            <a:ext cx="6264360" cy="44402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4247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Сели образуются в гор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Причины с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197000"/>
          <a:ext cx="8218440" cy="546732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Природ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Антропоген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вязанные с деятельностью человека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етрясе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кладка доро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неправильна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вержение вулкан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вода и пепе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рубка лесов и кустарни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тественное разрушение го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рывные работы вблизи оползневых участ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СЕЛЬ 1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101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30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Times New Roman"/>
              </a:rPr>
              <a:t>Обвал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рыв и катастрофическое падение больших масс горных пород, их дробление  и скатывание на крутых горных склон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50920" y="292428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новидности обвал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амнепа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Обвалы грун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Обрушение лед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чины обва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В основном антропогенные (до 80 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правильное проведение работ при строительстве и горных разработках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Природные прич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ильные дожд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обвал2"/>
          <p:cNvPicPr/>
          <p:nvPr/>
        </p:nvPicPr>
        <p:blipFill>
          <a:blip r:embed="rId1"/>
          <a:stretch/>
        </p:blipFill>
        <p:spPr>
          <a:xfrm>
            <a:off x="539640" y="404640"/>
            <a:ext cx="8137800" cy="5977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обвал1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61722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30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Times New Roman"/>
              </a:rPr>
              <a:t>Лавина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ыстрое, внезапно возникающее движение снега и (или) льда вниз по крутым склонам гор, представляющее угрозу жизни и деятельност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50920" y="292428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озникают в гор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ход лавины сопровождается  образованием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оздушной предударной волн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изводящей наибольшие разруш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акторы, влияющие на возникновение л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Много сне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Склон, угол наклона которого превышает 14 градусов (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если угол склона 30 – 40 градусов, то лавина неизбежна</a:t>
            </a: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Наличие открытого склона длиной 100 – 500 мет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лавины1"/>
          <p:cNvPicPr/>
          <p:nvPr/>
        </p:nvPicPr>
        <p:blipFill>
          <a:blip r:embed="rId1"/>
          <a:stretch/>
        </p:blipFill>
        <p:spPr>
          <a:xfrm>
            <a:off x="1042920" y="404640"/>
            <a:ext cx="7201080" cy="6048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лавины2"/>
          <p:cNvPicPr/>
          <p:nvPr/>
        </p:nvPicPr>
        <p:blipFill>
          <a:blip r:embed="rId1"/>
          <a:stretch/>
        </p:blipFill>
        <p:spPr>
          <a:xfrm>
            <a:off x="755640" y="404640"/>
            <a:ext cx="7848720" cy="5950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щее условие возникновения этих опасных природных явлен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Начало смещения грунта, скальных пород или снега вниз по скл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ерритории нашей страны, где часто происходят оползни, сели, обвалы, лавин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Северный Кавказ, Урал, Саяны, Приморье, Камчатка, Сахал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лавины3"/>
          <p:cNvPicPr/>
          <p:nvPr/>
        </p:nvPicPr>
        <p:blipFill>
          <a:blip r:embed="rId1"/>
          <a:stretch/>
        </p:blipFill>
        <p:spPr>
          <a:xfrm>
            <a:off x="1187280" y="404640"/>
            <a:ext cx="6769440" cy="5869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6814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Еще в прошлом веке в Альпах людей, засыпанных снегом, помогали обнаруживать большие сильные собаки </a:t>
            </a: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сенбернары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, названные так в честь высокогорного монастыря Святого Бернара, где их разводили. Близ Парижа на специальном собачьем кладбище установлен памятник сенбернару Барри, спасшему 40 человек. Эти добродушные крупные собаки отыскали в горах более 2000 человек. Сейчас на смену сенбернарам пришли </a:t>
            </a: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восточноевропейские овчарки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пасибо за внимание </a:t>
            </a:r>
            <a:r>
              <a:rPr b="0" lang="ru-RU" sz="4400" spc="-1" strike="noStrike">
                <a:solidFill>
                  <a:srgbClr val="e5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4" name="Объект 3" descr=""/>
          <p:cNvPicPr/>
          <p:nvPr/>
        </p:nvPicPr>
        <p:blipFill>
          <a:blip r:embed="rId1"/>
          <a:stretch/>
        </p:blipFill>
        <p:spPr>
          <a:xfrm>
            <a:off x="-2556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30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Оползен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мещение масс горных пород по склону под воздействием  собственного тела и дополнительной нагрузки вследствие подмыва склона, переувлажнения, сейсмических толчков и иных процес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497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ричины оползн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836640"/>
          <a:ext cx="8424720" cy="576108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Природ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Антропоген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вязанные с деятельностью человека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етрясени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кладка доро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увлажнение почв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ожди, наводнения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Вода – «смазка» между пластами горных пор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рубка лесов и кустарни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рывные работы вблизи оползневых участ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контролируемая распашка  и полив земельных участков на склон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оплзень1"/>
          <p:cNvPicPr/>
          <p:nvPr/>
        </p:nvPicPr>
        <p:blipFill>
          <a:blip r:embed="rId1"/>
          <a:stretch/>
        </p:blipFill>
        <p:spPr>
          <a:xfrm>
            <a:off x="1619280" y="260280"/>
            <a:ext cx="6192720" cy="6193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оплзень2"/>
          <p:cNvPicPr/>
          <p:nvPr/>
        </p:nvPicPr>
        <p:blipFill>
          <a:blip r:embed="rId1"/>
          <a:stretch/>
        </p:blipFill>
        <p:spPr>
          <a:xfrm>
            <a:off x="395280" y="333360"/>
            <a:ext cx="8496360" cy="57596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оползень3"/>
          <p:cNvPicPr/>
          <p:nvPr/>
        </p:nvPicPr>
        <p:blipFill>
          <a:blip r:embed="rId1"/>
          <a:stretch/>
        </p:blipFill>
        <p:spPr>
          <a:xfrm>
            <a:off x="684360" y="404640"/>
            <a:ext cx="7632720" cy="5724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оползень4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61912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30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Times New Roman"/>
              </a:rPr>
              <a:t>Сель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(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сайль – «бурный поток»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орный поток, состоящий из смеси воды, грязи, камней (бывают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язевы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аменны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язекаменны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8:19:16Z</dcterms:created>
  <dc:creator>жилин олег юрьевич</dc:creator>
  <dc:description/>
  <dc:language>en-US</dc:language>
  <cp:lastModifiedBy>Filin</cp:lastModifiedBy>
  <dcterms:modified xsi:type="dcterms:W3CDTF">2016-12-15T18:27:32Z</dcterms:modified>
  <cp:revision>3</cp:revision>
  <dc:subject/>
  <dc:title>Слайд 1</dc:title>
</cp:coreProperties>
</file>