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6D18-ADFD-412F-8BFC-62A2AF63E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D12C-46A6-4BE0-AF0C-F7323C59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79EC-47C8-4941-B59F-2FAB8406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C2DF-0D05-4461-842F-BA2FE5645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D451-2C9B-438B-95D1-C4B28C05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A5A8-5D95-4DF7-871E-972CF460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5F3B-054D-49A8-9C56-EF257989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D321-2694-4693-9CD8-A1232DB8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27FD-8333-4117-B0DB-0CCA5CB3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7755-DAFD-42F7-933D-1F90E180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6E23-A4A0-4309-B7FC-03BAACE7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C22B-4D3F-46A7-8B5C-9A3E8099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F04A-A085-4B19-806A-CAA014E84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2130480"/>
            <a:ext cx="83059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Прохождение военной службы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по призыв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152280"/>
            <a:ext cx="8305920" cy="825480"/>
          </a:xfrm>
          <a:prstGeom prst="rect">
            <a:avLst/>
          </a:prstGeom>
          <a:solidFill>
            <a:srgbClr val="008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ля военнослужащих устанавливаются военная форма и знаки различ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8600" y="380880"/>
            <a:ext cx="8686800" cy="459720"/>
          </a:xfrm>
          <a:prstGeom prst="rect">
            <a:avLst/>
          </a:prstGeom>
          <a:solidFill>
            <a:srgbClr val="008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Обязанности военнослужащ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2666880"/>
            <a:ext cx="464832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пециальные обяза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1981080"/>
            <a:ext cx="464832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олжностные обяза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1295280"/>
            <a:ext cx="464832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щие обяза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914400"/>
            <a:ext cx="0" cy="2057400"/>
          </a:xfrm>
          <a:prstGeom prst="line">
            <a:avLst/>
          </a:prstGeom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1523880"/>
            <a:ext cx="1219320" cy="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95480" y="2209680"/>
            <a:ext cx="1219320" cy="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2971800"/>
            <a:ext cx="1219320" cy="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666880" y="3352680"/>
            <a:ext cx="373392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676520" y="380880"/>
            <a:ext cx="5790960" cy="581400"/>
          </a:xfrm>
          <a:prstGeom prst="rect">
            <a:avLst/>
          </a:prstGeom>
          <a:solidFill>
            <a:srgbClr val="008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Общие обяза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1371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щие обязанност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еннослужащих определяются требованиями законов и воинских устав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2438280"/>
            <a:ext cx="4190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щие обязанности военнослужащих выражают сущность воинского долга и характеризуют содержание военной службы в ВС Р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ни в одинаковой мере распространяются на всех военнослужащих вне зависимости от их служебного положения и воинских з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2130480"/>
            <a:ext cx="83059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рядок призыва на военную службу определяется Законом "О воинской обязанности и военной службе", Положением о призыве на военную службу, утверждённым Правительством Российской Федер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95280" y="380880"/>
            <a:ext cx="6858000" cy="581400"/>
          </a:xfrm>
          <a:prstGeom prst="rect">
            <a:avLst/>
          </a:prstGeom>
          <a:solidFill>
            <a:srgbClr val="008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Должностные обяза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21932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олжностные обязанност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пределяются воинскими уставами, а также соответствующими руководствами, наставлениями, инструкциями или письменными приказами прямых нача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95680" y="3124080"/>
            <a:ext cx="46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олжностные обязанности определяют объем и пределы практического выполнения задач, порученных военнослужащему согласно занимаемой им дол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7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295280" y="457200"/>
            <a:ext cx="6629400" cy="581400"/>
          </a:xfrm>
          <a:prstGeom prst="rect">
            <a:avLst/>
          </a:prstGeom>
          <a:solidFill>
            <a:srgbClr val="008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Специальные обяза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2985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пециальные обязанности носят, как правило, временны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2438280"/>
            <a:ext cx="4800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полнение специальных обязанностей военнослужащими предусмотрено при нахождении на боевом дежурстве, в суточном и гарнизонном нарядах, а также при ликвидации последствий стихийных бедствий и других чрезвычайных ситу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1">
                                  <p:stCondLst>
                                    <p:cond delay="9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1676520" y="2057400"/>
            <a:ext cx="7009920" cy="3949560"/>
            <a:chOff x="1676520" y="2057400"/>
            <a:chExt cx="7009920" cy="3949560"/>
          </a:xfrm>
        </p:grpSpPr>
        <p:sp>
          <p:nvSpPr>
            <p:cNvPr id="139" name=""/>
            <p:cNvSpPr/>
            <p:nvPr/>
          </p:nvSpPr>
          <p:spPr>
            <a:xfrm>
              <a:off x="1676520" y="2057400"/>
              <a:ext cx="6629040" cy="825480"/>
            </a:xfrm>
            <a:prstGeom prst="rect">
              <a:avLst/>
            </a:prstGeom>
            <a:solidFill>
              <a:srgbClr val="0080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Войска и воинские формирования, которые не входят в состав ВС РФ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62160" y="3276360"/>
              <a:ext cx="4724280" cy="4597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Внутренние войс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62160" y="4572000"/>
              <a:ext cx="4724280" cy="4597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Железнодорожные войс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62160" y="3962160"/>
              <a:ext cx="4724280" cy="4597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Пограничные войс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62160" y="5181480"/>
              <a:ext cx="4724280" cy="82548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Войска правительственной связ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24080" y="2895480"/>
              <a:ext cx="0" cy="270684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24080" y="3504960"/>
              <a:ext cx="837720" cy="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24080" y="4190760"/>
              <a:ext cx="837720" cy="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24080" y="4800600"/>
              <a:ext cx="837720" cy="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24080" y="5562360"/>
              <a:ext cx="837720" cy="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04920" y="3124080"/>
            <a:ext cx="1657080" cy="2210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1784520" cy="2209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28600" y="228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гласно Федеральному закону "О воинской обязанности и военной службе" военная служба по призыву может осуществляться не только в Вооружённых Силах, но и в других войсках и воинских формирова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679320"/>
            <a:ext cx="7924680" cy="1191240"/>
          </a:xfrm>
          <a:prstGeom prst="rect">
            <a:avLst/>
          </a:prstGeom>
          <a:solidFill>
            <a:srgbClr val="008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исциплинарные взыскания, налагаемые на военнослужащих, проходящих военную службу по призыву (кроме офицеров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62720" y="2133720"/>
            <a:ext cx="2971800" cy="3682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трогий выго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2209680"/>
            <a:ext cx="3047760" cy="3682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ыго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2666880"/>
            <a:ext cx="3047760" cy="9169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шение очередного увольнения из расположения ч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2743200"/>
            <a:ext cx="3047760" cy="642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значение вне очереди в наряд на рабо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3733920"/>
            <a:ext cx="3047760" cy="642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рест с содержанием на гауптвахте до 10 су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4495680"/>
            <a:ext cx="3047760" cy="3682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нижение в дол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3657600"/>
            <a:ext cx="3047760" cy="642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шение нагрудного знака отли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4495680"/>
            <a:ext cx="3124080" cy="642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нижение в воинском звании на одну ступ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5334120"/>
            <a:ext cx="3124080" cy="11912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нижение в воинском звании на одну ступень с переводом на низшую дол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981080"/>
            <a:ext cx="0" cy="2706840"/>
          </a:xfrm>
          <a:prstGeom prst="line">
            <a:avLst/>
          </a:prstGeom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05520" y="1905120"/>
            <a:ext cx="0" cy="2895480"/>
          </a:xfrm>
          <a:prstGeom prst="line">
            <a:avLst/>
          </a:prstGeom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1905120"/>
            <a:ext cx="0" cy="335268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429000" y="4648320"/>
            <a:ext cx="380880" cy="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352680" y="4114800"/>
            <a:ext cx="457200" cy="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352680" y="3124080"/>
            <a:ext cx="457200" cy="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352680" y="2362320"/>
            <a:ext cx="457200" cy="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05520" y="2286000"/>
            <a:ext cx="457200" cy="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05520" y="3048120"/>
            <a:ext cx="457200" cy="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4038480"/>
            <a:ext cx="381240" cy="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05520" y="4800600"/>
            <a:ext cx="457200" cy="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28600" y="533520"/>
            <a:ext cx="8686800" cy="3835080"/>
            <a:chOff x="228600" y="533520"/>
            <a:chExt cx="8686800" cy="3835080"/>
          </a:xfrm>
        </p:grpSpPr>
        <p:sp>
          <p:nvSpPr>
            <p:cNvPr id="44" name=""/>
            <p:cNvSpPr/>
            <p:nvPr/>
          </p:nvSpPr>
          <p:spPr>
            <a:xfrm>
              <a:off x="304920" y="533520"/>
              <a:ext cx="8610480" cy="1556280"/>
            </a:xfrm>
            <a:prstGeom prst="rect">
              <a:avLst/>
            </a:prstGeom>
            <a:solidFill>
              <a:srgbClr val="0080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Призыв на военную службу организуется на основании Указов Президента РФ и осуществляется 2 раза в год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495680" y="3352680"/>
              <a:ext cx="4343400" cy="1015920"/>
            </a:xfrm>
            <a:prstGeom prst="rect">
              <a:avLst/>
            </a:prstGeom>
            <a:solidFill>
              <a:srgbClr val="23017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Осенний призы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с 1 октября по 31 декабр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8600" y="3352680"/>
              <a:ext cx="4191120" cy="1015920"/>
            </a:xfrm>
            <a:prstGeom prst="rect">
              <a:avLst/>
            </a:prstGeom>
            <a:solidFill>
              <a:srgbClr val="23017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Весенний призы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с 1 апреля по 15 июл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2819160"/>
              <a:ext cx="4156200" cy="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4495680" y="2133360"/>
              <a:ext cx="0" cy="68544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38280" y="2819160"/>
              <a:ext cx="0" cy="5364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553080" y="2819160"/>
              <a:ext cx="0" cy="5364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457200" y="48769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раждане, подлежащие призыву, извещаются о связанных с ним мероприятиях повестками, которые вручаются под расписку работниками военкомата, органов местного самоупр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3880" y="1981080"/>
            <a:ext cx="7239240" cy="9169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случае гибели (смерти) отца, матери, родного брата, родной сестры в связи с исполнением им обязанностей военной служ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3048120"/>
            <a:ext cx="7238880" cy="9169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изнанные негодными (категория «Д») или ограниченно годными к военной службе (категория «В») по состоянию здоро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4114800"/>
            <a:ext cx="7238880" cy="3682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ходящие или прошедшие альтернативную служ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4648320"/>
            <a:ext cx="7238880" cy="3682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шедшие военную службу в другом государ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5181480"/>
            <a:ext cx="7238880" cy="3682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еют учетную степень кандидата наук или доктора на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5715000"/>
            <a:ext cx="7238880" cy="9169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тбывающие наказание в местах лишения свободы, имеющие неснятую или непогашенную судимость или в отношение которых видеться д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1676520"/>
            <a:ext cx="0" cy="4419360"/>
          </a:xfrm>
          <a:prstGeom prst="line">
            <a:avLst/>
          </a:prstGeom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438280"/>
            <a:ext cx="685800" cy="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3505320"/>
            <a:ext cx="762120" cy="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4343400"/>
            <a:ext cx="762120" cy="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4876920"/>
            <a:ext cx="762120" cy="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5334120"/>
            <a:ext cx="762120" cy="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6095880"/>
            <a:ext cx="762120" cy="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зыву на военную службу подлежат граждане мужского пола в возрасте от18 до 27 лет, не прошедшие военную или альтернативную службу и не находящиеся в запа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371600"/>
            <a:ext cx="8686800" cy="459720"/>
          </a:xfrm>
          <a:prstGeom prst="rect">
            <a:avLst/>
          </a:prstGeom>
          <a:solidFill>
            <a:srgbClr val="008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От призыва на военную службу освобождаются граждан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" y="1371600"/>
            <a:ext cx="8610480" cy="581400"/>
          </a:xfrm>
          <a:prstGeom prst="rect">
            <a:avLst/>
          </a:prstGeom>
          <a:solidFill>
            <a:srgbClr val="008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Состав призывной коми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89120" y="3895560"/>
            <a:ext cx="5869080" cy="916920"/>
          </a:xfrm>
          <a:prstGeom prst="rect">
            <a:avLst/>
          </a:prstGeom>
          <a:solidFill>
            <a:srgbClr val="23017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рач, руководящий работой по медицинскому освидетельствованию граждан, подлежащих призыву на военную служ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4851360"/>
            <a:ext cx="5867280" cy="642600"/>
          </a:xfrm>
          <a:prstGeom prst="rect">
            <a:avLst/>
          </a:prstGeom>
          <a:solidFill>
            <a:srgbClr val="23017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дставитель соответствующего органа внутренних 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5626080"/>
            <a:ext cx="5867280" cy="642600"/>
          </a:xfrm>
          <a:prstGeom prst="rect">
            <a:avLst/>
          </a:prstGeom>
          <a:solidFill>
            <a:srgbClr val="23017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дседатель соответствующего органа управления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3478320"/>
            <a:ext cx="5867280" cy="368280"/>
          </a:xfrm>
          <a:prstGeom prst="rect">
            <a:avLst/>
          </a:prstGeom>
          <a:solidFill>
            <a:srgbClr val="23017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екретарь коми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90920" y="2820960"/>
            <a:ext cx="5867280" cy="642600"/>
          </a:xfrm>
          <a:prstGeom prst="rect">
            <a:avLst/>
          </a:prstGeom>
          <a:solidFill>
            <a:srgbClr val="23017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енный комиссар – заместитель председателя коми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2163600"/>
            <a:ext cx="5867280" cy="593280"/>
          </a:xfrm>
          <a:prstGeom prst="rect">
            <a:avLst/>
          </a:prstGeom>
          <a:solidFill>
            <a:srgbClr val="23017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меститель главы местного самоуправления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дседатель коми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1984320"/>
            <a:ext cx="0" cy="3973680"/>
          </a:xfrm>
          <a:prstGeom prst="line">
            <a:avLst/>
          </a:prstGeom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2403360"/>
            <a:ext cx="990720" cy="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3059280"/>
            <a:ext cx="990720" cy="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3597120"/>
            <a:ext cx="990720" cy="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4254480"/>
            <a:ext cx="990720" cy="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5089680"/>
            <a:ext cx="990720" cy="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00200" y="5924520"/>
            <a:ext cx="990720" cy="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2286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ля проведения призыва на военную службу в каждом районе или городе создается призывная комис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429000" y="5410080"/>
            <a:ext cx="5181480" cy="368280"/>
          </a:xfrm>
          <a:prstGeom prst="rect">
            <a:avLst/>
          </a:prstGeom>
          <a:solidFill>
            <a:srgbClr val="23017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 зачислении в зап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2290680"/>
            <a:ext cx="5181480" cy="368280"/>
          </a:xfrm>
          <a:prstGeom prst="rect">
            <a:avLst/>
          </a:prstGeom>
          <a:solidFill>
            <a:srgbClr val="23017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 призыве на военную служ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29000" y="2854440"/>
            <a:ext cx="5181480" cy="642600"/>
          </a:xfrm>
          <a:prstGeom prst="rect">
            <a:avLst/>
          </a:prstGeom>
          <a:solidFill>
            <a:srgbClr val="23017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 призыве на альтернативную гражданскую служ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3657600"/>
            <a:ext cx="5181480" cy="642600"/>
          </a:xfrm>
          <a:prstGeom prst="rect">
            <a:avLst/>
          </a:prstGeom>
          <a:solidFill>
            <a:srgbClr val="23017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 предоставлении отсрочки от призыва на военную служ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4495680"/>
            <a:ext cx="5181480" cy="642600"/>
          </a:xfrm>
          <a:prstGeom prst="rect">
            <a:avLst/>
          </a:prstGeom>
          <a:solidFill>
            <a:srgbClr val="23017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 освобождении от призыва на военную служ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29000" y="6019920"/>
            <a:ext cx="5181480" cy="642600"/>
          </a:xfrm>
          <a:prstGeom prst="rect">
            <a:avLst/>
          </a:prstGeom>
          <a:solidFill>
            <a:srgbClr val="23017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 освобождении от исполнения воинской обяза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1600200"/>
            <a:ext cx="0" cy="4746600"/>
          </a:xfrm>
          <a:prstGeom prst="line">
            <a:avLst/>
          </a:prstGeom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990720" cy="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3048120"/>
            <a:ext cx="990720" cy="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3962520"/>
            <a:ext cx="990720" cy="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4800600"/>
            <a:ext cx="990720" cy="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5562720"/>
            <a:ext cx="990720" cy="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6324480"/>
            <a:ext cx="990720" cy="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призывную комиссию возлагаются обязанности по организации медицинского освидетельствования призывников  и принятию решения о призы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287360"/>
            <a:ext cx="8610480" cy="581400"/>
          </a:xfrm>
          <a:prstGeom prst="rect">
            <a:avLst/>
          </a:prstGeom>
          <a:solidFill>
            <a:srgbClr val="008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Возможные выводы призывной коми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457200"/>
            <a:ext cx="8610480" cy="2654280"/>
          </a:xfrm>
          <a:prstGeom prst="rect">
            <a:avLst/>
          </a:prstGeom>
          <a:solidFill>
            <a:srgbClr val="008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Комиссия по постановке на воинский учёт, кроме организации проведения медицинского освидетельствования для определения их годности к военной службе по состоянию здоровья, проводит мероприяти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профессиональному психологическому отбор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граждан для определения их пригодности к подготовке по военно-учётным специальност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3733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сихологическое и психофизиологическое обследование проводится с использованием универсального набора из семи психодиагностических те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81080" y="380880"/>
            <a:ext cx="5791320" cy="459720"/>
          </a:xfrm>
          <a:prstGeom prst="rect">
            <a:avLst/>
          </a:prstGeom>
          <a:solidFill>
            <a:srgbClr val="008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Военная служ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286000"/>
            <a:ext cx="4038480" cy="1922760"/>
          </a:xfrm>
          <a:prstGeom prst="rect">
            <a:avLst/>
          </a:prstGeom>
          <a:solidFill>
            <a:srgbClr val="23017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чалом военной службы является день убытия гражданина из военкомата субъекта РФ к месту служ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2286000"/>
            <a:ext cx="3962520" cy="2288520"/>
          </a:xfrm>
          <a:prstGeom prst="rect">
            <a:avLst/>
          </a:prstGeom>
          <a:solidFill>
            <a:srgbClr val="23017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кончанием военной службы считается дата исключения военнослужащего из списков личного состава воинской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95680" y="914040"/>
            <a:ext cx="0" cy="685800"/>
          </a:xfrm>
          <a:prstGeom prst="line">
            <a:avLst/>
          </a:prstGeom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1600200"/>
            <a:ext cx="4155840" cy="0"/>
          </a:xfrm>
          <a:prstGeom prst="line">
            <a:avLst/>
          </a:prstGeom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1600200"/>
            <a:ext cx="0" cy="68580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1600200"/>
            <a:ext cx="0" cy="68580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380880"/>
            <a:ext cx="8610480" cy="1191240"/>
          </a:xfrm>
          <a:prstGeom prst="rect">
            <a:avLst/>
          </a:prstGeom>
          <a:solidFill>
            <a:srgbClr val="008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прибытии в часть и после прохождения начальной военной подготовки военнослужащий приводится к Военной прися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57400" y="23623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ctor</cp:lastModifiedBy>
  <dcterms:modified xsi:type="dcterms:W3CDTF">2008-02-24T13:47:45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