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7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0.png" ContentType="image/png"/>
  <Override PartName="/ppt/media/image2.gif" ContentType="image/gif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708-922E-40F6-8DDC-8747DDC8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0BB-BCE5-4385-BFA4-07DC24C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F43-CBD1-49F0-9C4A-F18A547B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CD7-90C9-411A-BB2E-9C100A63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A6D-8D23-49D3-B360-CE220A23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BAB-9313-422D-92C2-EF905D7C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6F1-8586-41D8-8769-2395548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35D-E62F-44A2-9D0E-CBC742EA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5C6-C4C0-4967-A802-7A67B21E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87C-10BB-466E-BEE7-DA8BE2B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F01-0FEE-4413-BAB3-85F79FB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AA7-BB4F-4611-89CF-9CB56F4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94EB-B379-43C7-BC0B-1EDC973B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2120" y="1447920"/>
            <a:ext cx="8229600" cy="2133360"/>
            <a:chOff x="762120" y="1447920"/>
            <a:chExt cx="8229600" cy="2133360"/>
          </a:xfrm>
        </p:grpSpPr>
        <p:sp>
          <p:nvSpPr>
            <p:cNvPr id="48" name=""/>
            <p:cNvSpPr txBox="1"/>
            <p:nvPr/>
          </p:nvSpPr>
          <p:spPr>
            <a:xfrm>
              <a:off x="762120" y="1447920"/>
              <a:ext cx="8229600" cy="21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Impact"/>
                </a:rPr>
                <a:t>Вооруженные силы</a:t>
              </a:r>
              <a:endPara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Impact"/>
                </a:rPr>
                <a:t>России</a:t>
              </a:r>
              <a:endPara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352680" y="2666880"/>
              <a:ext cx="38124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466560" y="5105520"/>
            <a:ext cx="8677440" cy="1295280"/>
            <a:chOff x="466560" y="5105520"/>
            <a:chExt cx="8677440" cy="1295280"/>
          </a:xfrm>
        </p:grpSpPr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466560" y="5105520"/>
              <a:ext cx="8677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124080" y="5105520"/>
              <a:ext cx="2971800" cy="1295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191120" y="5410080"/>
            <a:ext cx="9903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5105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од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вод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рской ави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рской пех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йск береговой об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1880" y="457200"/>
            <a:ext cx="57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МФ состоит из следующих родов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8160" y="39625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го состав входят такж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920" y="4648320"/>
            <a:ext cx="402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7120" indent="-357120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абли и с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 специального на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 и подразделения ты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88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88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2120" y="304920"/>
            <a:ext cx="8229240" cy="3686400"/>
            <a:chOff x="762120" y="304920"/>
            <a:chExt cx="8229240" cy="3686400"/>
          </a:xfrm>
        </p:grpSpPr>
        <p:cxnSp>
          <p:nvCxnSpPr>
            <p:cNvPr id="187" name="_s24597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6202440" y="453600"/>
              <a:ext cx="738000" cy="3388320"/>
            </a:xfrm>
            <a:prstGeom prst="bentConnector3">
              <a:avLst>
                <a:gd name="adj1" fmla="val 154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4595"/>
            <p:cNvCxnSpPr>
              <a:stCxn id="191" idx="0"/>
              <a:endCxn id="189" idx="2"/>
            </p:cNvCxnSpPr>
            <p:nvPr/>
          </p:nvCxnSpPr>
          <p:spPr>
            <a:xfrm flipV="1" rot="16200000">
              <a:off x="5356440" y="1299600"/>
              <a:ext cx="738000" cy="1696680"/>
            </a:xfrm>
            <a:prstGeom prst="bentConnector3">
              <a:avLst>
                <a:gd name="adj1" fmla="val 154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4592"/>
            <p:cNvCxnSpPr>
              <a:stCxn id="193" idx="0"/>
              <a:endCxn id="189" idx="2"/>
            </p:cNvCxnSpPr>
            <p:nvPr/>
          </p:nvCxnSpPr>
          <p:spPr>
            <a:xfrm flipV="1" rot="16200000">
              <a:off x="4509360" y="2146680"/>
              <a:ext cx="738000" cy="2160"/>
            </a:xfrm>
            <a:prstGeom prst="bentConnector3">
              <a:avLst>
                <a:gd name="adj1" fmla="val 154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24591"/>
            <p:cNvCxnSpPr>
              <a:stCxn id="195" idx="0"/>
              <a:endCxn id="189" idx="2"/>
            </p:cNvCxnSpPr>
            <p:nvPr/>
          </p:nvCxnSpPr>
          <p:spPr>
            <a:xfrm flipH="1" flipV="1" rot="5400000">
              <a:off x="3661560" y="1301040"/>
              <a:ext cx="738000" cy="1693800"/>
            </a:xfrm>
            <a:prstGeom prst="bentConnector3">
              <a:avLst>
                <a:gd name="adj1" fmla="val 154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24590"/>
            <p:cNvCxnSpPr>
              <a:stCxn id="197" idx="0"/>
              <a:endCxn id="189" idx="2"/>
            </p:cNvCxnSpPr>
            <p:nvPr/>
          </p:nvCxnSpPr>
          <p:spPr>
            <a:xfrm flipH="1" flipV="1" rot="5400000">
              <a:off x="2813760" y="453240"/>
              <a:ext cx="738000" cy="3389760"/>
            </a:xfrm>
            <a:prstGeom prst="bentConnector3">
              <a:avLst>
                <a:gd name="adj1" fmla="val 154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4586"/>
            <p:cNvSpPr/>
            <p:nvPr/>
          </p:nvSpPr>
          <p:spPr>
            <a:xfrm>
              <a:off x="4149720" y="304920"/>
              <a:ext cx="1452240" cy="147456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М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4587"/>
            <p:cNvSpPr/>
            <p:nvPr/>
          </p:nvSpPr>
          <p:spPr>
            <a:xfrm>
              <a:off x="762120" y="2516760"/>
              <a:ext cx="1452240" cy="147456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Подвод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4588"/>
            <p:cNvSpPr/>
            <p:nvPr/>
          </p:nvSpPr>
          <p:spPr>
            <a:xfrm>
              <a:off x="2456640" y="2516760"/>
              <a:ext cx="1452240" cy="147456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Надвод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4589"/>
            <p:cNvSpPr/>
            <p:nvPr/>
          </p:nvSpPr>
          <p:spPr>
            <a:xfrm>
              <a:off x="4151160" y="2516760"/>
              <a:ext cx="1452240" cy="147456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Морская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ави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4594"/>
            <p:cNvSpPr/>
            <p:nvPr/>
          </p:nvSpPr>
          <p:spPr>
            <a:xfrm>
              <a:off x="5845680" y="2516760"/>
              <a:ext cx="1452240" cy="147456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Морская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пех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4596"/>
            <p:cNvSpPr/>
            <p:nvPr/>
          </p:nvSpPr>
          <p:spPr>
            <a:xfrm>
              <a:off x="7540560" y="2516760"/>
              <a:ext cx="1450800" cy="147456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474560"/>
                <a:gd name="textAreaBottom" fmla="*/ 1404000 h 1474560"/>
              </a:gdLst>
              <a:ahLst/>
              <a:rect l="textAreaLeft" t="textAreaTop" r="textAreaRight" b="textAreaBottom"/>
              <a:pathLst>
                <a:path w="21600" h="21954">
                  <a:moveTo>
                    <a:pt x="3600" y="0"/>
                  </a:moveTo>
                  <a:arcTo wR="3600" hR="3600" stAng="16200000" swAng="-5400000"/>
                  <a:lnTo>
                    <a:pt x="0" y="18354"/>
                  </a:lnTo>
                  <a:arcTo wR="3600" hR="3600" stAng="10800000" swAng="-5400000"/>
                  <a:lnTo>
                    <a:pt x="18000" y="219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береговой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обор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1143720" y="457920"/>
              <a:ext cx="2338560" cy="175068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99cc00">
                  <a:alpha val="50000"/>
                </a:srgbClr>
              </a:outerShdw>
            </a:effectLst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6018840" y="540360"/>
              <a:ext cx="2514960" cy="156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124080" y="4191120"/>
            <a:ext cx="3124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04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л Вооруженных Сил Российской Федерации является неотъемлемой частью оборонного потенциала государства и связующим звеном между экономикой страны и непосредственно войсками, потребляющими производимую продукцию, представляет собой слаженный, эффективно действующий мех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209680"/>
            <a:ext cx="825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го состав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аб Ты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главных  и центральных упра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служб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ы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йска и организации центрального подч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125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ловые структуры видов и родов войск Вооруженных Сил, военных округов и флотов, объединений, соединений и воинских ч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714680" cy="1819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24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57200"/>
            <a:ext cx="74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 Вооруженные Силы структурно включают в себя три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59092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хопутные во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енно-воздушны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енно-морской ф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106200"/>
            <a:ext cx="8381520" cy="2559960"/>
            <a:chOff x="609480" y="106200"/>
            <a:chExt cx="8381520" cy="2559960"/>
          </a:xfrm>
        </p:grpSpPr>
        <p:cxnSp>
          <p:nvCxnSpPr>
            <p:cNvPr id="69" name="_s5145"/>
            <p:cNvCxnSpPr>
              <a:stCxn id="70" idx="0"/>
              <a:endCxn id="71" idx="3"/>
            </p:cNvCxnSpPr>
            <p:nvPr/>
          </p:nvCxnSpPr>
          <p:spPr>
            <a:xfrm flipV="1" rot="16200000">
              <a:off x="6010560" y="-180360"/>
              <a:ext cx="512640" cy="31323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2" name="_s5144"/>
            <p:cNvCxnSpPr>
              <a:stCxn id="73" idx="0"/>
              <a:endCxn id="71" idx="3"/>
            </p:cNvCxnSpPr>
            <p:nvPr/>
          </p:nvCxnSpPr>
          <p:spPr>
            <a:xfrm flipV="1" rot="16200000">
              <a:off x="4543560" y="1286640"/>
              <a:ext cx="512640" cy="1983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4" name="_s5143"/>
            <p:cNvCxnSpPr>
              <a:stCxn id="75" idx="0"/>
              <a:endCxn id="71" idx="3"/>
            </p:cNvCxnSpPr>
            <p:nvPr/>
          </p:nvCxnSpPr>
          <p:spPr>
            <a:xfrm flipH="1" flipV="1" rot="5400000">
              <a:off x="3076920" y="17640"/>
              <a:ext cx="512640" cy="273636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1" name="_s5139"/>
            <p:cNvSpPr/>
            <p:nvPr/>
          </p:nvSpPr>
          <p:spPr>
            <a:xfrm>
              <a:off x="3543120" y="106200"/>
              <a:ext cx="2514240" cy="1023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оруженные силы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5140"/>
            <p:cNvSpPr/>
            <p:nvPr/>
          </p:nvSpPr>
          <p:spPr>
            <a:xfrm>
              <a:off x="609480" y="1642320"/>
              <a:ext cx="2514240" cy="1023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ухопутные войс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5141"/>
            <p:cNvSpPr/>
            <p:nvPr/>
          </p:nvSpPr>
          <p:spPr>
            <a:xfrm>
              <a:off x="3543120" y="1642320"/>
              <a:ext cx="2514240" cy="1023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енно-воздушные си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5142"/>
            <p:cNvSpPr/>
            <p:nvPr/>
          </p:nvSpPr>
          <p:spPr>
            <a:xfrm>
              <a:off x="6476760" y="1642320"/>
              <a:ext cx="2514240" cy="1023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енно-морской фл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2340000" cy="1752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340000" cy="1752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553080" y="2895480"/>
            <a:ext cx="2340000" cy="1752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2057400" cy="137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62120" y="4800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553080" y="4800600"/>
            <a:ext cx="22860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57200"/>
            <a:ext cx="74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 Вооруженные Силы структурно включают в себя три рода войс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7772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кетные войска стратегического на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мические вой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ушно-десантные вой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228600"/>
            <a:ext cx="8381520" cy="2361600"/>
            <a:chOff x="609480" y="228600"/>
            <a:chExt cx="8381520" cy="2361600"/>
          </a:xfrm>
        </p:grpSpPr>
        <p:cxnSp>
          <p:nvCxnSpPr>
            <p:cNvPr id="97" name="_s11275"/>
            <p:cNvCxnSpPr>
              <a:stCxn id="98" idx="0"/>
              <a:endCxn id="99" idx="3"/>
            </p:cNvCxnSpPr>
            <p:nvPr/>
          </p:nvCxnSpPr>
          <p:spPr>
            <a:xfrm flipV="1" rot="16200000">
              <a:off x="6030360" y="-156960"/>
              <a:ext cx="473040" cy="3132360"/>
            </a:xfrm>
            <a:prstGeom prst="bentConnector3">
              <a:avLst>
                <a:gd name="adj1" fmla="val 1271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0" name="_s11276"/>
            <p:cNvCxnSpPr>
              <a:stCxn id="101" idx="0"/>
              <a:endCxn id="99" idx="3"/>
            </p:cNvCxnSpPr>
            <p:nvPr/>
          </p:nvCxnSpPr>
          <p:spPr>
            <a:xfrm flipV="1" rot="16200000">
              <a:off x="4563360" y="1310040"/>
              <a:ext cx="473040" cy="198360"/>
            </a:xfrm>
            <a:prstGeom prst="bentConnector3">
              <a:avLst>
                <a:gd name="adj1" fmla="val 1271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2" name="_s11277"/>
            <p:cNvCxnSpPr>
              <a:stCxn id="103" idx="0"/>
              <a:endCxn id="99" idx="3"/>
            </p:cNvCxnSpPr>
            <p:nvPr/>
          </p:nvCxnSpPr>
          <p:spPr>
            <a:xfrm flipH="1" flipV="1" rot="5400000">
              <a:off x="3096720" y="41040"/>
              <a:ext cx="473040" cy="2736360"/>
            </a:xfrm>
            <a:prstGeom prst="bentConnector3">
              <a:avLst>
                <a:gd name="adj1" fmla="val 1271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9" name="_s11278"/>
            <p:cNvSpPr/>
            <p:nvPr/>
          </p:nvSpPr>
          <p:spPr>
            <a:xfrm>
              <a:off x="3543120" y="228600"/>
              <a:ext cx="2514240" cy="944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ода войс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1279"/>
            <p:cNvSpPr/>
            <p:nvPr/>
          </p:nvSpPr>
          <p:spPr>
            <a:xfrm>
              <a:off x="609480" y="1645560"/>
              <a:ext cx="2514240" cy="944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кетные 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тратег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зна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1280"/>
            <p:cNvSpPr/>
            <p:nvPr/>
          </p:nvSpPr>
          <p:spPr>
            <a:xfrm>
              <a:off x="3543120" y="1645560"/>
              <a:ext cx="2514240" cy="944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смические 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1281"/>
            <p:cNvSpPr/>
            <p:nvPr/>
          </p:nvSpPr>
          <p:spPr>
            <a:xfrm>
              <a:off x="6476760" y="1645560"/>
              <a:ext cx="2514240" cy="944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здушно-десантные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1800" y="2819520"/>
            <a:ext cx="2340000" cy="16682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2340000" cy="167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77120" y="2819520"/>
            <a:ext cx="2340000" cy="167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724280"/>
            <a:ext cx="2381040" cy="15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657600" y="4749840"/>
            <a:ext cx="2324160" cy="1552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09480" y="4746600"/>
            <a:ext cx="23623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76520"/>
            <a:ext cx="7696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а войск - мотострелковые, танковые, ракетные войска и артиллерия, войсковая ПВО, армейская ави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ые войска (соединения и части — разведывательные, связи, радиоэлектронной борьбы, инженерные, радиационной, химической и биологической защиты, технического обеспечения, автомобильные и охраны ты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инские части и учреждения ты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4440" y="5335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став Сухопутных войск вход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152280"/>
            <a:ext cx="8229240" cy="3229560"/>
            <a:chOff x="685800" y="152280"/>
            <a:chExt cx="8229240" cy="3229560"/>
          </a:xfrm>
        </p:grpSpPr>
        <p:cxnSp>
          <p:nvCxnSpPr>
            <p:cNvPr id="125" name="_s1231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6171840" y="72360"/>
              <a:ext cx="646560" cy="3388320"/>
            </a:xfrm>
            <a:prstGeom prst="bentConnector3">
              <a:avLst>
                <a:gd name="adj1" fmla="val 17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310"/>
            <p:cNvCxnSpPr>
              <a:stCxn id="129" idx="0"/>
              <a:endCxn id="127" idx="2"/>
            </p:cNvCxnSpPr>
            <p:nvPr/>
          </p:nvCxnSpPr>
          <p:spPr>
            <a:xfrm flipV="1" rot="16200000">
              <a:off x="5325840" y="918360"/>
              <a:ext cx="646560" cy="1696680"/>
            </a:xfrm>
            <a:prstGeom prst="bentConnector3">
              <a:avLst>
                <a:gd name="adj1" fmla="val 17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2305"/>
            <p:cNvCxnSpPr>
              <a:stCxn id="131" idx="0"/>
              <a:endCxn id="127" idx="2"/>
            </p:cNvCxnSpPr>
            <p:nvPr/>
          </p:nvCxnSpPr>
          <p:spPr>
            <a:xfrm flipV="1" rot="16200000">
              <a:off x="4478760" y="1765440"/>
              <a:ext cx="646560" cy="2160"/>
            </a:xfrm>
            <a:prstGeom prst="bentConnector3">
              <a:avLst>
                <a:gd name="adj1" fmla="val 17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2304"/>
            <p:cNvCxnSpPr>
              <a:stCxn id="133" idx="0"/>
              <a:endCxn id="127" idx="2"/>
            </p:cNvCxnSpPr>
            <p:nvPr/>
          </p:nvCxnSpPr>
          <p:spPr>
            <a:xfrm flipH="1" flipV="1" rot="5400000">
              <a:off x="3630960" y="919800"/>
              <a:ext cx="646560" cy="1693800"/>
            </a:xfrm>
            <a:prstGeom prst="bentConnector3">
              <a:avLst>
                <a:gd name="adj1" fmla="val 17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2303"/>
            <p:cNvCxnSpPr>
              <a:stCxn id="135" idx="0"/>
              <a:endCxn id="127" idx="2"/>
            </p:cNvCxnSpPr>
            <p:nvPr/>
          </p:nvCxnSpPr>
          <p:spPr>
            <a:xfrm flipH="1" flipV="1" rot="5400000">
              <a:off x="2783160" y="72000"/>
              <a:ext cx="646560" cy="3389760"/>
            </a:xfrm>
            <a:prstGeom prst="bentConnector3">
              <a:avLst>
                <a:gd name="adj1" fmla="val 176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2299"/>
            <p:cNvSpPr/>
            <p:nvPr/>
          </p:nvSpPr>
          <p:spPr>
            <a:xfrm>
              <a:off x="4073400" y="152280"/>
              <a:ext cx="145224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Сухопут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2300"/>
            <p:cNvSpPr/>
            <p:nvPr/>
          </p:nvSpPr>
          <p:spPr>
            <a:xfrm>
              <a:off x="685800" y="2090160"/>
              <a:ext cx="145224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Мотострелков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2301"/>
            <p:cNvSpPr/>
            <p:nvPr/>
          </p:nvSpPr>
          <p:spPr>
            <a:xfrm>
              <a:off x="2380320" y="2090160"/>
              <a:ext cx="145224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Танков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2302"/>
            <p:cNvSpPr/>
            <p:nvPr/>
          </p:nvSpPr>
          <p:spPr>
            <a:xfrm>
              <a:off x="4074840" y="2090160"/>
              <a:ext cx="145224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Ракетные войс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и артиллер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309"/>
            <p:cNvSpPr/>
            <p:nvPr/>
          </p:nvSpPr>
          <p:spPr>
            <a:xfrm>
              <a:off x="5769360" y="2090160"/>
              <a:ext cx="145224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П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2311"/>
            <p:cNvSpPr/>
            <p:nvPr/>
          </p:nvSpPr>
          <p:spPr>
            <a:xfrm>
              <a:off x="7464240" y="2090160"/>
              <a:ext cx="1450800" cy="12916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Армейс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48f2f2"/>
                  </a:solidFill>
                  <a:latin typeface="Arial"/>
                </a:rPr>
                <a:t>авиа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1371600" y="304560"/>
              <a:ext cx="1904400" cy="142596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99cc00">
                  <a:alpha val="50000"/>
                </a:srgbClr>
              </a:outerShdw>
            </a:effectLst>
          </p:spPr>
        </p:pic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6095520" y="304560"/>
              <a:ext cx="2057760" cy="137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85800" y="434340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2286000" y="434340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4038480" y="434340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5715000" y="434340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7543800" y="4343400"/>
            <a:ext cx="1295280" cy="1447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cc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447920"/>
            <a:ext cx="8153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иация (рода авиации – бомбардировочная, штурмовая, истребительная авиация противовоздушной обороны, разведывательная, транспортная и специаль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нитные ракетные вой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иотехнические вой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ые вой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 и учреждения ты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0492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став ВВС входят следующие рода войс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400800"/>
            <a:ext cx="8686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705720"/>
            <a:ext cx="8991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6553080"/>
            <a:ext cx="8839080" cy="1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3520" y="304920"/>
            <a:ext cx="8228880" cy="3732480"/>
            <a:chOff x="533520" y="304920"/>
            <a:chExt cx="8228880" cy="3732480"/>
          </a:xfrm>
        </p:grpSpPr>
        <p:cxnSp>
          <p:nvCxnSpPr>
            <p:cNvPr id="158" name="_s13332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874480" y="570240"/>
              <a:ext cx="747000" cy="3200760"/>
            </a:xfrm>
            <a:prstGeom prst="bentConnector3">
              <a:avLst>
                <a:gd name="adj1" fmla="val 15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3329"/>
            <p:cNvCxnSpPr>
              <a:stCxn id="162" idx="0"/>
              <a:endCxn id="160" idx="2"/>
            </p:cNvCxnSpPr>
            <p:nvPr/>
          </p:nvCxnSpPr>
          <p:spPr>
            <a:xfrm flipV="1" rot="16200000">
              <a:off x="4807800" y="1636920"/>
              <a:ext cx="747000" cy="1067040"/>
            </a:xfrm>
            <a:prstGeom prst="bentConnector3">
              <a:avLst>
                <a:gd name="adj1" fmla="val 15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3328"/>
            <p:cNvCxnSpPr>
              <a:stCxn id="164" idx="0"/>
              <a:endCxn id="160" idx="2"/>
            </p:cNvCxnSpPr>
            <p:nvPr/>
          </p:nvCxnSpPr>
          <p:spPr>
            <a:xfrm flipH="1" flipV="1" rot="5400000">
              <a:off x="3741120" y="1636920"/>
              <a:ext cx="747000" cy="1067400"/>
            </a:xfrm>
            <a:prstGeom prst="bentConnector3">
              <a:avLst>
                <a:gd name="adj1" fmla="val 15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3327"/>
            <p:cNvCxnSpPr>
              <a:stCxn id="166" idx="0"/>
              <a:endCxn id="160" idx="2"/>
            </p:cNvCxnSpPr>
            <p:nvPr/>
          </p:nvCxnSpPr>
          <p:spPr>
            <a:xfrm flipH="1" flipV="1" rot="5400000">
              <a:off x="2674440" y="570240"/>
              <a:ext cx="747000" cy="3201120"/>
            </a:xfrm>
            <a:prstGeom prst="bentConnector3">
              <a:avLst>
                <a:gd name="adj1" fmla="val 15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13323"/>
            <p:cNvSpPr/>
            <p:nvPr/>
          </p:nvSpPr>
          <p:spPr>
            <a:xfrm>
              <a:off x="3733920" y="304920"/>
              <a:ext cx="1828440" cy="14929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оенно-воздушные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си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3324"/>
            <p:cNvSpPr/>
            <p:nvPr/>
          </p:nvSpPr>
          <p:spPr>
            <a:xfrm>
              <a:off x="533520" y="2544480"/>
              <a:ext cx="1828440" cy="1492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Ави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3325"/>
            <p:cNvSpPr/>
            <p:nvPr/>
          </p:nvSpPr>
          <p:spPr>
            <a:xfrm>
              <a:off x="2666880" y="2544480"/>
              <a:ext cx="1828440" cy="14929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Зенитно-ракетные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3326"/>
            <p:cNvSpPr/>
            <p:nvPr/>
          </p:nvSpPr>
          <p:spPr>
            <a:xfrm>
              <a:off x="4800600" y="2544480"/>
              <a:ext cx="1828440" cy="14929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Радиотехнические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3331"/>
            <p:cNvSpPr/>
            <p:nvPr/>
          </p:nvSpPr>
          <p:spPr>
            <a:xfrm>
              <a:off x="6933960" y="2544480"/>
              <a:ext cx="1828440" cy="14929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Специальные</a:t>
              </a:r>
              <a:br>
                <a:rPr sz="1400"/>
              </a:br>
              <a:r>
                <a:rPr b="1" lang="en-US" sz="1400" spc="-1" strike="noStrike">
                  <a:solidFill>
                    <a:srgbClr val="48f2f2"/>
                  </a:solidFill>
                  <a:latin typeface="Arial"/>
                </a:rPr>
                <a:t>вой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990720" y="382320"/>
              <a:ext cx="2340720" cy="17575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99cc00">
                  <a:alpha val="50000"/>
                </a:srgbClr>
              </a:outerShdw>
            </a:effectLst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6248160" y="532800"/>
              <a:ext cx="2209680" cy="148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581280" y="4495680"/>
            <a:ext cx="2133720" cy="16052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фанасьев И.В.</dc:creator>
  <dc:description/>
  <dc:language>en-US</dc:language>
  <cp:lastModifiedBy>Вадимыч</cp:lastModifiedBy>
  <dcterms:modified xsi:type="dcterms:W3CDTF">2008-06-02T17:53:11Z</dcterms:modified>
  <cp:revision>8</cp:revision>
  <dc:subject/>
  <dc:title>Виды и рода войс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