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4E6-4923-4E19-AE59-D3CF66DF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7AE-FC8D-4683-A5BB-E44138FE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1C2-B2D2-45F5-9C59-C01E772E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437-D41E-4247-BA00-26CC6EB5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4F11-FCB2-40AB-947A-E7689169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8F48-015C-42A6-A825-9BC7CAD4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BB4D-4774-42EA-B3B7-62BEB51E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0116-80E8-417B-90AD-5B5A5713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ADAD-88EA-4553-9AD7-3056F25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6B23-C450-4090-9D1C-5EAC920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5768-BD86-4E8D-8DBC-0D7A9EA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40E-1093-4873-9A7A-55ED4FC0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1B44-1F4F-4978-8455-283BAC8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9CCF-58BC-4085-A44F-852FF6A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28B-9947-44D7-BCC1-BA7675B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56D-E9E8-459D-91E6-CDBCE005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CE3-AFEA-471A-A5FA-6CC33C42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ACFC-49D9-48A5-8C84-DC01E6CE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3A82-C2BC-4BAF-A9C9-938F7B39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E92E-7060-491D-AEBA-8DFB3CEE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0AA0-F350-4D80-B9CF-DF04069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8A05-8CB9-4FCD-A122-A588684A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577-7969-4959-B826-35C5215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262E-4E39-4948-A00B-322ECBC1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E05C-346B-4875-95DF-0C079A0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811C-F3E9-4BE9-A1AE-43EB0FF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3EB7-412B-4525-A794-EBFE4CAC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3110-0B73-4B42-AE1A-939A25D1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97D4-E170-4BFC-ABAD-107FA828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77D9-FD2D-4C81-8701-EA09FBF9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0154-5296-4076-AB0E-73612B44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337A-75B0-4EC1-9368-7EEEA010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C274-E7B5-4F1C-A85A-2309106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258-A6F0-4A84-884A-D7A6747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A6FF-B41E-429F-9458-64EAA967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138C-F0FF-4DE5-AAB3-1BC22377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9407-A00B-42A7-8D64-ABBEE78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AB11-B986-48C5-9C8B-76F4879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97D6-8DBE-4B25-980B-A2CCB52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94FC-5FBC-4BA1-90B0-A205802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D079-0648-4D1F-B636-339FB19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A3DD-AE6E-4B18-896B-66725D0F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017B-3A86-4D54-9E37-A46CCDF4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4F59-2D17-41D4-8D3D-FD38E33E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8D1-CB43-4719-842D-1D704319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6C106-2398-44B2-8F44-5467AFF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D429-3B77-4CA7-87D6-CE7CF5B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10A3-73B9-432A-A38C-08849648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1227-F694-4587-846D-B08DF18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8122-319A-4688-B974-B301100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8957-75E2-4555-8DF1-CCE816F0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50DEB-B432-49BC-AB89-A9E91F16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6B54-AEEF-4B60-BF09-CA29AB3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07FF-CCA5-454B-9087-901C18D2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896F-87FC-42E5-ABA9-91C2CA64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9D0-EF27-4CD3-B203-FBF19D94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9D39-F179-4EB5-A71D-15D0CA63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7F7C3-2849-4122-ACC2-CDEFEF23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54E2B-412C-4E2E-8D85-781B537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D2BB-718A-4F66-9506-EB1C3E5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3823-8F4B-4A19-8937-1746FC2F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0BBC-1D86-49DA-8F1E-13D3091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4E95D-CB0F-4DF8-9BAF-5D68934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87C4-FBC8-490E-9C19-6549E49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27B6-4E22-4C94-B080-31BF4D2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BEAC-3112-4FAA-974C-59B88DD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7B3-2CE6-4ABF-BA73-9647CD36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D6EB-615D-4D6F-AE9F-7E0AFAB8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0AECE-1BED-4F2F-A335-3BBDF609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14AA-AF09-4F4B-9450-4765888A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7211-FA59-4CFA-B711-FEB832B0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E034-EA56-435F-A084-2EAEFF7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E7CA-D249-4B93-A75C-1EB64065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04C2-7EC0-45E6-9394-AAB1F759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B4C0-4A61-4A2D-B342-744B2C36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EEA1-AD7C-4B43-820F-7ABDE376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00F44-E722-4399-A7A3-67006ACD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8F3-D85E-429F-861F-CD9EAB9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4AF10-A1A6-4F04-9B30-5EDA766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4EDC-9DE7-41F6-BD39-9448D78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2F3A-9C3C-44EF-BB13-57060A1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21A6E-816E-420A-97BF-F7B94D3C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43CAF-9106-4E48-BE5F-F8F17518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7543-3569-4E6A-AD0B-201CFBDD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922CE-19F0-40D3-88CC-219933C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FE301-898A-40A8-B353-DE9771D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11E0-9D8F-480A-A41E-FFC60BC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4860-BD43-47C2-9F9C-30058768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A4A-7641-4FDC-9D37-6C7B02A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C3199-B8DE-44FB-AF7F-865F3CB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7C62C-8F73-46CB-B530-CC2DFB88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E06B-A77C-4181-9C63-192C9EC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90B6-FC4E-443C-A107-3D288A43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3C37-A9AC-4EA1-89F7-A3454E8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75BB9-0005-4CCB-92AE-760E54DD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03B33-74A8-4720-ADB0-4CCEDDCD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8ffe5">
              <a:alpha val="33000"/>
            </a:srgbClr>
          </a:solidFill>
          <a:ln cap="rnd" w="3240">
            <a:solidFill>
              <a:srgbClr val="beff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3ffa3"/>
            </a:solidFill>
            <a:miter/>
          </a:ln>
          <a:effectLst>
            <a:outerShdw dist="12600" dir="5400000" blurRad="0" rotWithShape="0">
              <a:srgbClr val="9cc94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3E7F-9CE7-4E4A-B901-79A852F04199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27833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8ffe5">
              <a:alpha val="33000"/>
            </a:srgbClr>
          </a:solidFill>
          <a:ln cap="rnd" w="3240">
            <a:solidFill>
              <a:srgbClr val="beff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3ffa3"/>
            </a:solidFill>
            <a:miter/>
          </a:ln>
          <a:effectLst>
            <a:outerShdw dist="12600" dir="5400000" blurRad="0" rotWithShape="0">
              <a:srgbClr val="9cc94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27833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82ae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3B1-29D3-447F-8855-ECB21B6E4677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27833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82ae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CE33-F1ED-4302-8A6F-C99E4CCF3187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BBBE-4D8B-474C-8C77-AE1CFD8F208E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27833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050F-598E-4B01-AE6E-821C9C5BC0A3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8263-6CA4-41BA-8F39-36E4F533A466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5ff3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af278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A055-83B5-40BB-9226-F57B525923E5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8ffe5">
              <a:alpha val="33000"/>
            </a:srgbClr>
          </a:solidFill>
          <a:ln cap="rnd" w="3240">
            <a:solidFill>
              <a:srgbClr val="beff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3ffa3"/>
            </a:solidFill>
            <a:miter/>
          </a:ln>
          <a:effectLst>
            <a:outerShdw dist="12600" dir="5400000" blurRad="0" rotWithShape="0">
              <a:srgbClr val="9cc94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27833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13f2a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c6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168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f67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90946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df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9A3-CF52-4CC3-A0D8-661D8335BCC7}" type="slidenum">
              <a:rPr b="0" lang="ru-RU" sz="1200" spc="-1" strike="noStrike">
                <a:solidFill>
                  <a:srgbClr val="a4df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8560" y="475920"/>
            <a:ext cx="8785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экологической компетентности у дошкольников через экспериментальную деятельность</a:t>
            </a:r>
            <a:endParaRPr b="0" lang="en-US" sz="32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662472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Обобщение педагогического опыта на тему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«ДЕТСКОЕ ЭКСПЕРИМЕНТИРОВАНИЕ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5580000" y="465300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ГБОУ Школа №1279 ДО №4 «Лукоморь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ыполнила воспитатель: Илюхина Людмила Александр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Рисунок 1" descr=""/>
          <p:cNvPicPr/>
          <p:nvPr/>
        </p:nvPicPr>
        <p:blipFill>
          <a:blip r:embed="rId1"/>
          <a:stretch/>
        </p:blipFill>
        <p:spPr>
          <a:xfrm>
            <a:off x="1477800" y="3911760"/>
            <a:ext cx="406908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Литература для детей:</a:t>
            </a:r>
            <a:endParaRPr b="0" lang="en-US" sz="40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02920" y="1413000"/>
            <a:ext cx="72946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Зубкова  «Научные  ответы на детские «почему». Ответы и эксперименты для детей от 5 до 9 лет»., Изд.Речь, 2007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Зубкова  « Воз  и  маленькая  тележка  чудес.  Опыты  и эксперименты для детей от 3 до 7 лет». », Изд.Речь, 2007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Зубкова  «Пять тысяч- где, семь тысяч- почему. Опыты и эксперименты для детей от 5 до 9 лет»., Изд.Речь, 2007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чански  Томислав  «Ставим опыты» 1,2., Изд. Урал ЛТ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Кларк, Клинт Пэнг. Энциклопедия. Окружающего мира., Изд. «Махаон», 200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Я, Гальпершнейн. Моя  первая энциклопедия., Научно - по- полярное издание для детей, 200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Рекомендуемая литература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для воспитателей:</a:t>
            </a:r>
            <a:br>
              <a:rPr sz="3200"/>
            </a:br>
            <a:endParaRPr b="0" lang="en-US" sz="32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258560" y="1125360"/>
            <a:ext cx="7427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ванова А.И. Методика организации экологических наблюдений и экспериментов в детском саду - М.:Сфера,200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уликовская И.Э., Совгир Н.Н. Детское эксперимен-тирование. Старший дошкольный возраст. – М.: Пед. общество России, 20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рганизация  экспериментальной деятельности до-школьников. /Под ред. Л.Н. Прохоровой. – М.: АРКТИ, 200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ддьяков А.Н. Мышление дошкольников в процес-се экспериментирования со сложными объектами. // Вопросы психологии – 1996 - №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ыжова Н.А. Экологическое образование в детском саду. – М.: «Карапуз», 200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Интернет—ресурсы:</a:t>
            </a:r>
            <a:endParaRPr b="0" lang="en-US" sz="40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03280" y="126828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http://www.pedagog.kamardin.c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http://revolution.allbest.r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http://vospitatel.resobr.r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http://www.ug.ru учительская газе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http://www/ doshvozrast.ru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http://school.edu.r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.http://www.edu.r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1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5089320" cy="38163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2" descr=""/>
          <p:cNvPicPr/>
          <p:nvPr/>
        </p:nvPicPr>
        <p:blipFill>
          <a:blip r:embed="rId2"/>
          <a:stretch/>
        </p:blipFill>
        <p:spPr>
          <a:xfrm>
            <a:off x="4859280" y="2422440"/>
            <a:ext cx="3706920" cy="426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1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956360" cy="596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ЗА  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Lutik82@bk.r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1187280" y="333360"/>
            <a:ext cx="755676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достои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-исследовательской деятельности заключается в том, что она близка дошкольник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школьники – прирожденные исследовател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-исследовательская деятельность - это не что-то вновь изобретенное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 обу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Рисунок 2" descr=""/>
          <p:cNvPicPr/>
          <p:nvPr/>
        </p:nvPicPr>
        <p:blipFill>
          <a:blip r:embed="rId1"/>
          <a:stretch/>
        </p:blipFill>
        <p:spPr>
          <a:xfrm>
            <a:off x="6156360" y="3692520"/>
            <a:ext cx="2371680" cy="26542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" descr=""/>
          <p:cNvPicPr/>
          <p:nvPr/>
        </p:nvPicPr>
        <p:blipFill>
          <a:blip r:embed="rId2"/>
          <a:stretch/>
        </p:blipFill>
        <p:spPr>
          <a:xfrm>
            <a:off x="1908000" y="366228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ЭКСПЕРИМЕНТИРОВАНИЯ</a:t>
            </a:r>
            <a:r>
              <a:rPr b="1" i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3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71640" y="907920"/>
            <a:ext cx="79423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здание условий для формирования основ целостного мировидения ребенка дошкольного возраста средствами детского эксперимен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ормирование интереса к исследованию приро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витие мыслительных операций (анализ, синтез, классификацию, обобщение и др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имулирование познавательной  активност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 любознательности ребен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тивизирование восприятия учебного материала по ознакомлению с природными явления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258920" y="1052640"/>
            <a:ext cx="734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у детей представления о явлениях природ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ширение представлений детей о физических свойствах окружающего ми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накомство  с  различными  свойствами веществ (твердость, мягкость, и др.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опыта  выполнения правил техники безопасности при проведении эксперименто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го экспериментирования</a:t>
            </a:r>
            <a:br>
              <a:rPr sz="3600"/>
            </a:br>
            <a:r>
              <a:rPr b="0" lang="ru-RU" sz="3600" spc="-1" strike="noStrike">
                <a:solidFill>
                  <a:srgbClr val="413f2a"/>
                </a:solidFill>
                <a:latin typeface="Corbel"/>
              </a:rPr>
              <a:t> </a:t>
            </a:r>
            <a:endParaRPr b="0" lang="en-US" sz="36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920" y="1341000"/>
            <a:ext cx="421344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Схема 1" descr=""/>
          <p:cNvPicPr/>
          <p:nvPr/>
        </p:nvPicPr>
        <p:blipFill>
          <a:blip r:embed="rId1"/>
          <a:stretch/>
        </p:blipFill>
        <p:spPr>
          <a:xfrm>
            <a:off x="1176480" y="1139760"/>
            <a:ext cx="3693960" cy="52545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2" descr=""/>
          <p:cNvPicPr/>
          <p:nvPr/>
        </p:nvPicPr>
        <p:blipFill>
          <a:blip r:embed="rId2"/>
          <a:stretch/>
        </p:blipFill>
        <p:spPr>
          <a:xfrm>
            <a:off x="5580000" y="1330200"/>
            <a:ext cx="32400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структур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  - экспериментирования</a:t>
            </a:r>
            <a:endParaRPr b="0" lang="en-US" sz="40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15640" y="1267920"/>
            <a:ext cx="7559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 исследовательской  задачи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развитие  внимания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правил безопасност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плана исследова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борудова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 детей на подгруппы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бобщени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7472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 положительное влияние экспериментально-исследовательской деятельност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13f2a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эмоциональную сферу ребенк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звитие творческих способностей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трудовых навыков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доводить начатое до победного конца.</a:t>
            </a:r>
            <a:br>
              <a:rPr sz="3200"/>
            </a:br>
            <a:endParaRPr b="0" lang="en-US" sz="3200" spc="-1" strike="noStrike">
              <a:solidFill>
                <a:srgbClr val="413f2a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ка экспериментальной деятельност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413f2a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460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первичных естественнонаучных представлений, наблюдательности, любознательности, активности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слительных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й ( анализ, сравнение, обобщение, классификация, наблюдение)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й комплексно  обследовать предм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Картинка 2" descr=""/>
          <p:cNvPicPr/>
          <p:nvPr/>
        </p:nvPicPr>
        <p:blipFill>
          <a:blip r:embed="rId1"/>
          <a:stretch/>
        </p:blipFill>
        <p:spPr>
          <a:xfrm>
            <a:off x="5383080" y="3789360"/>
            <a:ext cx="3292560" cy="24717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38292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403280" y="189000"/>
            <a:ext cx="734544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экспериментирования разделе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4 сектор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род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компоненты живой и не живой природы. (Вода, песок, камни, семена, желуди, крупы и т.д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творны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 себя компоненты созданные руками человека. ( Бумага, ткань, магнит, стекла, химические жидкости и т.д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 себя картотеки экспериментов, опытов, инструкции по технике безопасности, алгоритмы проведения опытнической деятельности, дидактические игры с элементами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ктор-матери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орудования. (колбы, микроскоп, мензурки, шпатели, лупы, ложечки, пипетки и т.д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9:46:57Z</dcterms:created>
  <dc:creator>111</dc:creator>
  <dc:description/>
  <dc:language>en-US</dc:language>
  <cp:lastModifiedBy>Людмила</cp:lastModifiedBy>
  <cp:lastPrinted>2019-04-18T06:28:35Z</cp:lastPrinted>
  <dcterms:modified xsi:type="dcterms:W3CDTF">2019-04-18T06:48:12Z</dcterms:modified>
  <cp:revision>39</cp:revision>
  <dc:subject/>
  <dc:title>Воспитание экологической компетентности у дошкольников через экспериментальную деятельность.</dc:title>
</cp:coreProperties>
</file>