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76C-3891-4408-B280-413B9A1C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795-C078-4D84-8E69-7DC2B1A0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6E4-EA8C-40F5-A116-818CF723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AA3-EEE4-4C2A-B3D9-821DD2AC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493E0-CB58-442F-96EB-36A8C976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05CF-CCA5-4823-B8CB-B443BD8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2E893-A9E9-4324-9975-B3ED7A77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35F0A-F6B6-4736-88A6-63F5DE30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9243-B069-43BD-B23D-C836137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5ED0-9840-48B4-9ECE-448BAE4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F4CAC-83C2-4A78-99AC-2F86CEC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242-A244-4822-ADE9-C151752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94A8-34EB-461A-BBF9-D041623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D211-DE1F-491E-8AFA-B334F13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57854-5F2C-434F-94D6-ADFB66F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B862B-35ED-4EB9-9BA0-059534FC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FC558-4CED-4B7D-8DA7-265D6D4D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A34-BE7D-4384-B3D1-2428C831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FCD-4797-4F2C-9574-6C8A371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78B-7A21-4303-B8B0-B0BD26F2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2C8-E647-4A02-81A8-724A01B5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DF2-58AE-469D-A500-980DCA0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872-1CFA-451F-A771-DD92D44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204-1A43-4482-88FF-CD06C94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B03-06BB-41F6-8691-41CBE8FC0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567-BEA2-49DC-9013-85A26BA382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троение и свойства географической оболочки. Круговорот веществ и энерг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3573360"/>
            <a:ext cx="4392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Урок по географии матер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и оке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int1"/>
          <p:cNvPicPr/>
          <p:nvPr/>
        </p:nvPicPr>
        <p:blipFill>
          <a:blip r:embed="rId1"/>
          <a:stretch/>
        </p:blipFill>
        <p:spPr>
          <a:xfrm>
            <a:off x="395280" y="1844640"/>
            <a:ext cx="417672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Круговорот веществ и энергии на суше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9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2124000" y="1413000"/>
            <a:ext cx="5184720" cy="42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Круговорот веществ и энергии в сообществе живых организмов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Picture 3" descr="сканирование0005"/>
          <p:cNvPicPr/>
          <p:nvPr/>
        </p:nvPicPr>
        <p:blipFill>
          <a:blip r:embed="rId1"/>
          <a:stretch/>
        </p:blipFill>
        <p:spPr>
          <a:xfrm>
            <a:off x="2268360" y="1773360"/>
            <a:ext cx="4681800" cy="39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Закрепление знан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Что называют географической оболочк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Назовите свойства географической обол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Какие круговороты существуют в географической оболоч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Объясните для чего человеку необходимы знания о географической оболочке, её строении и свой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Цели урок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1280" y="2060280"/>
            <a:ext cx="792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Раскрыть содержание понятия «Географическая оболочка», показать какое она имеет строение и каковы её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Дать представление о круговороте веществ и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Географическая оболочка это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3280" y="2276280"/>
            <a:ext cx="425952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болочка Земли. В пределах которой взаимно проникают друг в друга и взаимодействуют нижние слои атмосферы, верхние части литосферы, вся гидросфера и би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971640" y="2133720"/>
            <a:ext cx="280836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войства географической оболочк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Наличие живых организмов,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елёные растения усваивают солнечную энергию. Которая идёт на процессы образования органических веществ из неорган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ещества находятся в твёрдом, жидком и газообразном состоя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географической оболочке возник человек и развивается человеческое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географической оболочке все процессы происходят под воздействием солнечной энергии и внутриземных источников 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еографическая оболочка испытывает влияние косм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руговорот веществ и энерги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се компоненты географической оболочки связаны в единое целое посредством круговорота веществ и энергии. Благодаря которому осуществляется обмен веществ между литосферой, атмосферой, гидросферой и биосфе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географической оболочке существуют круговор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Круговорот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Круговорот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Биологический круговорот веществ и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руговорот воздух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5229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Схема горизонтального и вертикального движения воздуха в тропосф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канирование0006"/>
          <p:cNvPicPr/>
          <p:nvPr/>
        </p:nvPicPr>
        <p:blipFill>
          <a:blip r:embed="rId1"/>
          <a:srcRect l="0" t="0" r="0" b="1202"/>
          <a:stretch/>
        </p:blipFill>
        <p:spPr>
          <a:xfrm>
            <a:off x="1187280" y="1409760"/>
            <a:ext cx="6769440" cy="37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руговорот воды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5516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вижение воздуха в тропосфере втягивает в глобальный круговорот и гидросферу, образуя мировой круговорот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31_1_1"/>
          <p:cNvPicPr/>
          <p:nvPr/>
        </p:nvPicPr>
        <p:blipFill>
          <a:blip r:embed="rId1"/>
          <a:stretch/>
        </p:blipFill>
        <p:spPr>
          <a:xfrm>
            <a:off x="1403280" y="1268280"/>
            <a:ext cx="612144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руговороты веществ и энерги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Биологические кругово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океане    В сообществе живых организмов    На су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1332000" y="2205000"/>
            <a:ext cx="3311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4643280" y="220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643280" y="2205000"/>
            <a:ext cx="3097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Круговорот веществ и энергии в океане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0" y="5876640"/>
            <a:ext cx="6984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Обмен веществ и      энергии в   оке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3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7:01:22Z</dcterms:created>
  <dc:creator>Форвард</dc:creator>
  <dc:description/>
  <dc:language>en-US</dc:language>
  <cp:lastModifiedBy>User</cp:lastModifiedBy>
  <dcterms:modified xsi:type="dcterms:W3CDTF">2014-10-18T09:59:36Z</dcterms:modified>
  <cp:revision>11</cp:revision>
  <dc:subject/>
  <dc:title>Строение и свойства географической оболочки. Круговорот веществ и энергии</dc:title>
</cp:coreProperties>
</file>