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248B-A9E8-4E8E-9A26-4477254EA1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D251-E4AD-418F-B4BF-0A0453E2C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DC5-DE8A-449C-968F-F19D570AD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ABD-805F-4822-9520-CE2B4C00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B19-4573-4A1A-B826-9EBBE3E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DA6-E6FD-4010-A36C-62032F49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9A7-2952-4409-8B2C-98FB1D19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EB5-42C6-4DB5-AC8F-EB19021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167-1C2B-4FB5-86D2-61C5E810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1EC-B925-4486-AB8E-74E4F563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FB7-5E8E-4202-AB96-EC5ACC47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E46-B7E9-4082-8E29-C8B510B7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32E-5C2C-4670-B941-4B648DC2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F47-3437-43D2-9547-5516F1E4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57F-6B60-4907-9791-81E4194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e8d6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4497-9317-4A27-AA58-0FA7BDC14B7F}" type="datetime">
              <a:rPr b="0" lang="ru-RU" sz="12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B49E-A93B-47FC-91F7-C938CE3A8BDF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pandia.ru/text/category/lizhnij_sport/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s://pandia.ru/text/category/golovnie_ubori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Лыжная подготовка в школе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1280" y="5445000"/>
            <a:ext cx="6732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0da3"/>
                </a:solidFill>
                <a:latin typeface="Trebuchet MS"/>
              </a:rPr>
              <a:t>Подготовила  учитель физической культуры  МБОУ «СШ № 21» Исакова В.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3132000" y="6165720"/>
            <a:ext cx="55548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2040-1A48-4E20-A422-F6EDDB1D719E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https://pandia.ru/text/79/074/images/image001_104.gif"/>
          <p:cNvPicPr/>
          <p:nvPr/>
        </p:nvPicPr>
        <p:blipFill>
          <a:blip r:embed="rId1"/>
          <a:stretch/>
        </p:blipFill>
        <p:spPr>
          <a:xfrm>
            <a:off x="341280" y="1557360"/>
            <a:ext cx="2084400" cy="237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Гость\Desktop\флешка\ФОТО ДЛЯ ПОРТФОЛИО\DSC_1397.jpg"/>
          <p:cNvPicPr/>
          <p:nvPr/>
        </p:nvPicPr>
        <p:blipFill>
          <a:blip r:embed="rId2"/>
          <a:stretch/>
        </p:blipFill>
        <p:spPr>
          <a:xfrm>
            <a:off x="5076720" y="2133720"/>
            <a:ext cx="2224080" cy="3208320"/>
          </a:xfrm>
          <a:prstGeom prst="rect">
            <a:avLst/>
          </a:prstGeom>
          <a:ln w="0">
            <a:noFill/>
          </a:ln>
        </p:spPr>
      </p:pic>
    </p:spTree>
  </p:cSld>
  <p:transition advTm="14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2708280"/>
            <a:ext cx="48592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Категорически запрещается использовать лыжные палки для осаливания во время подвижных игр и эстафет: это можно делать только руко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11280" y="2565360"/>
            <a:ext cx="4932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rebuchet MS"/>
              </a:rPr>
              <a:t>При занятиях лыжным спортом могут быть обморожения. При потере чувствительности кожи ушей, носа, щек следует немедленно сделать растирание. Делать это нужно сухой рукой, а не снегом, так как в последнем случае можно повредить кожу и занести инфекц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8954-90EC-475B-AB4D-7FC4C927701C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1320"/>
            <a:ext cx="914400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rebuchet MS"/>
              </a:rPr>
              <a:t>При передвижении на лыжах по дистанции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соблюдайте интервал 3-4 м, при спусках - не менее 30 м. При спусках не выставляйте вперед лыжные палки. Если возникает необходимость в быстрой остановке, приседая, падать на бок (обязательно держа при этом палки сзади). Не пересекать лыжню, по которой передвигаются спускающиеся со склона лыжник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610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0"/>
            <a:ext cx="86421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О поломке и порче лыжного снаряжения,</a:t>
            </a: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rebuchet MS"/>
              </a:rPr>
              <a:t>о необходимости сойти с дистанции надо обязательно предупредить учителя. Не уходите с занятий без разрешения учител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3499920"/>
            <a:ext cx="42116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ельзя раздеваться во время передвижения на лыжах по дистанции (это приведет к простуде). Лучше снять лишнюю одежду до начала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Trebuchet MS"/>
                <a:hlinkClick r:id="rId1"/>
              </a:rPr>
              <a:t>лыжной гонки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, а после ее завершения надеть внов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9DA3-854A-4C89-84B9-C0B87AC6D254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https://pandia.ru/text/79/074/images/image004_51.gif"/>
          <p:cNvPicPr/>
          <p:nvPr/>
        </p:nvPicPr>
        <p:blipFill>
          <a:blip r:embed="rId2"/>
          <a:stretch/>
        </p:blipFill>
        <p:spPr>
          <a:xfrm>
            <a:off x="8101080" y="2781360"/>
            <a:ext cx="780840" cy="1257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4211640" y="3887280"/>
            <a:ext cx="468144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  <a:ea typeface="Times New Roman"/>
              </a:rPr>
              <a:t>Перед входом в помещение счистить снег с лы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  <a:ea typeface="Times New Roman"/>
              </a:rPr>
              <a:t>Сразу после занятий по лыжной подготовке не пить холодную воду, чтобы не заболело гор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rebuchet MS"/>
              </a:rPr>
              <a:t>Соблюдение температурного режи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9DAF-D183-42A0-A19D-097DD9890D03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79280" y="224712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Лыжная подготовка в начальной школе провод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если погода безветренная и температура воздуха не ниже -9 граду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если скорость ветра до 5 м/с и температура не ниже -6 граду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если скорость ветра от 5 до 10 м/с и температура не ниже -3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Для старших школьников температурный режим немного друг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4653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Нужно помнить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76720" y="-171720"/>
            <a:ext cx="5867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Лыжная подготовка в старших класса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Ребята должны знать следующие правила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Перед уроком каждый должен проверить свои лыжи на исправность (целость креплений, отсутствие трещин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Не стоит надевать лыжи сразу после выхода на улицу. Инвентарь должен адаптироваться к низкой температур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Нельзя махать палками слишком активно, чтобы не покалечить товарищ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rebuchet MS"/>
              </a:rPr>
              <a:t>Ученику надо четко выполнять все требования учител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36352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Здоровье ребенка чащ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всего зависит от уровня его физической актив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Лыжная подготовка — это не просто занятия на свежем воздухе. Это еще закаливание организма, всестороннее физическое развитие ребенк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Занятия на свежем воздухе способствуют лучшей активности головного мозг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-34776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Техника безопасности на уроках лыжной подготовки — это основа сохранения физического здоровья детей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580B-4216-4708-9141-2137B31E93F8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2604-56E0-4E51-B166-B758E2F9B080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98" descr="https://im0-tub-ru.yandex.net/i?id=00483b44f759b8ecd0146101f8a3b793-l&amp;n=13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799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4005360"/>
            <a:ext cx="8425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0da3"/>
                </a:solidFill>
                <a:latin typeface="Trebuchet MS"/>
              </a:rPr>
              <a:t>Школьные уроки лыжной подготовки не сделают ребенка мастером спорта, но поспособствуют его полноценному физическому развитию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9119-F356-430A-BEED-0FD9196A12A1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1" descr="http://fb.ru/misc/i/gallery/23426/1175561.jpg?1549552082"/>
          <p:cNvPicPr/>
          <p:nvPr/>
        </p:nvPicPr>
        <p:blipFill>
          <a:blip r:embed="rId1"/>
          <a:srcRect l="4888" t="0" r="4888" b="0"/>
          <a:stretch/>
        </p:blipFill>
        <p:spPr>
          <a:xfrm>
            <a:off x="1155600" y="0"/>
            <a:ext cx="636912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748720" cy="49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Однако и впадать в крайность не стоит. Если организм ребенка ослаблен после болезни, от занятий на свежем воздухе в зимний период лучше отказаться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Техника безопасности предусматривает правильный подбор не только спортивного инвентаря и формы одежды, но и условий, в которых будут проведены занят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EB9-BF5D-4671-8174-451FCC4EA63D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5092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здоровом теле — здоровый ду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5C00-F61A-450A-8840-17A0476813BA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56" descr="Спасибо за внимание! "/>
          <p:cNvPicPr/>
          <p:nvPr/>
        </p:nvPicPr>
        <p:blipFill>
          <a:blip r:embed="rId1"/>
          <a:srcRect l="108" t="0" r="1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rebuchet MS"/>
              </a:rPr>
              <a:t>Организация уроков лыжной подготовки в школ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чти на всей территории нашей страны зима — это время для любителей лыж, санок и коньков. В рамках программы физического развития ребенка в школе лыжная подготовка является обязательной. Занятия способствуют укреплению иммунитета, тренируют все группы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ышц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Лыжная подготовка в школе проводится во всех классах без исключения. Программе по этому направлению отводится 16 учебных часов. Дети должны приобрести навыки обращения с лыжами и освоить элементарные способы передвижения на них с целью повышения физической активности и укрепления собственного здоровь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6CC1-A5D8-435B-8A09-1BB52D1456F5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3D36-0952-42A5-852B-A989ED0F3E69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250920" y="3333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ыжная подготовка в начальной школе — это основа основ. От того, насколько ребенок усвоит азы, будут зависеть его дальнейшие успехи в этом виде спорта. Поэтому чаще всего учителю физкультуры в начальных классах приходится играть роль инструктора, который внимательно следит за каждым учеником и корректирует правильность движений при выполнении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ьных классах ребята получают самые первые навыки обращения со спортивным инвентарем. Поэтому вопрос соблюдения техники безопасности здесь стоит наиболее остро. Во-первых, для детей необходимо максимально правильно подобрать лыжи, палки, обувь и крепления. Во-вторых, необходимо научить застегивать жесткие крепления на лыжах и регулировать мягкие. В-третьих, при объяснении правил передвижения на лыжах детям начальной школы нужен наглядн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46AD-D327-43FA-BF8A-0A603676302C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468360" y="47628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шении этих задач большое значение имеет техника лыжной подготовки. Дети учатся правильно выполнять задания учителя, уделяя внимание отдельным элементам. Чтобы научиться спускаться с горы, стоит отработать технику ската и правильного торможения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висимо от возрастной категории детей, должна соблюдаться техника безопасности на уроках лыжной подготовки в шко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31A3-D90A-4C4A-89E2-7712CF1F0FB4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95280" y="457200"/>
            <a:ext cx="84247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Лыжная подготовка в старших клас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мотря на то, что дети уже имеют опыт обращения со спортивным инвентарем, техника безопасности на уроках лыжной подготовки должна напоминаться учащим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https://pandia.ru/text/79/074/images/image003_61.gif"/>
          <p:cNvPicPr/>
          <p:nvPr/>
        </p:nvPicPr>
        <p:blipFill>
          <a:blip r:embed="rId1"/>
          <a:stretch/>
        </p:blipFill>
        <p:spPr>
          <a:xfrm>
            <a:off x="0" y="4197240"/>
            <a:ext cx="2195640" cy="24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9837-0D06-4A42-AC31-02187FBA965C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971640" y="1890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хника безопасности на уроках лыжной подготов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79280" y="175536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В лыжном спорте очень важно следовать основным рекомендациям, чтобы не допустить травму и переохлаждение уча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https://pandia.ru/text/79/074/images/image001_104.gif"/>
          <p:cNvPicPr/>
          <p:nvPr/>
        </p:nvPicPr>
        <p:blipFill>
          <a:blip r:embed="rId1"/>
          <a:stretch/>
        </p:blipFill>
        <p:spPr>
          <a:xfrm>
            <a:off x="7812000" y="5340240"/>
            <a:ext cx="1332000" cy="1517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https://pandia.ru/text/79/074/images/image001_104.gif"/>
          <p:cNvPicPr/>
          <p:nvPr/>
        </p:nvPicPr>
        <p:blipFill>
          <a:blip r:embed="rId2"/>
          <a:stretch/>
        </p:blipFill>
        <p:spPr>
          <a:xfrm>
            <a:off x="0" y="457200"/>
            <a:ext cx="1228680" cy="14000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0" y="31896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imes New Roman"/>
              </a:rPr>
              <a:t>Лыжи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 должны быть подобраны по росту занимающегося и находиться в исправном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179280" y="4177080"/>
            <a:ext cx="81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  <a:ea typeface="Times New Roman"/>
              </a:rPr>
              <a:t>Крепления должны быть отрегулированы так, чтобы можно было без посторонней помощи прикреплять лыжи к лыжным ботинкам. Палки, подобранные по росту, должны иметь наконечник, кольцо и регулируемой длины ремень для кисти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375D-5EAB-4DB1-8A61-565332D0097E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собых правил по выбору одежды для занятий на лыжах нет. Однако форма должна соответствовать следующим правил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324000" y="2276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надежно защищать от ве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не перегревать и не способствовать переохлажд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не должна сковывать движений во время 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арежек должно быть два комплекта, чтобы в случае намокания одной можно было надеть другую па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головной убор должен быть изготовлен из теплого гипоаллерген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700280"/>
            <a:ext cx="8569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692000" y="3357720"/>
            <a:ext cx="7127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Лыжные ботинки 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  <a:ea typeface="Times New Roman"/>
              </a:rPr>
              <a:t>должны быть подобраны по размеру: тесная или очень свободная обувь может привести к потертостям или травме. Надевать обувь лучше на два носка. Носки должны быть сухим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5A33-C3CE-4B20-BE0C-F340BE65D1C6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https://pandia.ru/text/79/074/images/image002_78.gif"/>
          <p:cNvPicPr/>
          <p:nvPr/>
        </p:nvPicPr>
        <p:blipFill>
          <a:blip r:embed="rId1"/>
          <a:stretch/>
        </p:blipFill>
        <p:spPr>
          <a:xfrm>
            <a:off x="0" y="4437000"/>
            <a:ext cx="1587600" cy="2025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7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ежда на занятиях лыжной подготов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защищать от холода и ветра, быть легкой, удобной. Чтобы не застудить поясницу, следует надеть длинный свитер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прещается заниматься без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головного уб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ледует надеть спортивную шапочку, прикрывающую уши, а на руки - варежк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йдя на улиц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те вставать на лыжи, иначе на них образуется корка льда, которая будет препятствовать скольжению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В течение всего года регулярно выполняйте упражнения на выносливость. Низкий уровень выносливости является одной из причин травматизм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Следует внимательно слушать объяснения учителя, стараться правильно и точно выполнять упражн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5A9-EAD1-4F33-ABFB-CB5B2555EAD0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9T16:19:49Z</dcterms:created>
  <dc:creator>Исакова Валентина</dc:creator>
  <dc:description/>
  <dc:language>en-US</dc:language>
  <cp:lastModifiedBy>Исакова Валентина</cp:lastModifiedBy>
  <dcterms:modified xsi:type="dcterms:W3CDTF">2019-03-10T17:31:11Z</dcterms:modified>
  <cp:revision>31</cp:revision>
  <dc:subject/>
  <dc:title>Слайд 1</dc:title>
</cp:coreProperties>
</file>