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AE5-8221-462E-9868-5DBAB0B7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FDC-E62A-4F1D-8433-8A8EAB78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EF2-69AB-4D7B-AFDD-1C0208D9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A99-E2A7-4874-874B-761D53E1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17F7-2AEE-4E21-88ED-AEF49F5B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DD2A-EFDF-4080-A9CA-0F0BBCE3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C9E9-117C-4B20-A3CE-18DBFC52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D89F-B792-47B0-927A-A2903E13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BDD8-6566-49C7-B588-5741B822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9B40-B2EE-4321-AB5E-D9B4A29C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E9D5-8A65-4722-A380-AEA7CBF8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2D9-F422-4E39-BF80-5166B9A6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A7C2-E987-48AE-A105-C18962CA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C269-BE33-48ED-A55B-D0AC5590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1B1F-C381-4330-92E2-E0F1B3D1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228E-6906-4D0B-A0BE-36C42121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0929-2CAB-4D3C-86C0-05380678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B7B-28FF-4F92-9FEE-75C579DF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6F6-8967-4348-BDF4-380E5FF1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60E-D9BA-4D54-8942-ACDCB318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39B-BC72-461C-BB09-DAB7FDB5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EC4-AA5C-4E51-9284-82162B80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AA2-8734-46DC-9333-E722A9EB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D20-AC61-4244-BF0C-AECC916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58DF-CA49-42DE-96CC-FEB2D1A4FF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729F-FE52-4928-BE93-7BC59652C0A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2600"/>
            </a:b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1722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Требова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охраны труда во врем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работ с использованием ручн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сельскохозяйственного инвентар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Составила: учитель технологии Федорова М.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учные орудия и инвентарь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ля  обработки  почвы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опаты                             Мотыги                         Грабли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илы                               Секатор                      Садовый нож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5" descr="35"/>
          <p:cNvPicPr/>
          <p:nvPr/>
        </p:nvPicPr>
        <p:blipFill>
          <a:blip r:embed="rId1"/>
          <a:stretch/>
        </p:blipFill>
        <p:spPr>
          <a:xfrm>
            <a:off x="468360" y="206064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36"/>
          <p:cNvPicPr/>
          <p:nvPr/>
        </p:nvPicPr>
        <p:blipFill>
          <a:blip r:embed="rId2"/>
          <a:stretch/>
        </p:blipFill>
        <p:spPr>
          <a:xfrm>
            <a:off x="3276720" y="206064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6"/>
          <p:cNvPicPr/>
          <p:nvPr/>
        </p:nvPicPr>
        <p:blipFill>
          <a:blip r:embed="rId3"/>
          <a:stretch/>
        </p:blipFill>
        <p:spPr>
          <a:xfrm>
            <a:off x="6156360" y="206064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39"/>
          <p:cNvPicPr/>
          <p:nvPr/>
        </p:nvPicPr>
        <p:blipFill>
          <a:blip r:embed="rId4"/>
          <a:stretch/>
        </p:blipFill>
        <p:spPr>
          <a:xfrm>
            <a:off x="468360" y="4653000"/>
            <a:ext cx="215892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40"/>
          <p:cNvPicPr/>
          <p:nvPr/>
        </p:nvPicPr>
        <p:blipFill>
          <a:blip r:embed="rId5"/>
          <a:stretch/>
        </p:blipFill>
        <p:spPr>
          <a:xfrm>
            <a:off x="3348000" y="465300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43"/>
          <p:cNvPicPr/>
          <p:nvPr/>
        </p:nvPicPr>
        <p:blipFill>
          <a:blip r:embed="rId6"/>
          <a:stretch/>
        </p:blipFill>
        <p:spPr>
          <a:xfrm>
            <a:off x="6227640" y="465300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равила безопасной работы лопато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Лопата должна входить в почву на необходимую глубину(на полный штык, на полштык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Захватывать пласт почвы для перекопки шириной 13 – 15 с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Работать на отведенном месте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Во время перерыва заглубить рабочую часть лопаты в почву, чтобы кто-нибудь случайно не наступил на острый кра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Работать спокойно, размеренно, не торопяс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Соблюдать правила перекапывания почвы лопат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4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7" descr="19"/>
          <p:cNvPicPr/>
          <p:nvPr/>
        </p:nvPicPr>
        <p:blipFill>
          <a:blip r:embed="rId1"/>
          <a:stretch/>
        </p:blipFill>
        <p:spPr>
          <a:xfrm>
            <a:off x="826920" y="4149720"/>
            <a:ext cx="208152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33"/>
          <p:cNvPicPr/>
          <p:nvPr/>
        </p:nvPicPr>
        <p:blipFill>
          <a:blip r:embed="rId2"/>
          <a:stretch/>
        </p:blipFill>
        <p:spPr>
          <a:xfrm>
            <a:off x="3492360" y="4076640"/>
            <a:ext cx="2016360" cy="223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24"/>
          <p:cNvPicPr/>
          <p:nvPr/>
        </p:nvPicPr>
        <p:blipFill>
          <a:blip r:embed="rId3"/>
          <a:stretch/>
        </p:blipFill>
        <p:spPr>
          <a:xfrm>
            <a:off x="6227640" y="4076640"/>
            <a:ext cx="201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авила работы мотыго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Во время работы мотыгой делать короткие взмахи при наклонном положении тел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Не поднимать мотыгу высоко, соблюдать осторожность, чтобы никого не задеть остриём моты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Работать на отведенном мест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Во время перерыва класть мотыгу острой частью вниз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7" descr="4"/>
          <p:cNvPicPr/>
          <p:nvPr/>
        </p:nvPicPr>
        <p:blipFill>
          <a:blip r:embed="rId1"/>
          <a:stretch/>
        </p:blipFill>
        <p:spPr>
          <a:xfrm>
            <a:off x="3635280" y="3933720"/>
            <a:ext cx="173376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23"/>
          <p:cNvPicPr/>
          <p:nvPr/>
        </p:nvPicPr>
        <p:blipFill>
          <a:blip r:embed="rId2"/>
          <a:stretch/>
        </p:blipFill>
        <p:spPr>
          <a:xfrm>
            <a:off x="6300720" y="3933720"/>
            <a:ext cx="1943280" cy="223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25"/>
          <p:cNvPicPr/>
          <p:nvPr/>
        </p:nvPicPr>
        <p:blipFill>
          <a:blip r:embed="rId3"/>
          <a:stretch/>
        </p:blipFill>
        <p:spPr>
          <a:xfrm>
            <a:off x="971640" y="3933720"/>
            <a:ext cx="201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авила работы граблями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Во время работы граблями делать короткие взмахи при наклонном  положении тел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Не поднимать грабли высок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Работать на отведенном мест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Во время перерыва класть грабли зубьями вниз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7" descr="31"/>
          <p:cNvPicPr/>
          <p:nvPr/>
        </p:nvPicPr>
        <p:blipFill>
          <a:blip r:embed="rId1"/>
          <a:stretch/>
        </p:blipFill>
        <p:spPr>
          <a:xfrm>
            <a:off x="1187280" y="4149720"/>
            <a:ext cx="1905120" cy="20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32"/>
          <p:cNvPicPr/>
          <p:nvPr/>
        </p:nvPicPr>
        <p:blipFill>
          <a:blip r:embed="rId2"/>
          <a:stretch/>
        </p:blipFill>
        <p:spPr>
          <a:xfrm>
            <a:off x="3708360" y="4149720"/>
            <a:ext cx="1871640" cy="2006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14"/>
          <p:cNvPicPr/>
          <p:nvPr/>
        </p:nvPicPr>
        <p:blipFill>
          <a:blip r:embed="rId3"/>
          <a:stretch/>
        </p:blipFill>
        <p:spPr>
          <a:xfrm>
            <a:off x="6227640" y="4149720"/>
            <a:ext cx="1873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авила работы с садовым ножо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При срезах садовым ножом и зачистке ран, поза садовода и особенно положение рук должны обеспечить безопасность при возможном срыве с древесины садового инструмента.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На линии движения лезвия ножа при выходе его из древесины не должны находиться ни корпус работающего, ни его рука или любая другая часть тел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При переходе от одного вида работ к другому и по прекращении работ необходимо весь инструмент закрыва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Не ходите, и не передавайте раскрытый нож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8" descr="42"/>
          <p:cNvPicPr/>
          <p:nvPr/>
        </p:nvPicPr>
        <p:blipFill>
          <a:blip r:embed="rId1"/>
          <a:stretch/>
        </p:blipFill>
        <p:spPr>
          <a:xfrm>
            <a:off x="395280" y="4076640"/>
            <a:ext cx="280836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12"/>
          <p:cNvPicPr/>
          <p:nvPr/>
        </p:nvPicPr>
        <p:blipFill>
          <a:blip r:embed="rId2"/>
          <a:stretch/>
        </p:blipFill>
        <p:spPr>
          <a:xfrm>
            <a:off x="6227640" y="4076640"/>
            <a:ext cx="2521080" cy="2233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11"/>
          <p:cNvPicPr/>
          <p:nvPr/>
        </p:nvPicPr>
        <p:blipFill>
          <a:blip r:embed="rId3"/>
          <a:stretch/>
        </p:blipFill>
        <p:spPr>
          <a:xfrm>
            <a:off x="3564000" y="4076640"/>
            <a:ext cx="2303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авила работы с пило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Полотно пилы устанавливают зубцами от себ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Держите руки на безопасном расстоянии, используйте всю длину полотна. При движении инструмента вперед делают нажим, при движении назад нажим не делает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Никто не должен стоять пред вами, по ходу пил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10" descr="9"/>
          <p:cNvPicPr/>
          <p:nvPr/>
        </p:nvPicPr>
        <p:blipFill>
          <a:blip r:embed="rId1"/>
          <a:stretch/>
        </p:blipFill>
        <p:spPr>
          <a:xfrm>
            <a:off x="324000" y="3860640"/>
            <a:ext cx="2808000" cy="21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35"/>
          <p:cNvPicPr/>
          <p:nvPr/>
        </p:nvPicPr>
        <p:blipFill>
          <a:blip r:embed="rId2"/>
          <a:stretch/>
        </p:blipFill>
        <p:spPr>
          <a:xfrm>
            <a:off x="6012000" y="3860640"/>
            <a:ext cx="2797200" cy="226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4"/>
          <p:cNvPicPr/>
          <p:nvPr/>
        </p:nvPicPr>
        <p:blipFill>
          <a:blip r:embed="rId3"/>
          <a:stretch/>
        </p:blipFill>
        <p:spPr>
          <a:xfrm>
            <a:off x="3348000" y="3860640"/>
            <a:ext cx="2448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авила работы с секаторо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При работе с секатором нужно быть предельно внимательным и осторожным, работать в рукавица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Резать ветви толщиной в 2,5 см, для сучкореза в – 4 с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-  От лезвия секатора рука находится не ближе 20 с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Для срезания веток и побегов, расположенных высоко над землёй, используют секатор-сучкорез или кусторез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8" descr="7"/>
          <p:cNvPicPr/>
          <p:nvPr/>
        </p:nvPicPr>
        <p:blipFill>
          <a:blip r:embed="rId1"/>
          <a:stretch/>
        </p:blipFill>
        <p:spPr>
          <a:xfrm>
            <a:off x="3276720" y="4221000"/>
            <a:ext cx="2663640" cy="237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0"/>
          <p:cNvPicPr/>
          <p:nvPr/>
        </p:nvPicPr>
        <p:blipFill>
          <a:blip r:embed="rId2"/>
          <a:stretch/>
        </p:blipFill>
        <p:spPr>
          <a:xfrm>
            <a:off x="179280" y="4221000"/>
            <a:ext cx="2737080" cy="2303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0"/>
          <p:cNvPicPr/>
          <p:nvPr/>
        </p:nvPicPr>
        <p:blipFill>
          <a:blip r:embed="rId3"/>
          <a:stretch/>
        </p:blipFill>
        <p:spPr>
          <a:xfrm>
            <a:off x="6372360" y="4149720"/>
            <a:ext cx="2447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ы для проверк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642960" y="1357200"/>
            <a:ext cx="7715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7171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Перечисли виды ручного сельскохозяйственного инвентаря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7171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Какие общие правила безопасной работы с ручным инвентарем знаете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7171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Какой вид ручного сельскохозяйственного инвентаря является наиболее опасным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7171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Рассказать правила работы с каждым видом ручного сельскохозяйственного инвентаря (лопатой, секатором, мотыгой, пилой, садовым ножом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7171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Какой вид ручного сельскохозяйственного инвентаря не назвали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7171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285920" y="442908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Задание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Работа с карточками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одпиши название ручного сельскохозяйственного инвентаря 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4:10:58Z</dcterms:created>
  <dc:creator>hobbit</dc:creator>
  <dc:description/>
  <dc:language>en-US</dc:language>
  <cp:lastModifiedBy>Хозин</cp:lastModifiedBy>
  <dcterms:modified xsi:type="dcterms:W3CDTF">2019-11-10T16:42:06Z</dcterms:modified>
  <cp:revision>18</cp:revision>
  <dc:subject/>
  <dc:title>  </dc:title>
</cp:coreProperties>
</file>