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52C-A553-4569-8D60-FBFFFAB6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194-673C-4B39-8C75-65BEAA56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6C5-C9E2-4DB7-9C06-77EB24F4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695-F9FE-4CC3-90F5-A1F4BEB5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B7C-1DC7-43C5-BCF7-86B976F0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6FD-33D5-48AA-9A4B-E6C11DF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DC28-CCF6-49D3-B679-8C18358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AA8-F9AF-41F0-9BBD-314B90AD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4BF-BA66-4041-B082-4E5C7845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746-5553-486C-A501-8F996DD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27F-B66B-42FC-A8E4-D7493AE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675-BFEB-415B-B5C9-45A4B7B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E43-2A24-4177-BBA6-647F61449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2130120"/>
            <a:ext cx="41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3885840"/>
            <a:ext cx="33847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ircus_bigshow_6"/>
          <p:cNvPicPr/>
          <p:nvPr/>
        </p:nvPicPr>
        <p:blipFill>
          <a:blip r:embed="rId1"/>
          <a:stretch/>
        </p:blipFill>
        <p:spPr>
          <a:xfrm>
            <a:off x="684360" y="476280"/>
            <a:ext cx="7991280" cy="5329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 rot="20958000">
            <a:off x="396720" y="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 rot="21375000">
            <a:off x="2772720" y="-24300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 rot="806400">
            <a:off x="5725800" y="-243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 rot="1239000">
            <a:off x="7667280" y="40428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7331040" y="57024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187280" y="6237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ма урока:              «Художник в цирк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2195640" y="587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кус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1547640" y="12600"/>
            <a:ext cx="5761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1"/>
          <p:cNvSpPr/>
          <p:nvPr/>
        </p:nvSpPr>
        <p:spPr>
          <a:xfrm>
            <a:off x="2195640" y="573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к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rcRect l="5657" t="3303" r="6603" b="19872"/>
          <a:stretch/>
        </p:blipFill>
        <p:spPr>
          <a:xfrm>
            <a:off x="387360" y="260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1"/>
          <p:cNvSpPr/>
          <p:nvPr/>
        </p:nvSpPr>
        <p:spPr>
          <a:xfrm>
            <a:off x="2556000" y="530064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душные гимна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18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2411280" y="5877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о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9977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"/>
          <p:cNvSpPr/>
          <p:nvPr/>
        </p:nvSpPr>
        <p:spPr>
          <a:xfrm>
            <a:off x="2268360" y="580536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лег По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803160" y="260280"/>
            <a:ext cx="71056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1"/>
          <p:cNvSpPr/>
          <p:nvPr/>
        </p:nvSpPr>
        <p:spPr>
          <a:xfrm>
            <a:off x="2124000" y="602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рий Кукла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549360"/>
            <a:ext cx="8834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1"/>
          <p:cNvSpPr/>
          <p:nvPr/>
        </p:nvSpPr>
        <p:spPr>
          <a:xfrm>
            <a:off x="2124000" y="602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рий Нику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124000" y="602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ил Румя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59770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5003640" y="2637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настия Дур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Картинки по запросу дуровы цирк"/>
          <p:cNvPicPr/>
          <p:nvPr/>
        </p:nvPicPr>
        <p:blipFill>
          <a:blip r:embed="rId1"/>
          <a:stretch/>
        </p:blipFill>
        <p:spPr>
          <a:xfrm>
            <a:off x="0" y="712800"/>
            <a:ext cx="4824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Как прошел ур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22943190"/>
          <p:cNvPicPr/>
          <p:nvPr/>
        </p:nvPicPr>
        <p:blipFill>
          <a:blip r:embed="rId1"/>
          <a:stretch/>
        </p:blipFill>
        <p:spPr>
          <a:xfrm>
            <a:off x="395280" y="1628640"/>
            <a:ext cx="4105440" cy="396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335905402"/>
          <p:cNvPicPr/>
          <p:nvPr/>
        </p:nvPicPr>
        <p:blipFill>
          <a:blip r:embed="rId2"/>
          <a:stretch/>
        </p:blipFill>
        <p:spPr>
          <a:xfrm>
            <a:off x="5148360" y="2205000"/>
            <a:ext cx="367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3090960" y="5438880"/>
            <a:ext cx="31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атья Запаш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303240" y="5684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Картинки по запросу запашные цирк"/>
          <p:cNvPicPr/>
          <p:nvPr/>
        </p:nvPicPr>
        <p:blipFill>
          <a:blip r:embed="rId1"/>
          <a:stretch/>
        </p:blipFill>
        <p:spPr>
          <a:xfrm>
            <a:off x="380880" y="274680"/>
            <a:ext cx="71694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1"/>
          <p:cNvSpPr/>
          <p:nvPr/>
        </p:nvSpPr>
        <p:spPr>
          <a:xfrm>
            <a:off x="3090960" y="5438880"/>
            <a:ext cx="31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настия Филат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3240" y="5684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Картинки по запросу филатовы цирк"/>
          <p:cNvPicPr/>
          <p:nvPr/>
        </p:nvPicPr>
        <p:blipFill>
          <a:blip r:embed="rId1"/>
          <a:stretch/>
        </p:blipFill>
        <p:spPr>
          <a:xfrm>
            <a:off x="620640" y="193680"/>
            <a:ext cx="733608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"/>
          <p:cNvSpPr/>
          <p:nvPr/>
        </p:nvSpPr>
        <p:spPr>
          <a:xfrm>
            <a:off x="3090960" y="5438880"/>
            <a:ext cx="31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настия Багдасар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303240" y="56847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и по запросу багдасаровы цирк"/>
          <p:cNvPicPr/>
          <p:nvPr/>
        </p:nvPicPr>
        <p:blipFill>
          <a:blip r:embed="rId1"/>
          <a:stretch/>
        </p:blipFill>
        <p:spPr>
          <a:xfrm>
            <a:off x="1187280" y="692280"/>
            <a:ext cx="6429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16360" y="1386720"/>
            <a:ext cx="20872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_20100131_large"/>
          <p:cNvPicPr/>
          <p:nvPr/>
        </p:nvPicPr>
        <p:blipFill>
          <a:blip r:embed="rId1"/>
          <a:stretch/>
        </p:blipFill>
        <p:spPr>
          <a:xfrm>
            <a:off x="611280" y="98100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92040" y="260280"/>
            <a:ext cx="56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ирк на Цветном бульв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5705469-dd29-4c69-99f2-41cd91b8e9c7"/>
          <p:cNvPicPr/>
          <p:nvPr/>
        </p:nvPicPr>
        <p:blipFill>
          <a:blip r:embed="rId2"/>
          <a:stretch/>
        </p:blipFill>
        <p:spPr>
          <a:xfrm>
            <a:off x="6012000" y="3355920"/>
            <a:ext cx="2736720" cy="2279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5364000" y="568152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Владимир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2000" y="2606040"/>
            <a:ext cx="316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19280" y="3709440"/>
            <a:ext cx="25923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olshoicircus"/>
          <p:cNvPicPr/>
          <p:nvPr/>
        </p:nvPicPr>
        <p:blipFill>
          <a:blip r:embed="rId1"/>
          <a:stretch/>
        </p:blipFill>
        <p:spPr>
          <a:xfrm>
            <a:off x="1258920" y="40464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14200" y="57340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ий государственный цир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проспекте Вернад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1"/>
          <p:cNvSpPr/>
          <p:nvPr/>
        </p:nvSpPr>
        <p:spPr>
          <a:xfrm>
            <a:off x="2124000" y="530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есс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900000" y="387360"/>
            <a:ext cx="6912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1"/>
          <p:cNvSpPr/>
          <p:nvPr/>
        </p:nvSpPr>
        <p:spPr>
          <a:xfrm>
            <a:off x="2268360" y="609300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онгл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2270160" y="0"/>
            <a:ext cx="381168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07:58:00Z</dcterms:created>
  <dc:creator>Admin</dc:creator>
  <dc:description/>
  <dc:language>en-US</dc:language>
  <cp:lastModifiedBy>Андрей</cp:lastModifiedBy>
  <dcterms:modified xsi:type="dcterms:W3CDTF">2019-11-26T11:50:09Z</dcterms:modified>
  <cp:revision>12</cp:revision>
  <dc:subject/>
  <dc:title>Слайд 1</dc:title>
</cp:coreProperties>
</file>