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257-4818-4D1B-B7CF-5BA42454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606-897B-457A-A235-65FC528D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E96-1B1D-478B-8B32-AEB66BD5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43F-8AB8-4E65-BE68-A4A3E070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9824-1062-4758-98F9-E5B7CDE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D8B-A7CE-4B83-B09B-8F29E99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AB6-DBAC-4FE4-9FEC-CCFA781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3870-78D1-4E4A-BB9B-1A60896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633-B180-43E9-B522-EC7D37C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37C-3D3F-4821-BDB5-C51D862B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25A9-0065-406A-9483-CB867E48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13A-E707-423E-9B99-139316B7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E0DD-1114-41DD-9CAB-43303E3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241-341C-4750-B7D8-C3B8453E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4C1E-F6C2-45F8-96A5-3BEC9613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B2E7-ED6D-4EAC-B8B5-81B2AD31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F88-CB2D-47FE-A430-38699B7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1AB8-8CC4-4DBC-B18A-6DEF363B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8599-6549-49EA-ADCE-91742FE8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3559-3776-47A6-ACC1-3A34583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A087-0D6E-4693-B1CF-15F346B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1884-8F53-4F7B-927B-02941C0B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BC4-7D05-4DF6-86C8-525E56E5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95EC-8D39-4B68-A3FA-A2E12FB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0DA8-D722-4D05-B417-D7C652E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AD32-B37A-46F6-988B-05504369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F441-3992-4634-BB09-442E2CD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5622-0FE6-4D77-8BE7-C5E036B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2079-22EB-4FAA-B605-A2FDD495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9067-9693-43D2-83A7-88D1551D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7F52-6935-49A0-9E50-7F8CAAAD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6BF6-3081-445F-8AC9-34BD7BF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86D5-0742-486C-8CC6-0F00970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727-133D-48FA-BEF0-9310CF1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862B-A4FE-4F6B-89F7-2542A7D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5AAF-AA22-497B-911A-715C27BC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3DDE-8A26-480E-B599-34BE8E3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1433-4CFF-46CC-B20C-47EA9C1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26A1-B102-4862-B835-1EC528B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37CB-303B-4920-9573-2D6B958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9AA0-2223-43CB-8BB7-721810E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2834-4AA4-4E33-8AE1-5E83BD11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DDDA6-2254-40A0-8155-3DDBF4E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22B-A190-43D8-89B4-BE634B0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9A0-6372-4789-A243-1252165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F80-8E91-4D3E-BE93-C8A41C2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7F7-3C64-4382-B448-57997B3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757-8271-48B7-B1F4-89CAAB5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29C-073B-48F2-A947-E735E070AC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34B3-E1C1-46F2-9C31-3DE62B172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6B9-05A1-4C05-B6E9-CBB143F1B5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479-F7FD-4F86-958D-25E77DE7FB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дача 1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данным уравнениям проекции скорости построить графики проекции скорости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)Vx   =  6  - 3 t         2)    Vx   =  2  + 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"/>
          <p:cNvPicPr/>
          <p:nvPr/>
        </p:nvPicPr>
        <p:blipFill>
          <a:blip r:embed="rId1"/>
          <a:stretch/>
        </p:blipFill>
        <p:spPr>
          <a:xfrm>
            <a:off x="1619280" y="630360"/>
            <a:ext cx="5646600" cy="388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116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о данному графику проекции скорости написать уравнение проекции скор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1778040" y="836640"/>
            <a:ext cx="5587920" cy="193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51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44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ое из приведенных ниже уравнений описывает движение, при котором скорость тела увеличивае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2654280" y="1933560"/>
            <a:ext cx="3468600" cy="2990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2880" y="54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 = 3 + t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.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 = 3 – t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.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 = 3 - 3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826920" y="557280"/>
            <a:ext cx="76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исунке  приведен график зависимости скорости движения тела от времени. Какое уравнение соответствует этому граф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2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3622680" cy="31924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"/>
          <p:cNvSpPr/>
          <p:nvPr/>
        </p:nvSpPr>
        <p:spPr>
          <a:xfrm>
            <a:off x="395280" y="692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ой из графиков соответствует уравнению скорости V = 2-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30848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468360" y="501480"/>
            <a:ext cx="83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й из графиков соответствует равноускоренному движению тела, при котором вектор ускорения направлен противоположно вектору скор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3934080" cy="35560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611280" y="7650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 графику зависимости скорости от времени  определите ускорение тела в момент времени t= 4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Айсулу Ишмина</cp:lastModifiedBy>
  <dcterms:modified xsi:type="dcterms:W3CDTF">2019-09-17T16:31:44Z</dcterms:modified>
  <cp:revision>61</cp:revision>
  <dc:subject/>
  <dc:title>Название презентации</dc:title>
</cp:coreProperties>
</file>