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B03-395B-4EAB-A43C-52584C34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6F6-5A8F-4B01-8FC3-283566EA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711-0AB4-4A97-82A7-6DEC5287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8D0-A9AD-4A68-A853-9B65CE60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952-06E9-4AB7-BFE6-D5680F0D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1362-586C-423B-BCD9-0252E42A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8A1-E6D3-4476-A409-78E5C846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3AA-FF5E-48BB-A839-7FE571F4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B233-7484-41EC-AF28-A24E626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952A-6D28-4C75-ACD0-F7F098B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FBF8-96AB-408A-A441-C35134B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B90-4CAA-4901-8F01-D9356DCB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8AC2-B47C-42BD-B958-B064B51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60C4-1328-4EBB-947C-D344460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E10-2916-4F72-8B8D-C9EE71A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CD54-821D-4A8E-9867-643722A8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E496-B217-4CA5-9A6D-7E115F6E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F4E5-46D9-429E-B5CD-1A3AE11F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D33A-0F4B-4B5C-BBC3-1D5A8B4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15B8-3B11-49EB-BC9D-AD82B65B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CDB1-2AB9-4FE0-84DF-28D1E032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8694-BD29-4F42-9009-E5D181D7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C11-6035-4547-B696-7C8D69A8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320D-35C1-441D-8CBF-1289980C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AB40-A9BA-4921-95D8-2353213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4F8E-247A-4C1F-AC86-B96AE14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D099-36B6-4DE1-A29B-53752B9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0DAF-D899-42ED-A448-E614559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48FA-D1D6-474E-83ED-D3F3F0A5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E681-8CBB-4DC4-A898-1C5C8D88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30B9-F523-40C0-B3C6-74280B72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3B98-CF0D-4575-9682-4498598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38B8-3567-49B7-8E8E-98FB85D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A3B-B48C-4CE7-959C-6ED014F7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6303-A313-4D83-AE8A-1DE69124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D5DD-80A7-463F-8850-9F4C727D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39F4-F1ED-4B79-B865-DC3805A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250C-6754-49C7-AB8D-78FF275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4E96-A0C1-49D7-9B77-2DCC030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B016-CE9B-479E-938F-D601FD6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F0CF-9EAE-4719-9AB5-91115B6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8A59-C430-4EE2-A0DC-7B07007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0035-9C37-4F9D-BC8E-55BB8144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D02A-83DB-4733-83A3-8AD57A66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309-2F05-4931-B2FA-0AA9CBDF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8293-180D-48E8-ABFD-2D687A6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9896-DD73-44BF-9753-F73257D4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55EE-CFD8-4C72-86A8-3DE8BE0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C253-1EB1-4D1D-8091-5F1C754B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D6CC-35C3-49CC-820F-A82C2F3A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ECFB-C437-46A0-91BA-380010A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CB97-35B8-47ED-A754-0671B55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C571-D5E8-447C-8555-DFF5A73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0CEF-CBB4-44E0-A792-06A2B44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B80A-C544-4177-9E9C-3280094B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4E4-E1B4-45D6-9D88-B371A9D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BE1F-565E-4203-A5BC-E6E9A61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5C1-B204-4BEA-881D-2F2A252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3BA-5B5B-4B80-A7DC-D6B4523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716-DD75-4F90-8115-F0B8164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A4E2-1416-44E7-8E15-EE7352029576}" type="slidenum">
              <a:rPr b="0" lang="ru-RU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4BA-4A2A-49A7-9039-5F29C1776417}" type="slidenum">
              <a:rPr b="0" lang="ru-RU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489-997B-4B1E-B2A8-769025997FAB}" type="slidenum">
              <a:rPr b="0" lang="ru-RU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E68-545E-4CE5-9430-5C0FC0DFFF3A}" type="slidenum">
              <a:rPr b="0" lang="ru-RU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93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54E-4998-45ED-A28D-60AD802E8C68}" type="slidenum">
              <a:rPr b="0" lang="ru-RU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1640" y="228240"/>
            <a:ext cx="7659720" cy="33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6600"/>
                </a:solidFill>
                <a:latin typeface="Century Gothic"/>
              </a:rPr>
              <a:t>В.М.ВАСНЕЦОВ КАК ХУДОЖНИК</a:t>
            </a:r>
            <a:br>
              <a:rPr sz="2900"/>
            </a:br>
            <a:r>
              <a:rPr b="1" lang="ru-RU" sz="2900" spc="-1" strike="noStrike">
                <a:solidFill>
                  <a:srgbClr val="006600"/>
                </a:solidFill>
                <a:latin typeface="Century Gothic"/>
              </a:rPr>
              <a:t>БЫЛИННО-СКАЗОЧНЫХ СЮЖЕТОВ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492000" y="4508280"/>
            <a:ext cx="5426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.М.ВАСНЕЦОВ «КОВЁР-САМОЛЁТ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Picture 8" descr="Ковёр-самолёт"/>
          <p:cNvPicPr/>
          <p:nvPr/>
        </p:nvPicPr>
        <p:blipFill>
          <a:blip r:embed="rId1"/>
          <a:stretch/>
        </p:blipFill>
        <p:spPr>
          <a:xfrm>
            <a:off x="876240" y="533520"/>
            <a:ext cx="5869080" cy="3767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2"/>
          <p:cNvSpPr/>
          <p:nvPr/>
        </p:nvSpPr>
        <p:spPr>
          <a:xfrm>
            <a:off x="735480" y="4651920"/>
            <a:ext cx="796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я отходит ко сн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ражаются в реке прибрежные кус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отражения эти, и туман, и лёгкий свет месяц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же навевают мечты о будущем, в котором возможен такой вот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В.М.ВАСНЕЦОВ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 «ТРИ ЦАРЕВНЫ ПОДЗЕМНОГО ЦАРСТВА»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4" name="Picture 6" descr="Три царевны подземного царства"/>
          <p:cNvPicPr/>
          <p:nvPr/>
        </p:nvPicPr>
        <p:blipFill>
          <a:blip r:embed="rId1"/>
          <a:stretch/>
        </p:blipFill>
        <p:spPr>
          <a:xfrm>
            <a:off x="987480" y="533520"/>
            <a:ext cx="5646600" cy="37670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458640" y="5291640"/>
            <a:ext cx="868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 царевны — владычиц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олота, драгоценных камней и каменного угля —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шли из своего подземного царст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застыли в неподвиж­ности у каменной гор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0" descr="Иван-царевич на сером волке"/>
          <p:cNvPicPr/>
          <p:nvPr/>
        </p:nvPicPr>
        <p:blipFill>
          <a:blip r:embed="rId1"/>
          <a:stretch/>
        </p:blipFill>
        <p:spPr>
          <a:xfrm>
            <a:off x="1763640" y="404640"/>
            <a:ext cx="3882960" cy="5400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6159240" y="765000"/>
            <a:ext cx="268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М.Васнец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Иван цар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ером волке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328400" y="5949000"/>
            <a:ext cx="75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ван Царевич, сидя на Сером Волке вместе с Прекрасною Еленою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любил ее всем сердцем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М.ВАСНЕЦОВ   «АЛЁНУШК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0" name="Picture 10" descr="Картина"/>
          <p:cNvPicPr/>
          <p:nvPr/>
        </p:nvPicPr>
        <p:blipFill>
          <a:blip r:embed="rId1"/>
          <a:stretch/>
        </p:blipFill>
        <p:spPr>
          <a:xfrm>
            <a:off x="1619280" y="1125360"/>
            <a:ext cx="3236760" cy="4635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4"/>
          <p:cNvSpPr/>
          <p:nvPr/>
        </p:nvSpPr>
        <p:spPr>
          <a:xfrm>
            <a:off x="4859280" y="2271960"/>
            <a:ext cx="42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 природа слышит и понимает Аленушк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мурое небо затянулось серыми облаками, грустные осины роняют от горькой обиды слезы-лист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гкий ветерок нежно поглаживает волос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М.ВАСНЕЦОВ «СНЕГУРОЧК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6" descr="Снегурочка"/>
          <p:cNvPicPr/>
          <p:nvPr/>
        </p:nvPicPr>
        <p:blipFill>
          <a:blip r:embed="rId1"/>
          <a:stretch/>
        </p:blipFill>
        <p:spPr>
          <a:xfrm>
            <a:off x="2503440" y="533520"/>
            <a:ext cx="2614680" cy="37670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2265840" y="5588640"/>
            <a:ext cx="610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егурочка только что вышла из ле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уже готова сделать первый шаг навстречу людя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М.ВАСНЕЦОВ «БОГАТЫРИ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6" name="Picture 6" descr="Богатыри"/>
          <p:cNvPicPr/>
          <p:nvPr/>
        </p:nvPicPr>
        <p:blipFill>
          <a:blip r:embed="rId1"/>
          <a:stretch/>
        </p:blipFill>
        <p:spPr>
          <a:xfrm>
            <a:off x="1300320" y="533520"/>
            <a:ext cx="5022720" cy="3767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9"/>
          <p:cNvSpPr/>
          <p:nvPr/>
        </p:nvSpPr>
        <p:spPr>
          <a:xfrm>
            <a:off x="1229400" y="5139720"/>
            <a:ext cx="7721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вным-давно действительно жили богатыр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одвиги ратные совершали. С любым чудищем вступали в бой —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о Змеем Горынычем, и со Соловьем-Разбойник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 татарами бились — они на землю русскую напа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ИМЕР ИСПОЛЬЗОВАНИЯ  ПРАВИЛА </a:t>
            </a:r>
            <a:r>
              <a:rPr b="0" lang="ru-RU" sz="2500" spc="-1" strike="noStrike">
                <a:solidFill>
                  <a:srgbClr val="ffffff"/>
                </a:solidFill>
                <a:latin typeface="Century Gothic"/>
              </a:rPr>
              <a:t>«ЗОЛОТОГО СЕЧЕНИЯ» - РАСПОЛОЖЕНИЕ ОСНОВНЫХ КОМПОНЕНТОВ КАРТИНЫ В ОСОБЫХ ТОЧКАХ - ЗРИТЕЛЬНЫХ ЦЕНТРАХ. ТАКИХ ТОЧЕК ВСЕГО ЧЕТЫРЕ, И РАСПОЛОЖЕНЫ ОНИ НА РАССТОЯНИИ 3/8 И 5/8 ОТ СООТВЕТСТВУЮЩИХ КРАЁВ ПЛОСКОСТИ. ЧЕЛОВЕК ВСЕГДА АКЦЕНТИРУЕТ СВОЁ ВНИМАНИЕ НА ЭТИХ ТОЧКАХ, НЕЗАВИСИМО ОТ ФОРМАТА КАРТИНЫ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9" name="Picture 4" descr="composition4"/>
          <p:cNvPicPr/>
          <p:nvPr/>
        </p:nvPicPr>
        <p:blipFill>
          <a:blip r:embed="rId1"/>
          <a:stretch/>
        </p:blipFill>
        <p:spPr>
          <a:xfrm>
            <a:off x="2433600" y="1541520"/>
            <a:ext cx="2752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87280" y="280080"/>
            <a:ext cx="79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Недалеко от шумного Садов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ьца, в одном из тихих переул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вы, стоит сказочный терем. Э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м-музей В. М. Васнец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роенный по его проекту в 189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есь он жил, работал и умер в 1926 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560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         </a:t>
            </a:r>
            <a:r>
              <a:rPr b="0" lang="ru-RU" sz="2000" spc="-1" strike="noStrike">
                <a:solidFill>
                  <a:srgbClr val="3e5e08"/>
                </a:solidFill>
                <a:latin typeface="Stencil"/>
              </a:rPr>
              <a:t>Спасибо за внимание!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00120" y="-360"/>
            <a:ext cx="74916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3e5e08"/>
                </a:solidFill>
                <a:uFillTx/>
                <a:latin typeface="Century Gothic"/>
              </a:rPr>
              <a:t> </a:t>
            </a:r>
            <a:r>
              <a:rPr b="0" lang="ru-RU" sz="2200" spc="-1" strike="noStrike" u="sng">
                <a:solidFill>
                  <a:srgbClr val="3e5e08"/>
                </a:solidFill>
                <a:uFillTx/>
                <a:latin typeface="Century Gothic"/>
              </a:rPr>
              <a:t>Цель, поставленная в работе: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   </a:t>
            </a: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Исследовать творческую деятельность В.М.Васнецова в русском изобразительном искусстве 19 века.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  </a:t>
            </a:r>
            <a:r>
              <a:rPr b="0" lang="ru-RU" sz="2200" spc="-1" strike="noStrike" u="sng">
                <a:solidFill>
                  <a:srgbClr val="3e5e08"/>
                </a:solidFill>
                <a:uFillTx/>
                <a:latin typeface="Century Gothic"/>
              </a:rPr>
              <a:t>Задачи исследования: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-систематизировать информацию о биографии и творческой деятельности художника;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-составить хронологию былинно- сказочных картин В.М.Васнецова;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-исследовать работы В.М.Васнецова для выяснения, применял художник принцип золотого сечения;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-систематизировать материал, создать презентацию для проведения классных часов;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e5e08"/>
                </a:solidFill>
                <a:latin typeface="Century Gothic"/>
              </a:rPr>
              <a:t>-издать пригласительный билет на историко-художественный экскурс «Я всегда только и жил Русью».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М.ВАСНЕЦОВ РОДИЛСЯ В 1848 Г. В СЕМЬЕ СЕЛЬСКОГО СВЯЩЕННИ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ЕТСКИЕ ГОДЫ ЕГО ПРОШЛИ В НЕБОЛЬШОМ СЕЛЕ РЯБОВЕ ВЯТСКОЙ ГУБЕРНИИ (НЫНЕ КИРОВСКАЯ ОБЛАСТЬ),КОТОРАЯ СЛАВИЛАСЬ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РАСОТОЙ ПРИРОДЫ, ИСКУССТВОМ НАРОДНЫХ УМЕЛЬЦЕ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ЗДЕСЬ ВПЕРВЫЕ ЮНЫЙ ВАСНЕЦ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СЛЫШАЛ И НА ВСЮ ЖИЗНЬ ПОЛЮБИЛ РУССКИЕ НАРОДНЫЕ СКАЗКИ, БЫЛИНЫ, ПЕСН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Picture 6" descr="image002"/>
          <p:cNvPicPr/>
          <p:nvPr/>
        </p:nvPicPr>
        <p:blipFill>
          <a:blip r:embed="rId1"/>
          <a:stretch/>
        </p:blipFill>
        <p:spPr>
          <a:xfrm>
            <a:off x="1187280" y="907920"/>
            <a:ext cx="315144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1551960" y="5661000"/>
            <a:ext cx="23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М.Васнец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Автопортрет 187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Т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2414160" y="402120"/>
            <a:ext cx="516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ое образование 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ил в лучшем учебном завед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и — Петербургской Акаде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, где подружился с И. 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пиным, И. Н. Крам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Императорская Академия художеств, Петербург"/>
          <p:cNvPicPr/>
          <p:nvPr/>
        </p:nvPicPr>
        <p:blipFill>
          <a:blip r:embed="rId1"/>
          <a:stretch/>
        </p:blipFill>
        <p:spPr>
          <a:xfrm>
            <a:off x="2771640" y="2349360"/>
            <a:ext cx="4248360" cy="2998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199600" y="5516640"/>
            <a:ext cx="55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годы учёбы выполнял рисунки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урналов и дешёвых народных издел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7491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878 Г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 ОН ПЕРЕЕЗЖАЕТ В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СКВУ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 В МОСКВЕ ВИКТОР МИХАЙЛОВИЧ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БЛИЖАЕТСЯ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СО МНОГИМИ ЗАМЕЧАТЕЛЬНЫМИ ХУДОЖНИКАМИ, С ОСНОВАТЕЛЕМ ЗНАМЕНИТОЙ ГАЛЕРЕИ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. М. ТРЕТЬЯКОВЫМ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 ЭСКИЗУ ВИКТОРА МИХАЙЛОВИЧА СДЕЛАН ФАСАД ЗДА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ЬЯКОВСКОЙ ГАЛЕРЕИ — ТРЕТЬЯКОВ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Picture 14" descr="портрет П"/>
          <p:cNvPicPr/>
          <p:nvPr/>
        </p:nvPicPr>
        <p:blipFill>
          <a:blip r:embed="rId1"/>
          <a:stretch/>
        </p:blipFill>
        <p:spPr>
          <a:xfrm>
            <a:off x="1763640" y="2205000"/>
            <a:ext cx="3019320" cy="40989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5434200" y="57340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трет П.М.Третьяк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удожник И.Е.Ре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16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880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>
            <a:hlinkClick r:id="" action="ppaction://hlinkshowjump?jump=previousslide"/>
          </p:cNvPr>
          <p:cNvSpPr/>
          <p:nvPr/>
        </p:nvSpPr>
        <p:spPr>
          <a:xfrm>
            <a:off x="8686800" y="654696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АСНЕЦОВ СТАНОВИТСЯ АКТИВНЫМ ЧЛЕНОМ МАМОНТОВСКОГО КРУЖКА ХУДОЖНИКОВ, МУЗЫКАНТОВ, ЧАСТО ГОСТИТ В ЗАГОРОДНОЙ УСАДЬБЕ С.И.МАМОНТОВА (БОГАТОГО КУПЦА И ПОКРОВИТЕЛЯ ХУДОЖНИКОВ) В СЕЛЕ АБРАМЦЕВО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e5e08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  <p:pic>
        <p:nvPicPr>
          <p:cNvPr id="255" name="Picture 10" descr="Дубовая роща в Абрамцеве"/>
          <p:cNvPicPr/>
          <p:nvPr/>
        </p:nvPicPr>
        <p:blipFill>
          <a:blip r:embed="rId1"/>
          <a:stretch/>
        </p:blipFill>
        <p:spPr>
          <a:xfrm>
            <a:off x="3780000" y="2276640"/>
            <a:ext cx="5184720" cy="32241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1"/>
          <p:cNvSpPr/>
          <p:nvPr/>
        </p:nvSpPr>
        <p:spPr>
          <a:xfrm>
            <a:off x="3920040" y="573408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М.Васнецов «Дубовая роща в Абрамцев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12" descr="Портрет С"/>
          <p:cNvPicPr/>
          <p:nvPr/>
        </p:nvPicPr>
        <p:blipFill>
          <a:blip r:embed="rId2"/>
          <a:stretch/>
        </p:blipFill>
        <p:spPr>
          <a:xfrm>
            <a:off x="1403280" y="3645000"/>
            <a:ext cx="2197080" cy="2727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3"/>
          <p:cNvSpPr/>
          <p:nvPr/>
        </p:nvSpPr>
        <p:spPr>
          <a:xfrm>
            <a:off x="1476360" y="2205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.Е.Реп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ортрет С.И.Мамонтов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1619280" y="333720"/>
            <a:ext cx="70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80-е гг.создавал произведения на темы национальной истории, русских былин и народных сказок, посвятив им почти полностью всё своё дальнейшее творчество. Один из первых русских художников, который обратился к русскому фольклор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гатыри"/>
          <p:cNvPicPr/>
          <p:nvPr/>
        </p:nvPicPr>
        <p:blipFill>
          <a:blip r:embed="rId1"/>
          <a:stretch/>
        </p:blipFill>
        <p:spPr>
          <a:xfrm>
            <a:off x="1332000" y="3357720"/>
            <a:ext cx="3166920" cy="1947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ковёр-самолёт"/>
          <p:cNvPicPr/>
          <p:nvPr/>
        </p:nvPicPr>
        <p:blipFill>
          <a:blip r:embed="rId2"/>
          <a:stretch/>
        </p:blipFill>
        <p:spPr>
          <a:xfrm>
            <a:off x="5292720" y="3357720"/>
            <a:ext cx="3510000" cy="1935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3"/>
          <a:stretch/>
        </p:blipFill>
        <p:spPr>
          <a:xfrm>
            <a:off x="3203640" y="4815000"/>
            <a:ext cx="3816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entury Gothic"/>
              </a:rPr>
              <a:t>В.М.ВАСНЕЦОВ «ПОСЛЕ ПОБОИЩА ИГОРЯ СВЯТОСЛАВИЧА С ПОЛОВЦАМИ»(1878-1880)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Picture 8" descr="После побоища Игоря Светославича с половцами"/>
          <p:cNvPicPr/>
          <p:nvPr/>
        </p:nvPicPr>
        <p:blipFill>
          <a:blip r:embed="rId1"/>
          <a:stretch/>
        </p:blipFill>
        <p:spPr>
          <a:xfrm>
            <a:off x="846000" y="533520"/>
            <a:ext cx="5929560" cy="3767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2"/>
          <p:cNvSpPr/>
          <p:nvPr/>
        </p:nvSpPr>
        <p:spPr>
          <a:xfrm>
            <a:off x="1227960" y="4941000"/>
            <a:ext cx="787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еди полевых цветов лежат два русских витязя в наряд­ных одежд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окойно лицо мужественного княз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аза его открыты — смотрят на нас и будто вопрошают о чём-то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.М.ВАСНЕЦОВ «ВИТЯЗЬ НА РАСПУТЬЕ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7" name="Picture 6" descr="Витязь на распутье"/>
          <p:cNvPicPr/>
          <p:nvPr/>
        </p:nvPicPr>
        <p:blipFill>
          <a:blip r:embed="rId1"/>
          <a:stretch/>
        </p:blipFill>
        <p:spPr>
          <a:xfrm>
            <a:off x="952560" y="533520"/>
            <a:ext cx="5716440" cy="3767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-2757600" y="310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476360" y="551664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яжелые думы одолели воина, заставив в задумчив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лонить голов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7:16:03Z</dcterms:created>
  <dc:creator>Пользователь</dc:creator>
  <dc:description/>
  <dc:language>en-US</dc:language>
  <cp:lastModifiedBy>Назмиева Флуза</cp:lastModifiedBy>
  <dcterms:modified xsi:type="dcterms:W3CDTF">2019-12-04T13:27:07Z</dcterms:modified>
  <cp:revision>21</cp:revision>
  <dc:subject/>
  <dc:title>Слайд 1</dc:title>
</cp:coreProperties>
</file>