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3B0-2D11-497C-A9AB-6ADCF15C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E6B-73DB-4E29-82DB-B75139E7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F11-2682-4A1A-B93B-B7517E3A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FFF-4E77-47BE-8A92-EE066ABD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50B0-9569-4495-926E-28DA812B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F354-A11B-4E62-B519-440F3052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5D9D-6C57-42B7-AC82-860E42E9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5D79-A940-46D2-9B7E-4290F724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E7F3-A34B-4398-B646-4F0F78F9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B5D1-92B0-422A-927E-3E16F3D7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ACE1-92CF-4CB5-87FD-ABE13012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ED1-3A97-486A-9B32-3DDBAEB3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1F76-0699-4DAE-96A2-2297C830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0ECA-BA01-4500-AB57-058587D7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2151-CDA6-4389-8392-42BF4DA3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C98A-8083-4F13-8D0E-2246A5E7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51D5-529F-4027-843D-662F379D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897-1EE6-41E5-B144-C317E50B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2DC-97C9-40AF-A911-56A9328A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A5B-CADA-4809-A160-A0432C0B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9CA-A850-4AC5-AA45-8CC52F4F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6BF-37ED-4D83-8291-ED3A0258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A6E-C182-46E7-A4A2-B38B093D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592-2DCA-4639-9272-32E7541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A2CB-E5AF-4BE6-9D26-F16C490F43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D188-3C90-4010-B514-FD06BF9073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ru.wikipedia.org/wiki/&#208;&#164;&#208;&#176;&#208;&#185;&#208;&#187;:Kljatva_Stalina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5892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- Клятва воина на верность Родине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32360" y="3500280"/>
            <a:ext cx="3059280" cy="192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58920" y="3745080"/>
            <a:ext cx="338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4121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После принятия военной присяги оркестр исполняет Государственный гимн Российской Федерации</a:t>
            </a: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 воинская часть проходит торжественным марш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3811680" cy="2859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816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351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Arial"/>
              </a:rPr>
              <a:t>Военная присяга</a:t>
            </a: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 – торжественное обещание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 даваемое каждым гражданином при вступлении в ряды Вооруженных С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3213000"/>
            <a:ext cx="4105440" cy="308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410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Принятая в установленном порядке военная присяга становится для военнослужащего законом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 подлежащим неукоснительному выполн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157640" cy="2873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3280" y="385920"/>
            <a:ext cx="43214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c0c0"/>
                </a:solidFill>
                <a:latin typeface="Arial"/>
              </a:rPr>
              <a:t>Военная присяга принимается в торжественной обстановке</a:t>
            </a:r>
            <a:r>
              <a:rPr b="1" i="1" lang="en-US" sz="2800" spc="-1" strike="noStrike">
                <a:solidFill>
                  <a:srgbClr val="c0c0c0"/>
                </a:solidFill>
                <a:latin typeface="Arial"/>
              </a:rPr>
              <a:t>,</a:t>
            </a:r>
            <a:r>
              <a:rPr b="1" i="1" lang="ru-RU" sz="2800" spc="-1" strike="noStrike">
                <a:solidFill>
                  <a:srgbClr val="c0c0c0"/>
                </a:solidFill>
                <a:latin typeface="Arial"/>
              </a:rPr>
              <a:t>для этого часть выстраивается в пешем строю с оружием у знамени с оркестром.</a:t>
            </a:r>
            <a:r>
              <a:rPr b="1" i="1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4029120"/>
            <a:ext cx="3745080" cy="2828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3816360" cy="240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545080" y="4146480"/>
            <a:ext cx="35989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4038480" cy="58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Каждый принимающий военную присягу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 держа автомат в положении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&lt;&lt;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на грудь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&gt;&gt;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(карабин-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&lt;&lt;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к ноге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&gt;&gt;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 читает вслух текст военной присяги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после чего собственноручно расписывается в специальном списке в графе против своей фамилии и становится на своё место в стр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284720" y="404640"/>
            <a:ext cx="4427640" cy="2789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4120" y="314172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543640" y="0"/>
            <a:ext cx="3600360" cy="2039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46684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держание присяги и ритуалы при ее принятии отражают исторические и национальные традиции и обычаи народа и арм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08360" cy="2892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302436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Arial"/>
              </a:rPr>
              <a:t>Текст военной присяги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ffffcc"/>
                </a:solidFill>
                <a:latin typeface="Arial"/>
              </a:rPr>
              <a:t> как правило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ffffcc"/>
                </a:solidFill>
                <a:latin typeface="Arial"/>
              </a:rPr>
              <a:t> утверждается высшими органами государственной вла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1125360"/>
            <a:ext cx="20336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нятие военной присяги является важным правовым и морально – политическим актом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,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 характерным для военной службы у большинства государ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2387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132000" y="1692360"/>
            <a:ext cx="3240360" cy="2152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46920" y="260280"/>
            <a:ext cx="30970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06920" y="0"/>
            <a:ext cx="4537080" cy="3206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932360" cy="3484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87280" y="26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Напутственные слова представителя Православной церк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300640"/>
            <a:ext cx="28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Благословение на служение Отечест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49:48Z</dcterms:created>
  <dc:creator>user</dc:creator>
  <dc:description/>
  <dc:language>en-US</dc:language>
  <cp:lastModifiedBy>user</cp:lastModifiedBy>
  <dcterms:modified xsi:type="dcterms:W3CDTF">2009-03-31T15:52:41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