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z-Latn-U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Latn-U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z-Latn-U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1D90-B51E-41DC-AD5B-A38E2BADF162}" type="slidenum">
              <a:rPr b="0" lang="uz-Latn-U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z-Latn-U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F2DF-34ED-41C6-9F09-C2AF00E39619}" type="slidenum">
              <a:rPr b="0" lang="uz-Latn-U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9C26-CBFF-46AB-81A5-3601CAA4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BB34-6CB2-4932-ADA4-46ACCEB8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E53-BB53-492E-B7E0-23486905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7558-4C6A-4E65-B90F-69CF6CF7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9CA-5B96-4E81-8CCB-A24615CC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3114-0F70-4DEE-83B9-FC451F88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997D-F06A-40F3-B4DD-A91F4547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BCA1-B332-4C68-ACAF-A08421ED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171-FBF1-47CF-B93A-8E274DA8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ABBA-01FA-4007-934B-AF04E397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3177-8D0D-4242-A916-17BBD67C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1BC2-D69B-4160-B915-1C5AA968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z-Latn-U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Latn-U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z-Latn-U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DC43-FBC9-4468-A2CB-7285CD933BB3}" type="slidenum">
              <a:rPr b="0" lang="uz-Latn-U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D-ST-88-09319.JPE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Kuznetsov_960111-N-9085M-00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yas.yuna.ru/?1879053312@0807544064" TargetMode="External"/><Relationship Id="rId2" Type="http://schemas.openxmlformats.org/officeDocument/2006/relationships/hyperlink" Target="http://yas.yuna.ru/?1879053312@0808342016" TargetMode="External"/><Relationship Id="rId3" Type="http://schemas.openxmlformats.org/officeDocument/2006/relationships/hyperlink" Target="http://yas.yuna.ru/?1879053312@0805525248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Calibri"/>
              </a:rPr>
              <a:t>ВООРУЖЕННЫЕ СИЛЫ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РОССИЙСКОЙ ФЕДЕРАЦИ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1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00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200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9080" y="214200"/>
            <a:ext cx="450072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libri"/>
              </a:rPr>
              <a:t>Военно – воздушные силы:</a:t>
            </a:r>
            <a:br>
              <a:rPr sz="1400"/>
            </a:br>
            <a:r>
              <a:rPr b="1" i="1" lang="ru-RU" sz="2800" spc="-1" strike="noStrike">
                <a:solidFill>
                  <a:srgbClr val="4a452a"/>
                </a:solidFill>
                <a:latin typeface="Calibri"/>
              </a:rPr>
              <a:t>авиация (бомбардировочная, штурмовая, истребительная, авиация ПВО, разведывательная, транспортная и специальная), зенитно-ракетные войска, радиотехнические войска, специальные войска частей и учреждений тыл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250px-DD-ST-88-093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85840"/>
            <a:ext cx="40719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8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57800" y="274680"/>
            <a:ext cx="45720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</a:rPr>
              <a:t>Военно-морской флот организационно состоит из родов сил: </a:t>
            </a:r>
            <a:br>
              <a:rPr sz="28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дводных, надводных, морской авиации, морской пехоты и береговых войск, частей специальных войск и тыла.</a:t>
            </a: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250px-Kuznetsov_960111-N-9085M-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14200"/>
            <a:ext cx="40719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520" y="274680"/>
            <a:ext cx="790092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стоятельные рода войска:</a:t>
            </a:r>
            <a:br>
              <a:rPr sz="1600"/>
            </a:b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космические войска,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ракетные войска, стратегического назначения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воздушно десантные войс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I:\Новая папка\710px-Za_Rodinu.jpg"/>
          <p:cNvPicPr/>
          <p:nvPr/>
        </p:nvPicPr>
        <p:blipFill>
          <a:blip r:embed="rId1"/>
          <a:stretch/>
        </p:blipFill>
        <p:spPr>
          <a:xfrm>
            <a:off x="214200" y="3786120"/>
            <a:ext cx="55008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005cb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I:\Новая папка\30_russian_army_25_2.jpg"/>
          <p:cNvPicPr/>
          <p:nvPr/>
        </p:nvPicPr>
        <p:blipFill>
          <a:blip r:embed="rId1"/>
          <a:stretch/>
        </p:blipFill>
        <p:spPr>
          <a:xfrm>
            <a:off x="0" y="0"/>
            <a:ext cx="3143160" cy="6643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I:\Новая папка\1984.jpg"/>
          <p:cNvPicPr/>
          <p:nvPr/>
        </p:nvPicPr>
        <p:blipFill>
          <a:blip r:embed="rId2"/>
          <a:stretch/>
        </p:blipFill>
        <p:spPr>
          <a:xfrm>
            <a:off x="3286080" y="214200"/>
            <a:ext cx="2786040" cy="635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I:\Новая папка\files.jpg"/>
          <p:cNvPicPr/>
          <p:nvPr/>
        </p:nvPicPr>
        <p:blipFill>
          <a:blip r:embed="rId3"/>
          <a:stretch/>
        </p:blipFill>
        <p:spPr>
          <a:xfrm>
            <a:off x="6215040" y="500040"/>
            <a:ext cx="27860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тория создания  В.С.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 </a:t>
            </a:r>
            <a:br>
              <a:rPr sz="1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ынешняя армия России официально создана 7 мая 1992 г. указом Президента Российской Федерации. Она является наследницей боевой славы и традиций русской армии дореволюционного времени и Советских Вооруженных Сил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    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     Наиболее значимые этапы в истории российской армии неразрывно связаны с историей нашего Отечества и сыграли решающую роль в становлении и укреплении государства. Прежде всего это победы на Куликовом поле в 1380 г., под Полтавой в 1709 г., у Бородино в!812г. И в Великой Отечественной войне 1941 —1945 г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78688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ле Октябрьской революции 1917г. старая русская армия прекратила свое существование. Взамен нее была создана Красная Армия, в последующем Вооруженные Силы Советского Союз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    Перед распадом СССР они включали в себя Сухопутные и Ракетные войска стратегического назначения, Военно-воздушные силы, Войска противовоздушной обороны и Военно-Морской Флот. Они были оснащены мощным вооружением, в том числе ракетно-ядерным, передовой техникой и укомплектованы хорошо подготовленным в военном отношении личным составом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0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После разделения Советского Союза на самостоятельные государства начался новый этап в истории нашей армии.</a:t>
            </a:r>
            <a:br>
              <a:rPr sz="1600"/>
            </a:br>
            <a:br>
              <a:rPr sz="1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Спасибо 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за 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внимани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оруженные силы Российской Федерации предназначены для отражения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агрессии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, направленной против Российской Федерации, для вооруженной защиты целостности и неприкосновенности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территории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Российской Федерации, а также для выполнения задач в соответствии с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еждународными договорами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Российской Федерации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298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оруженные Силы России созданы Указом Президента Российской Федерации 7 мая 1992 г. Они составляют основу обороны государства. Кроме того, к обороне привлекаются Пограничные войска РФ, внутренние войска МВД РФ, Железнодорожные войска РФ, войска Федерального агентства правительственной связи и информации при Президенте РФ, войска гражданской обороны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671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Наряду с внешними функциями в мирное и военное время Вооруженные Силы могут привлекаться для поддержания порядка при чрезвычайной обстановке, ликвидации крупных аварий и катастроф, для решения некоторых народно-хозяйственных задач.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Общее руководство Вооруженными Силами Российской Федерации осуществляет Верховный Главнокомандующий. Согласно Конституции и Закона “Об обороне” им является Президент России.</a:t>
            </a:r>
            <a:br>
              <a:rPr sz="1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62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посредственное руководство Вооруженными Силами России осуществляет Министр обороны через Министерство обороны. Основным органом оперативного управления войсками и силами флота Вооруженных Сил РФ является Генеральный штаб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29800" cy="714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ооруженные Силы Российской Федерации состоят из центральных органов управления, видов, родов войск, объединений, соединений, воинских частей, учреждений и организаций, а также военно-учебных заведений.</a:t>
            </a:r>
            <a:br>
              <a:rPr sz="49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9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cddd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ВООРУЖЕННЫХ СИ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0012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ХОПУТНЫЕ ВОЙС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мотострелковые войска, танковые войска, ракетные войска и артиллерия, войска ПВО, специальные войска (разведывательных, связи, радиоэлектронной борьбы (РЭБ), инженерных, радиационной, химической и биологической защиты (РХБЗ), технического обеспечения, охраны тыла, частей и организаций тыл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5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85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3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I:\Новая папка\551.jpg"/>
          <p:cNvPicPr/>
          <p:nvPr/>
        </p:nvPicPr>
        <p:blipFill>
          <a:blip r:embed="rId1"/>
          <a:stretch/>
        </p:blipFill>
        <p:spPr>
          <a:xfrm>
            <a:off x="214200" y="142920"/>
            <a:ext cx="3929040" cy="6572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I:\Новая папка\to_damascus.jpg"/>
          <p:cNvPicPr/>
          <p:nvPr/>
        </p:nvPicPr>
        <p:blipFill>
          <a:blip r:embed="rId2"/>
          <a:stretch/>
        </p:blipFill>
        <p:spPr>
          <a:xfrm>
            <a:off x="4357800" y="214200"/>
            <a:ext cx="45720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7:24:00Z</dcterms:created>
  <dc:creator>админ</dc:creator>
  <dc:description/>
  <dc:language>en-US</dc:language>
  <cp:lastModifiedBy>админ</cp:lastModifiedBy>
  <dcterms:modified xsi:type="dcterms:W3CDTF">2009-04-05T19:15:14Z</dcterms:modified>
  <cp:revision>12</cp:revision>
  <dc:subject/>
  <dc:title>ВООРУЖЕННЫЕ СИЛЫ РОССИЙСКОЙ ФЕДЕРАЦИИ</dc:title>
</cp:coreProperties>
</file>