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57D-65FC-43F6-9BF9-7FC9688D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FF5-DA28-4004-87CC-1589F87B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0AEE7-A986-4018-BD05-0A5167DC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49731-08B5-467B-B46B-E4EB946D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13734-ECFD-48D7-9713-EBF3B121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8CB54-0D9E-41E8-A117-E8EDAA2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A2FF5-A292-41EA-8320-191CA4C5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BDEC-1356-410D-86B2-6FF972E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E2E40-91FE-486B-969F-549D622D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AAE72-45B0-4F68-9E7B-4C025E1A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5CC29-0BB1-4991-94C9-02737B6A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2BFA8-F4F3-4F42-A543-BE264E4C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85B-C3BF-4D84-9A37-7CB8D050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8BC74-08B1-4B14-8111-68EA6A21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01894-5055-40FA-A294-C597A6C6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ED89F-69BD-476E-92DB-C93B29E7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4629B-DFD2-40B0-80BE-C11457B4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CF0B5-7536-48D6-8FEC-E29B76F9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A93BA-A413-4F23-A995-CF01AA67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FA354-4BAC-4224-8E7D-BDFC071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F59EA-72A8-45B7-B696-8416DEB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F1BFE-4E2C-4D28-B449-249FA0E6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ECD1D-69AA-48A0-A56C-3F7BCCE8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655-0773-4CC9-B651-58AE199E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4CB00-496D-4838-B26A-8BC1F9E0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5A1EE-93AA-4C5C-A76F-A45231C2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BDFCC-D794-4146-AA04-5CA95ED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F00F2-49EA-4C82-94BC-65BE4413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8B828-D860-46C1-A454-B39BE823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7CE0-0CAB-4653-9DC3-12BAA2EE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6A794-9C18-4298-8347-502A21D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B0DA1-4A65-48DB-A49C-9B6E1A3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7D50-CD58-4A84-8BAA-1788F4F3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9C4BC-69EB-4C8D-BF4B-39EC4AA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B083-79B6-4FAD-88D2-6F83992B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7C38-6B5F-46B1-BE15-02ED171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07BCC-ECAB-41F5-BEFD-7B908CCB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F0649-0D96-47CB-BAD2-199178DE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9C14D-DE11-43AB-BB2C-3CDEA597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4F29B-EEB0-47CF-9752-C5B00735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B5BAE-94AB-44BD-AC02-318C609E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AC07D-2176-46B2-9190-87935D8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91C51-D8AC-4058-AAAB-6527613E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4B3B4-01CA-40D1-8CDA-914EABF4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567ED-9BAB-4ED8-B007-E86DB5D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D106-E85B-4408-B87B-11DF6675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C73DB-CD30-42A4-869F-CA0BE22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F101A-860F-45FA-92F4-4C84FAD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A32FB-945D-4106-A833-88335CD7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73A98-57AE-4291-97D2-ED8735C2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CB0C4-02B0-44A5-81E6-5EDE481E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691D0-B314-476A-9030-C4C361DA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9D7BE-2865-4D41-86EB-D1A6AF25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9EF12-4284-49B6-88E5-2D901784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58F32-3E18-4D2F-A6AB-2031F347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9C074-F903-4EE5-9402-C735AF49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C0A2-195C-4CCB-BEC7-B33C6BD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2F4B7-00F2-4D3C-A8E7-2D36D1C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437EB-D916-4495-BD9F-B926F9E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F58FC-66B0-46FB-9CDF-2A5EED6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29F71-0BC4-4CD7-A320-E6B84DA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E40EB-C011-4160-87FA-8C1D5C73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4B235-81FA-499D-B0BF-13F3F256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63E7B-7282-4C2A-9002-3C29B19D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A24EC-7ECA-496C-B0B5-85E58EEA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B641B-9D05-4A38-9116-7AC7FAE4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76052-A45F-4AB0-BA39-E7FE7346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E76D-0F4B-43CB-AA37-0356C496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796A8-5B8E-438B-B49B-C71720B5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A09D7-3C68-4175-835E-C76427D4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DA6CD-7ABA-48B6-A410-984E83BC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4C359-C76A-423E-B7B0-A36DC336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DBF8E-B8C0-464E-8438-4E0ABBB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D02CE-7029-4D2B-85CA-2B79AFF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0515A-0CDB-42A4-A46B-5BB999EE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59DE1-34E2-4A71-AFEF-C2FC6102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274BE-442C-4F52-AE9D-CADBA7F1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F322F-F060-4248-A370-39C08489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F869-BA2B-4EF9-91D1-E3443DA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429EA-A0DF-4EA7-8BBA-07E3ABB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47B4D-B445-4B65-9378-509A9EC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62A34-8079-4EC5-B8AF-C997E7DF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A38AB-5F84-4805-9F99-44452BE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72997-1797-485A-A839-CD96D72A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B6CB1-2B2B-4B4E-94ED-B22986F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EC940-7E48-41B1-9587-697B7DA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2B056-BFF5-4DF6-A105-F1A93AC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2C6D2-E08C-42D7-ACB4-CA6CBB5C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19A2C-B1E4-4219-9A07-7678B3BD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B841-88C7-493D-9C6F-2AC77866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9EA23-928A-4AC9-AB72-51BBF419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936BD-130F-4862-87A1-26ADEC54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DFDDA-A6D9-4C88-8CDE-A410051E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5EDB4-D403-4E97-A190-489667F5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8671C-C185-4C57-AB77-BDCC81F8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99B89-D966-457F-B5DF-B365FF26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5FD91-6585-46CF-907B-F6808ECE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82036-ADA8-4C0C-9251-602B440C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1073E-EFD8-47B6-A573-7B614E07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39561-9BA4-4DE4-96D4-E3B7C443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CEC8-3355-416A-B17A-25106520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D6032-1DBE-4B7C-A906-4CF7D0C6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9B59A-91A6-42A4-A7A2-63703BF0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5EFF5-DEEE-43D9-A5F8-D4200372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E053E-760B-4B27-8EA8-0429A402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90271-CC93-4CB2-AEB9-CB201247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B7BDF-F8F4-483A-9C2C-0B641417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D315D-873D-4B76-8A0C-63863FFD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60D46-1D0D-4D6C-A7DB-A5D09806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C0181-CBF3-45E4-8D96-B8502E39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8E2D5-7B51-4E25-9C25-1E98E8C6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9CC-1F94-4614-BCC0-57E50295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BD7B-5B92-4AC6-AC0D-06A9C34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0B86A-B3D3-44BC-955A-F97BD10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2F63E-D50A-4741-BB5D-2301EE7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E5943-437E-4CF9-8CFC-8050967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98277-0CA7-4467-90F4-50DEF675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660B2-29CB-441E-A8A0-2C892323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CA946-007D-40B6-B37D-661544E6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D23B2-A555-43B7-A9CB-168A1295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373B0-EE9F-4B3A-BB5D-30BD44F8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EB1F5-3F6C-4D2F-A891-454FF63D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05F18-ADAB-4C85-AB54-CFC736C1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B01B-874A-424D-81CE-815F4B7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3B559-9228-4B24-9753-8D47E39B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701FC-741F-4493-9793-6481480E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7FC5C-1248-411A-B3FE-42D6C0F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33BC5-AC33-4811-B567-09C0E48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83EA1-2CDC-47AB-AE26-EFD19CD1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58289-1369-4855-B379-B13F3249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5DDD1-42C1-4285-81BA-988D7E5A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7587-D713-49BA-AFEE-EF01BCAD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36FC-AF66-4B22-87D4-2490878A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C909-219C-428D-B54D-D4460069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446C-2D13-4500-817D-3EABF170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0DD3-5D75-4A0B-85A5-C08A25EC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1D51-1EB3-4875-ACC2-33046DB8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A60C-116A-4A50-9968-E964AB7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E6A8-FFD8-4A29-BEF3-5EE1007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097-D0B7-458E-8B4A-F6D75CCA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C64C-9DBB-4436-A158-8909E968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A9CB-5C66-4A76-BD79-1A6B7EE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2C7A-7660-40D4-9A92-CE8524AC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D380-A5AB-410A-863C-22756E7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5322-153A-469B-9980-332BEAD6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89CF-1339-4068-B4D5-D7540202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8333-111A-46B5-A1CA-417611B4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C396-DD81-4F4A-ADF8-144441AB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A2FF-7B47-4F1A-9E6B-D477AC8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7764-CD68-4DE2-BB63-944463D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DCF-AC3A-47EC-A05D-30E5B7BD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288B-493D-4C11-831D-862A4C29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7471-B307-4748-9119-2B476798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71A4-AA3C-4C17-89D3-69F557C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0606-221C-4541-9CAA-8FA4FB9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0A8F-EDF9-4F51-8184-B9117A9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97E4-A7C6-4976-B932-4E8BD80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D16F-74E0-486D-AD69-D1279A2A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ADF1-FE6D-4892-9567-3B78DC97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9885-77EC-4F63-8D4E-42D70EC1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928E-CCAC-48DA-BE6D-298344DE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192-0253-409B-B316-E591A3E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A87F-33E1-41DE-96B6-F7F80AD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6400-2F07-475F-9939-3B284B63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2EAF-D651-4F3B-9784-7EA1D06F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CB8E-09CD-44EF-8456-CDFBBCC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274BD-5E21-4D77-B7AA-51E35D29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66FBE-C65B-4994-B07A-A94E15E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F27B-51E8-4592-BB2D-F7F09E3D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C069-EA34-485C-BD75-6D558CD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0E540-875F-4270-8B37-0AA21A64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43782-73E8-4ECA-9AB2-2B992BC0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B32-190B-4BC7-BC68-904C8FF6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5B02-0B4E-4EC1-BDAD-B556D964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6C761-7BD2-446A-9243-AC78FA82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83270-A0F6-44D7-AA46-0AF2EBA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268FA-37E8-4D45-9164-59565F89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4ECD-BB7A-47CF-ABAA-4F2E09D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40284-B534-4616-ADC0-92E53C7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CB025-B35C-462A-917E-3A85296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E02E3-5EEE-4D1F-9F3F-346414F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33A78-B46F-4C67-89A2-A30ED05F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7D3B-B496-41EC-9347-042C030B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573-BABB-4C0F-81CE-88BF195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ED30-7BE1-4810-9FC7-F0A3F4B0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2F35-9A4C-44D5-9F24-3D8FA389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E20D-77A5-44CC-96ED-8974D4C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CF3BE-55EC-4115-A5F0-261E217E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7D28-4C9A-44CD-8335-9417DB5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2756B-021D-47D5-A144-B91B110D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FCC4-33D0-4848-B2D4-B7C959C0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7F649-9B11-4517-B77F-60D1EEC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1E14-DFE2-4BBC-976E-CC97FEA2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28F7-56E7-4D86-8474-7B67668E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B6D-7CD2-42DC-9FFD-D4EA278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56B1-ED0B-4005-AFD2-63ADBE55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B8E9D-9360-4F22-8593-E4AC11E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D06BF-EF73-46FB-B574-E2DA3C72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9F1BD-8244-45D8-BBBD-C6E2F8F2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D94F6-FDD3-49D6-A97C-3F7B1C0D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985F5-C93B-47EB-A2A3-2ECF03B7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D0BAF-F974-4A2A-98F3-BB4C8843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922B4-31BC-4B68-8C8C-A0057B3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34C5A-934C-4046-BBB8-3C082E96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9C92-2ED2-44C0-B54A-F1EC7729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4A8-6703-42DA-9BFA-0E8C708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5C273-508E-4411-A4C3-6E56EAA2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4F480-D0E8-43BF-9B99-CCA2EB1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23470-8938-4B87-8C50-EAEC135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DA27B-87ED-4A98-973E-FC7947C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A486-8BFB-4E92-9EAE-981CFBA5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9457F-063A-454E-8A76-63E088D9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E81E0-1179-4105-8BC4-EDBCC352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2B04-37AB-410E-83F3-A3F11B45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557D-00C7-4751-BA7A-2406B29A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65428-DA3F-40A3-A663-1903B3D0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BAE36-56C6-45C3-BBCA-9E62C4709754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E8B3A-5B65-433D-939D-059D99BFC35C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9B67E-90ED-4732-87FD-7A8B61745324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86474-5936-4999-91E6-5484203A690E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8A2BC-19EA-42FE-A2EF-454BC9F38F24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0F8E0-E018-4BCA-B281-F1410254B95F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907E7-05D3-4523-9F05-7E9E046CEF7F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2AE85-563F-4429-BA01-9FA45BB3C5BD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2B6D2-4DA9-4578-9033-3E19E96605D7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BB52A-2D1B-4DD4-91AE-2CB8F8C9DCAC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EBF02-07B2-448F-915A-D01AD96A6AF3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C3229-E942-475F-A844-3B31129E6BDD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C3B57-EAC7-4BCF-9161-4C924259AE6B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8C646-9E79-4936-9486-9FD0FE9B1C30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C1021-095C-46E7-9F06-6A89392A1356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A2060-1AB3-424C-AE78-F5B2A1051495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0D353-7B63-445B-893D-34414800DAB3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D3BD7-F2C8-486C-B915-E2FB996B5526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nsportal.ru/detskiy-sad/zdorovyy-obraz-zhizni/2016/07/17/konsultatsii-dlya-roditeley-po-zdorovomu-obrazu-0" TargetMode="External"/><Relationship Id="rId2" Type="http://schemas.openxmlformats.org/officeDocument/2006/relationships/hyperlink" Target="https://nsportal.ru/detskiy-sad/zdorovyy-obraz-zhizni/2016/07/17/konsultatsii-dlya-roditeley-po-zdorovomu-obrazu-0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21840" y="929880"/>
            <a:ext cx="112554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w Cen MT"/>
                <a:ea typeface="Times New Roman"/>
              </a:rPr>
              <a:t>«ЗДОРОВЫЙ ОБРАЗ ЖИЗНИ</a:t>
            </a:r>
            <a:r>
              <a:rPr b="1" lang="ru-RU" sz="6000" spc="-1" strike="noStrike">
                <a:solidFill>
                  <a:srgbClr val="ff0000"/>
                </a:solidFill>
                <a:latin typeface="Tw Cen MT"/>
                <a:ea typeface="Times New Roman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Прямоугольник 3"/>
          <p:cNvSpPr/>
          <p:nvPr/>
        </p:nvSpPr>
        <p:spPr>
          <a:xfrm>
            <a:off x="6934320" y="231840"/>
            <a:ext cx="5257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w Cen MT"/>
                <a:ea typeface="Times New Roman"/>
              </a:rPr>
              <a:t>Консультация для родителей</a:t>
            </a: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Рисунок 5" descr=""/>
          <p:cNvPicPr/>
          <p:nvPr/>
        </p:nvPicPr>
        <p:blipFill>
          <a:blip r:embed="rId1"/>
          <a:stretch/>
        </p:blipFill>
        <p:spPr>
          <a:xfrm>
            <a:off x="4289400" y="1755720"/>
            <a:ext cx="7140600" cy="4759560"/>
          </a:xfrm>
          <a:prstGeom prst="rect">
            <a:avLst/>
          </a:prstGeom>
          <a:ln w="0">
            <a:noFill/>
          </a:ln>
        </p:spPr>
      </p:pic>
      <p:sp>
        <p:nvSpPr>
          <p:cNvPr id="778" name="TextBox 4"/>
          <p:cNvSpPr/>
          <p:nvPr/>
        </p:nvSpPr>
        <p:spPr>
          <a:xfrm>
            <a:off x="403200" y="5016600"/>
            <a:ext cx="37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Воспитатель МБДОУ ДС 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Брезгун Ю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1604520" y="1563840"/>
            <a:ext cx="947412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d87a6"/>
                </a:solidFill>
                <a:uFillTx/>
                <a:latin typeface="Tw Cen MT"/>
                <a:hlinkClick r:id="rId1"/>
              </a:rPr>
              <a:t>ИСТОЧНИКИ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d87a6"/>
                </a:solidFill>
                <a:uFillTx/>
                <a:latin typeface="Tw Cen MT"/>
                <a:hlinkClick r:id="rId2"/>
              </a:rPr>
              <a:t>HTTPS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://NSPORTAL.RU/DETSKIY-SAD/ZDOROVYY-OBRAZ-ZHIZNI/2016/07/17/KONSULTATSII-DLYA-RODITELEY-PO-ZDOROVOMU-OBRAZU-0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HTTPS://INFOUROK.RU/KONSULTACIYA-DLYA-RODITELEY-NA-TEMU-ZDOROVIY-OBRAZ-ZHIZNI-821448.HTML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HTTPS://NSPORTAL.RU/DETSKIY-SAD/ZDOROVYY-OBRAZ-ZHIZNI/2015/01/04/ZAKALIVANIE-DOSHKOLNIK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676600" y="0"/>
            <a:ext cx="659448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w Cen MT"/>
              </a:rPr>
              <a:t>ПРАВИЛА ЗАКАЛИВАНИЯ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28240" y="673200"/>
            <a:ext cx="1175220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w Cen MT"/>
              </a:rPr>
              <a:t>ЧТО ТАКОЕ ЗАКАЛИВАНИЕ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ЭТО АДАПТАЦИЯ ОРГАНИЗМА К ХОЛОДНЫМ ВОЗДЕЙСТВИЯМ. ДАННОЕ ОПРЕДЕЛЕНИЕ НЕ РАСКРЫВАЕТ ВСЕЙ СУТИ ПОНЯТИЯ. ЗАКАЛИВАНИЕ ДЕТЕЙ ДОШКОЛЬНОГО ВОЗРАСТА  – ЭТО СИСТЕМА ОПРЕДЕЛЕННЫХ ПРОЦЕДУР В РЕЖИМЕ ДНЯ.  СВОЕГО РОДА, ОБРАЗ ЗДОРОВОЙ ЖИЗНИ, КОТОРЫЙ РОДИТЕЛИ ЗАКЛАДЫВАЮТ СВОЕМУ РЕБЕНКУ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ЭТО АКТИВНАЯ ДЕЯТЕЛЬНОСТЬ, НАМЕРЕННОЕ ВОЗДЕЙСТВИЕ ХОЛОДОМ ДЛЯ ТРЕНИРОВКИ ЗАЩИТНЫХ МЕХАНИЗМОВ ТЕЛА. ПРИ ЭТОМ ПОВЫШАЕТСЯ УСТОЙЧИВОСТЬ НЕ ТОЛЬКО К ХОЛОДОВЫМ ВЛИЯНИЯМ, НО И К ДРУГИМ ВОЗДЕЙСТВИЯМ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ЭТО НЕ САМОЦЕЛЬ – ЭТО СРЕДСТВО УКРЕПЛЕНИЯ И СОХРАНЕНИЯ ЗДОРОВЬЯ РЕБЕНКА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w Cen MT"/>
              </a:rPr>
              <a:t>ОСНОВНЫЕ ПРИНЦИПЫ ЗАКАЛИВАНИЯ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ЧТОБЫ ДОБИТЬСЯ ПОЛОЖИТЕЛЬНОГО ЭФФЕКТА НЕОБХОДИМО СОБЛЮДАТЬ СЛЕДУЮЩИЕ СХЕМЫ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РЕГУЛЯРНОСТЬ ПРОЦЕДУР (ЕЖЕДНЕВНЫЕ ЗАНЯТИЯ В ОДНО И ТО ЖЕ ВРЕМЯ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ПОСТЕПЕННОСТЬ ПРОЦЕДУР (ПОЭТАПНЫЙ ПЕРЕХОД ОТ БОЛЕЕ СЛАБЫХ ФОРМ ЗАКАЛИВАНИЯ К БОЛЕЕ СИЛЬНЫМ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ЧЕРЕДОВАНИЕ ОБЩИХ ПРОЦЕДУР С МЕСТНЫМИ (НЕВОЗМОЖНО ДОСТИЧЬ ЖЕЛАЕМОГО ЭФФЕКТА, ТОЛЬКО РАСТИРАЯ ГРУДЬ ХОЛОДНОЙ ВОДОЙ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ИСПОЛЬЗОВАНИЕ ДЛЯ ЗАКАЛИВАНИЯ ВСЕГО, ЧТО ПРЕДЛАГАЕТ ПРИРОДА (ЗЕМЛИ, ВОЗДУХА, СОЛНЦА, СНЕГА, ВОДЫ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КОМПЛЕКСНОСТЬ ПРОЦЕДУР (ЭТО НЕ ТОЛЬКО ОБЛИВАНИЕ ВОДОЙ, НО И ПРОГУЛКИ НА СВЕЖЕМ ВОЗДУХЕ, КАТАНИЕ НА ЛЫЖАХ, ПЛАВАНИЕ, БЕГ, БАНЯ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w Cen MT"/>
              </a:rPr>
              <a:t>ПРОЦЕДУРЫ ДОЛЖНЫ ВЫЗЫВАТЬ У РЕБЕНКА ТОЛЬКО ПОЛОЖИТЕЛЬНЫЕ ЭМОЦИИ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1143000" y="330120"/>
            <a:ext cx="1013472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w Cen MT"/>
              </a:rPr>
              <a:t>ЗАКАЛИВАНИЕ ДЕТЕЙ В ДОМАШНИХ УСЛОВИЯ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ПРОВОДЯ ЛЮБЫЕ ЗАКАЛИВАЮЩИЕ ПРОЦЕДУРЫ, НЕОБХОДИМО ОРИЕНТИРОВАТЬСЯ НА СОСТОЯНИЕ РЕБЕНКА. ЕСЛИ МАЛЫШ КОЛОТИТСЯ ОТ ХОЛОДА, ВЫ ЯВНО ПЕРЕБОРЩИЛИ С ЭТИМ САМЫМ ХОЛОДОМ. КАЖДЫЙ РЕБЕНОК ИНДИВИДУАЛЕН, ПОЭТОМУ ПРИ ПРОВЕДЕНИИ ЗАКАЛИВАЮЩИХ ПРОЦЕДУР И ВЫБОРЕ ТЕМПЕРАТУР НУЖНО ОРИЕНТИРОВАТЬСЯ ИМЕННО НА СВОЕ ЧАДО. ЕСТЬ СПЕЦИАЛЬНЫЕ МЕТОДИКИ ЗАКАЛИВАНИЯ ДЕТЕЙ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К НИМ ОТНОСЯТСЯ ВОЗДУШНЫЕ ВАННЫ И ВОДНЫЕ ПРОЦЕДУРЫ: ОБЛИВАНИЕ НОГ, КОНТРАСТНОЕ ОБЛИВАНИЕ, ОБТИРАНИЕ И КУПАНИЕ В ОТКРЫТЫХ ВОДОЕМАХ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ХОЖДЕНИЕ БОСИКОМ, РАСШИРЕННОЕ УМЫВАНИЕ РЕБЕНКА, ПРОВЕТРИВАНИЕ КВАРТИРЫ — ЭТО ЗАКАЛИВАНИЕ В ПОВСЕДНЕВНОЙ ЖИЗНИ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ОНО ОЧЕНЬ УДОБНО, ВЕДЬ ДЛЯ ТАКОГО ЗАКАЛИВАНИЯ НЕ ТРЕБУЕТСЯ ОСОБЕННЫХ УСЛОВИЙ. ОНО ПОКАЗАНО ВСЕМ ДЕТЯМ, ОДНАКО ТРЕБУЕТСЯ ИНДИВИДУАЛЬНЫЙ ПОДХОД. ТРЕБУЕТСЯ ПОДОБРАТЬ РЕЖИМ И УЧИТЫВАТЬ СОСТОЯНИЕ ЗДОРОВЬЯ РЕБЕНКА И УРОВЕНЬ ЕГО ФИЗИЧЕСКОГО РАЗВИТИ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СОБЛЮДАЙТЕ ПРИНЦИПЫ ЗАКАЛИВАНИЯ: СИСТЕМАТИЧНОСТЬ И ПОСТЕПЕННОСТЬ. К НАЧАЛУ ПРОЦЕДУР РЕБЕНКУ НАДО СОЗДАТЬ ПОЛОЖИТЕЛЬНЫЙ ЭМОЦИОНАЛЬНЫЙ НАСТРОЙ. ЕСЛИ МАЛЫШУ НЕ НРАВЯТСЯ КАКИЕ-ЛИБО ПРОЦЕДУРЫ ЗАКАЛИВАНИЯ, НАСИЛЬНО ВВОДИТЬ ИХ В ПРАКТИКУ НЕЛЬЗЯ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34960" y="444600"/>
            <a:ext cx="110109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w Cen MT"/>
              </a:rPr>
              <a:t>ПАМЯТКА РОДИТЕЛЯ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СПЕЦИАЛЬНЫЕ МЕТОДИКИ ЗАКАЛИВАНИЯ ДЕТЕЙ ДОШКОЛЬНОГО ВОЗРАСТА ПРИМЕНЯТЬ МОЖНО – ИММУНИТЕТУ РЕБЕНКА ЭТО ПОЙДЕТ ТОЛЬКО НА ПОЛЬЗУ. ОДНАКО СНОВА ТРЕБУЮТСЯ ВРЕМЯ, ЖЕЛАНИЕ И СИСТЕМАТИЧНОСТЬ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К ТОМУ ЖЕ НЕОБХОДИМО БЫТЬ ОЧЕНЬ ГРАМОТНЫМ РОДИТЕЛЕМ, ЧТОБЫ ЧЕТКО ПОНИМАТЬ, КОГДА РЕБЕНОК ЧУВСТВУЕТ СЕБЯ НЕ ОЧЕНЬ ХОРОШО, И ЗАКАЛИВАНИЕ НАДО ПРИОСТАНОВИТЬ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ОДНА ИЗ САМЫХ ЭФФЕКТИВНЫХ СПЕЦИАЛЬНЫХ МЕТОДИК — КОНТРАСТНОЕ ОБЛИВАНИЕ СТОП И ГОЛЕНЕЙ. НОЖКИ ПОПЕРЕМЕННО ОБЛИВАЮТСЯ ТЕПЛОЙ И ПРОХЛАДНОЙ ВОДОЙ И, ЕСЛИ У РЕБЕНКА НЕТ ХРОНИЧЕСКИХ ЗАБОЛЕВАНИЙ, СЕРИЯ ОБЛИВАНИЙ ЗАКАНЧИВАЕТСЯ ПРОХЛАДНОЙ ВОДОЙ. ЕСЛИ ОРГАНИЗМ МАЛЫША ОСЛАБЛЕН, ТО ЗАКАНЧИВАТЬ ПРОЦЕДУРУ НАДО ТЕПЛОЙ ВОДОЙ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ОБТИРАНИЕ ПРОХЛАДНОЙ ВОДОЙ ТОЖЕ НЕ ПОТЕРЯЛО СВОЕЙ АКТУАЛЬНОСТИ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НО НЕ СТОИТ ЭКСПЕРИМЕНТИРОВАТЬ С ИНТЕНСИВНЫМ ЗАКАЛИВАНИЕМ. НЕ НАДО ОБЛИВАТЬ МАЛЫША ХОЛОДНОЙ ВОДОЙ НА СНЕГУ, ЗАСТАВЛЯТЬ ЕГО ХОДИТЬ БОСИКОМ ПО СНЕГУ. НЕЛЬЗЯ УСТРАИВАТЬ И ЗАПЛЫВЫ МАЛЫШЕЙ В ПРОРУБИ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ТАКОЕ ПСЕВДОЗАКАЛИВАНИЕ — ОГРОМНЫЙ СТРЕСС ДЛЯ ДЕТСКОГО ОРГАНИЗМА, И ЕГО ПОСЛЕДСТВИЯ ТРУДНО ПРЕДСКАЗАТЬ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А ПОСТЕПЕННОЕ И ПОСЛЕДОВАТЕЛЬНОЕ ЗАКАЛИВАНИЕ, НАОБОРОТ, ПРИНЕСЕТ ТОЛЬКО ПОЛЬЗУ ЗДОРОВЬЮ И САМОЧУВСТВИЮ МАЛЫША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2600" y="-360"/>
            <a:ext cx="103647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w Cen MT"/>
              </a:rPr>
              <a:t>«ЗДОРОВОЕ ПИТАНИЕ – ЗДОРОВЫЙ РЕБЕНОК»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188640" y="730080"/>
            <a:ext cx="11791800" cy="58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w Cen MT"/>
              </a:rPr>
              <a:t>ВСЕ РОДИТЕЛИ ЗНАЮТ О ПОЛЬЗЕ И ВРЕДЕ ПРОДУКТОВ, АЛЛЕРГИЧЕСКИХ РЕАКЦИЯХ, НО НЕ КАЖДАЯ МАМА ДЕЙСТВИТЕЛЬНО ОТВЕТСТВЕННО ВЫБИРАЕТ ПРОДУКТЫ ДЛЯ РЕБЕНКА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w Cen MT"/>
              </a:rPr>
              <a:t>ПРИХОДЯ В ДЕТСКИЙ САД, КАЖДЫЙ РОДИТЕЛЬ МОЖЕТ УВИДЕТЬ МЕНЮ И НОРМЫ ПИТАНИЯ, А О ВКУСОВЫХ КАЧЕСТВАХ ЛУЧШЕ СПРОСИТЬ У ДЕТЕЙ. КОНЕЧНО, НЕ ВСЕ БЛЮДА НРАВЯТСЯ. ПРО КАШУ, КИСЕЛЬ (И МАЛО ЛИ ЧТО ЕЩЕ) РЕБЕНОК, МОЖЕТ СКАЗАТЬ «ФУ». ЭТО ПОНЯТНО, НЕВОЗМОЖНО УДОВЛЕТВОРИТЬ ВСЕ ПРИСТРАСТИЯ ДЕТЕЙ. МНОГО ЗАВИСИТ, КАК ПИТАЕТСЯ РЕБЕНОК В СЕМЬЕ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w Cen MT"/>
              </a:rPr>
              <a:t>КОРМЯТ ЛИ ЕГО С ЛОЖКИ ИЛИ БАЛУЮТ ЛЮБИМЫМИ ШОКОЛАДКАМИ ВМЕСТО ПОЛНОЦЕННОЙ ПИЩИ. ВСЕ РЕЖЕ УВИДИШЬ МАМУ, КУПИВШУЮ КЕФИР, РЯЖЕНКУ ДЛЯ СВОЕГО РЕБЕНКА – ЗАЧЕМ, КОГДА ЕСТЬ ЙОГУРТ, ФРУГУРТ, И Т.Д. И ТЕМ БОЛЕЕ МАМ, КОТОРЫЕ СВАРИЛИ БЫ КОМПОТ ИЗ СУХОФРУКТОВ – ЗАЧЕМ, КОГДА ЕСТЬ СОКИ, ФАНТЫ И КОКА – КОЛЫ. А КОГДА ПРИХОДИТ РЕБЕНОК В ДЕТСКИЙ САД, НАЧИНАЮТСЯ ПРОБЛЕМЫ – Я ТАКОЙ КОМПОТ НЕ ПЬЮ, ТАКУЮ РЫБУ НЕ ЕМ, КОТЛЕТЫ НЕ ЛЮБЛЮ. А СОСИСКУ Я БУДУ! А ДЕТСКИЕ САДЫ, В СВОЮ ОЧЕРЕДЬ, ХОТЯТ ОБЕСПЕЧИТЬ РЕБЕНКА ПОЛНОЦЕННЫМ ПИТАНИЕМ – НАТУРАЛЬНЫМ, ПРАВИЛЬНЫМ. ПОЭТОМУ В РАЦИОНЕ У ДЕТЕЙ ЕСТЬ И ТВОРОГ, И РЫБА, И МЯСО, И КАПУСТА, И ПЕЧЕНЬ, И ПРОСТО КЕФИР С РЯЖЕНКОЙ. ПОДАВАЯ ДЕТЯМ БЛЮДА НА СТОЛ, МЫ СТАРАЕМСЯ РАССКАЗАТЬ О ПОЛЬЗЕ ЭТОГО ПРОДУКТА. ЧАЩЕ ВСЕГО ДЕТИ, ГЛЯДЯ ДРУГ НА ДРУГА, С УДОВОЛЬСТВИЕМ ЕДЯТ СУП, ЗАПЕКАНКИ И ОМЛЕТЫ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w Cen MT"/>
              </a:rPr>
              <a:t>ВСПОМНИТЕ ДЕТСТВО – ТАКИЕ СУФЛЕ И ЗАПЕКАНКИ НЕ ВСЕГДА ДОМА ПРИГОТОВЯТ. РЕБЕНОК ДОЛЖЕН ПОЛУЧАТЬ ДОСТАТОЧНОЕ КОЛИЧЕСТВО ПИТАТЕЛЬНЫХ ВЕЩЕСТВ, КОТОРЫЕ ОБЕСПЕЧАТ ЕГО ПОТРЕБНОСТИ В ЭНЕРГИИ И ОСНОВНЫХ КОМПОНЕНТАХ (БЕЛКИ, ЖИРЫ, УГЛЕВОДЫ, МИНЕРАЛЫ, МИКРОЭЛЕМЕНТЫ, ВИТАМИНЫ). ПИЩА ДОЛЖНА БЫТЬ РАЗНООБРАЗНОЙ, СБАЛАНСИРОВАННОЙ И СОДЕРЖАТЬ НЕОБХОДИМОЕ СООТНОШЕНИЕ КОМПОНЕНТОВ ПИТАНИЯ. ПИТАНИЕ ДОЛЖНО ОПЕРЕЖАЮЩЕЕ СОПРОВОЖДАТЬ ВСЕ ПРОЦЕССЫ РОСТА И РАЗВИТИЯ ОРГАНИЗМА РЕБЁНКА, ДРУГИМИ СЛОВАМИ, ПОДРАСТАЯ, РЕБЁНОК НЕ ДОЛЖЕН ИСПЫТЫВАТЬ НЕХВАТКУ ПИЩИ И ПИТАТЕЛЬНЫХ ВЕЩЕСТВ.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668160" y="652320"/>
            <a:ext cx="10963440" cy="62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ПИТАНИЕ ДОЛЖНО БЫТЬ РАЗНООБРАЗНЫМ, ЭТО СЛУЖИТ ОСНОВОЙ ЕГО СБАЛАНСИРОВАННОСТИ. ВАЖНО ФОРМИРОВАТЬ У РЕБЕНКА РАЗНООБРАЗНЫЙ ВКУСОВОЙ КРУГОЗОР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В РАЦИОН РЕБЁНКА НЕОБХОДИМО ВКЛЮЧАТЬ ВСЕ ГРУППЫ ПРОДУКТОВ – МЯСНЫЕ, МОЛОЧНЫЕ, РЫБНЫЕ, РАСТИТЕЛЬНЫЕ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ЕДА РЕБЁНКА ДОЛЖНА БЫТЬ РАЗНООБРАЗНОЙ КАК В ТЕЧЕНИЕ ДНЯ, ТАК И В ТЕЧЕНИЕ НЕДЕЛИ. НАДО ПОМОЧЬ РЕБЁНКУ “РАСПРОБОВАТЬ” ВКУС РАЗНЫХ БЛЮД. ПРОЯВИТЕ ФАНТАЗИЮ, БОРИТЕСЬ С ВОЗНИКНОВЕНИЕМ У РЕБЁНКА КОНСЕРВАТИВНОСТЬЮ К ЕДЕ. УЧИТЫВАЙТЕ ИНДИВИДУАЛЬНЫЕ ОСОБЕННОСТИ РЕБЁНКА, ВОЗМОЖНУЮ НЕПЕРЕНОСИМОСТЬ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ЕДА ДОЛЖНА ПРИНОСИТЬ РАДОСТЬ! ОНА СЛУЖИТ ВАЖНЫМ ИСТОЧНИКОМ ПОЛОЖИТЕЛЬНЫХ ЭМОЦИЙ. ЗАМЕЧЕНО, ЧТО БОЛЬШЕ ВСЕГО НАСЛАЖДЕНИЯ ПОЛУЧАЕТ НЕ ОБЖОРЫ, А ГУРМАНЫ, ДЛЯ КОГО ЕДА – ПРИКЛЮЧЕНИЕ, КТО ЛЮБИТ ПРОБОВАТЬ ДИКОВИННЫЕ БЛЮДА, ЗНАКОМИТСЯ С КУХНЯМИ РАЗНЫХ НАРОДОВ, ОСВАИВАТЬ НОВЫЕ РЕЦЕПТЫ И НЕОБЫЧНЫЕ БЛЮДА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6" name="Рисунок 3" descr=""/>
          <p:cNvPicPr/>
          <p:nvPr/>
        </p:nvPicPr>
        <p:blipFill>
          <a:blip r:embed="rId1"/>
          <a:stretch/>
        </p:blipFill>
        <p:spPr>
          <a:xfrm>
            <a:off x="285840" y="5035680"/>
            <a:ext cx="22320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1193400" y="525600"/>
            <a:ext cx="10401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КАК ПРАВИЛЬНО СИДЕТЬ ЗА СТОЛОМ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САДИТЬСЯ ЗА СТОЛ МОЖНО ТОЛЬКО С ЧИСТЫМИ РУКАМИ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СИДЕТЬ НАДО ПРЯМО, НЕ РАСКАЧИВАЯСЬ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НА СТОЛ МОЖНО ПОЛОЖИТЬ ТОЛЬКО ЗАПЯСТЬЯ, А НЕ ЛОКТИ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РУКИ СЛЕДУЕТ ДЕРЖАТЬ КАК МОЖНО БЛИЖЕ К ТУЛОВИЩУ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СИДЯ ЗА СТОЛОМ, МОЖНО ЛИШЬ СЛЕГКА НАКЛОНИТЬ ГОЛОВУ НАД ТАРЕЛКОЙ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РАЗГОВАРИВАТЬ ВО ВРЕМЯ ЕДЫ ЕСТЕСТВЕННО И ПРИЛИЧНО, ОСОБЕННО ВО ВРЕМЯ ПРАЗДНИЧНОГО ЗАСТОЛЬЯ, НО НЕ С ПОЛНЫМ РТОМ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8" name="Рисунок 3" descr=""/>
          <p:cNvPicPr/>
          <p:nvPr/>
        </p:nvPicPr>
        <p:blipFill>
          <a:blip r:embed="rId1"/>
          <a:stretch/>
        </p:blipFill>
        <p:spPr>
          <a:xfrm>
            <a:off x="407880" y="4809960"/>
            <a:ext cx="17557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63600" y="963360"/>
            <a:ext cx="11430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1e52"/>
                </a:solidFill>
                <a:latin typeface="Tw Cen MT"/>
              </a:rPr>
              <a:t>О ПРАВИЛАХ ГИГИЕНЫ ПИТАНИЯ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ЧИСТОТА – ЗАЛОГ ЗДОРОВЬЯ!”, “МОЙТЕ РУКИ ПЕРЕД ЕДОЙ!”  - СТАРЫЕ ПРИЗЫВЫ МНОГИХ ПОКОЛЕНИЙ. ПОКАЗЫВАЙТЕ РЕБЕНКУ ХОРОШИЙ ПРИМЕР, ЗАБОТЯСЬ О СЕБЕ, ПОДДЕРЖИВАЯ СЕБЯ В УХОЖЕННОМ СОСТОЯНИИ И СЛЕДУЯ ТЕМ ЖЕ САМЫМ ПРИВЫЧКАМ, КОТОРЫЕ ВЫ ХОТИТЕ НАУЧИТЬ СВОЕГО РЕБЕНКА. ЛУЧШИМ СРЕДСТВОМ ОТ МИКРОБОВ ЯВЛЯЕТСЯ РЕГУЛЯРНОЕ МЫТЬЁ РУК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Рисунок 3" descr=""/>
          <p:cNvPicPr/>
          <p:nvPr/>
        </p:nvPicPr>
        <p:blipFill>
          <a:blip r:embed="rId1"/>
          <a:stretch/>
        </p:blipFill>
        <p:spPr>
          <a:xfrm>
            <a:off x="281160" y="3541680"/>
            <a:ext cx="2736720" cy="309096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4" descr=""/>
          <p:cNvPicPr/>
          <p:nvPr/>
        </p:nvPicPr>
        <p:blipFill>
          <a:blip r:embed="rId2"/>
          <a:stretch/>
        </p:blipFill>
        <p:spPr>
          <a:xfrm>
            <a:off x="9193320" y="3438360"/>
            <a:ext cx="2627280" cy="3181680"/>
          </a:xfrm>
          <a:prstGeom prst="rect">
            <a:avLst/>
          </a:prstGeom>
          <a:ln w="0">
            <a:noFill/>
          </a:ln>
        </p:spPr>
      </p:pic>
      <p:sp>
        <p:nvSpPr>
          <p:cNvPr id="792" name="TextBox 5"/>
          <p:cNvSpPr/>
          <p:nvPr/>
        </p:nvSpPr>
        <p:spPr>
          <a:xfrm>
            <a:off x="2770200" y="302580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w Cen MT"/>
              </a:rPr>
              <a:t>НАУЧИТЕ ВАШЕГО РЕБЁНКА МЫТЬ РУКИ КАЖДЫЙ РАЗ, КОГДА ОН ПРИХОДИТ С УЛИЦЫ, ПОСЛЕ ПОЛЬЗОВАНИЯ ТУАЛЕТОМ И ПЕРЕД ЕДОЙ, ПОСЛЕ ТОГО, КАК ОН ПОИГРАЕТ С ЖИВОТНЫМИ. КОГДА ДЕТЯМ НРАВИТСЯ СОДЕРЖАТЬ СЕБЯ В ЧИСТОТЕ, ОНИ ПРИОБРЕТАЮТ ЭТУ ПРИВЫЧКУ НА ВСЮ ЖИЗНЬ. ЕЖЕДНЕВНО ПОМОГАЙТЕ СВОЕМУ РЕБЕНКУ ПРИОБРЕТАТЬ И ЗАКРЕПЛЯТЬ НАВЫКИ БЕЗОПАСНОГО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631440" y="326880"/>
            <a:ext cx="1116180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НАУЧИТЕ ВАШЕГО РЕБЁНКА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СОБЛЮДАТЬ ПРАВИЛА ЛИЧНОЙ ГИГИЕНЫ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РАЗЛИЧАТЬ СВЕЖИЕ И НЕСВЕЖИЕ ПРОДУКТЫ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ОСТОРОЖНО ОБРАЩАТЬСЯ С НЕЗНАКОМЫМИ ПРОДУКТАМИ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w Cen MT"/>
              </a:rPr>
              <a:t>    </a:t>
            </a:r>
            <a:r>
              <a:rPr b="1" lang="ru-RU" sz="1600" spc="-1" strike="noStrike">
                <a:solidFill>
                  <a:srgbClr val="ff0000"/>
                </a:solidFill>
                <a:latin typeface="Tw Cen MT"/>
              </a:rPr>
              <a:t>КРЕПКИЕ ЗУБЫ </a:t>
            </a: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– ЭТО НЕ ТОЛЬКО КРАСИВАЯ УЛЫБКА, ЭТО – ЗДОРОВЬЕ РЕБЁНКА. ЗНАЧЕНИЕ ЗДОРОВЫХ ЗУБОВ ТРУДНО ПЕРЕОЦЕНИТЬ. ОНИ НУЖНЫ, ЧТОБЫ ПЕРЕЖЕВЫВАТЬ ПИЩУ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w Cen MT"/>
              </a:rPr>
              <a:t>ВОТ ЧТО НАДО ДЕЛАТЬ, ЧТОБЫ ЗУБЫ У РЕБЕНКА ОСТАВАЛИСЬ КАК МОЖНО БОЛЕЕ ЗДОРОВЫМИ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ЕЖЕДНЕВНО ЧИСТИТЬ ЗУБЫ УТРОМ И ВЕЧЕРОМ НЕ МЕНЕЕ ДВУХ МИНУТ. ЧИСТИТЬ ЗУБЫ НАДО НАЧИНАТЬ С ТОГО МОМЕНТА, КАК ПРОРЕЗАЛСЯ ПЕРВЫЙ ЗУБ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ПОСЛЕ ВЕЧЕРНЕЙ ЧИСТКИ ЗУБОВ РЕБЕНКУ В РОТ НЕ ДОЛЖНО ПОПАСТЬ НИ МОЛОКО, НИ КАКАЯ-ЛИБО ДРУГАЯ ПИЩА, ИНАЧЕ СМЫСЛ ЧИСТКИ ТЕРЯЕТСЯ. ДОПУСТИМА ТОЛЬКО ВОДА, ЕСТЕСТВЕННО БЕЗ САХАРА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УВЕЛИЧИТЬ КОЛИЧЕСТВО ТВЕРДОЙ ПИЩИ (ЯБЛОКИ, МОРКОВЬ, ГРУШИ И Т.Д.). ЛУЧШЕ ПРЕДЛОЖИТЬ РЕБЁНКУ  КУСОЧЕК ЯБЛОКА, ЧЕМ ПЮРЕ. ЯБЛОКО И ОЧИСТИТ ЗУБЫ, И ПОМАССИРУЕТ ДЕСНЫ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СНИЗИТЬ КОЛИЧЕСТВО ПОСТУПАЕМЫХ  УГЛЕВОДОВ. ГОРАЗДО ЛУЧШЕ ДЛЯ ЗУБОВ, ЕСЛИ РЕБЕНОК СРАЗУ СЪЕСТ ЦЕЛУЮ ШОКОЛАДКУ И СРАЗУ ПОСЛЕ ЭТОГО ПОЧИСТИТ ЗУБЫ, ЧЕМ ЕСЛИ ОН РАСТЯНЕТ ЭТУ ШОКОЛАДКУ НА ЦЕЛЫЙ ДЕНЬ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7T14:57:42Z</dcterms:created>
  <dc:creator>Андрей Брезгун</dc:creator>
  <dc:description/>
  <dc:language>en-US</dc:language>
  <cp:lastModifiedBy>-</cp:lastModifiedBy>
  <dcterms:modified xsi:type="dcterms:W3CDTF">2019-04-29T05:44:04Z</dcterms:modified>
  <cp:revision>15</cp:revision>
  <dc:subject/>
  <dc:title>Презентация PowerPoint</dc:title>
</cp:coreProperties>
</file>