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846-BA06-4330-9B00-3B02F850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A1C-37C9-4606-A37E-44E84E1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219-D81F-456B-8935-2FD1204D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8D9-D166-435A-944B-855EFFA7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F42-2053-4AF5-9337-7EF9F6E3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9327-A515-4EAE-AF13-7F665CA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35A-B068-4F56-BB0D-80495D5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F08F-C296-46AA-A072-C203575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6E1E-7F07-4885-A0E4-4D01B52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62E-7E05-45AB-83FC-215D0E7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BE8-66C3-4510-BFE6-CCCA3EB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EFE-916C-4935-95A7-C0AD76A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2BF-65C6-42C5-985E-0045B6B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5875-5AD1-400B-BBA7-F87EF30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A264-2824-4647-B680-D79ED90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7179-228C-47DC-AB93-22531F2B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A96E-C8F7-4663-A7F0-AF5440E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BF67-0E33-4CD1-BA08-F50CF2F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769F-FFE1-4A23-9391-FF0338A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6689-758A-4F3B-9CB0-6000924B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C2ED-216F-408C-95A2-9657B912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32B4-BA48-49C7-85A2-1F8F286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FBF-8C76-4F26-80A0-767FC66F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A71A-2537-4FDE-ABDE-0AE599C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EF7D-C59B-4A91-B220-079B8FA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84C4-2FA8-44EC-A8C4-F1D468A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BC43-DAF1-4497-A9BA-20E44A50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63BA-D936-4976-AE4B-14B0B52C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054D-19D4-4523-A948-E7A37BD0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2221-1402-40C7-BF61-F6B10EC7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1C45-B14E-458A-B916-1E786925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FB1F6-7BF3-41BB-9572-57180D60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CD33-1BDD-455A-9E2B-9247AB6C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E0A-04CE-47C1-BA94-58E78AD2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B117-D322-4F8B-A5B3-2500593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2931-5362-428B-9CD0-C8B9759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51FE-3589-4E7D-B1E4-D9069E7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8F52-51FF-4F19-BA00-E5A01B80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C134-0D84-4291-8CEE-1F42C93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2C94-2976-47F7-A5FD-2B55AE1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1431-926E-4439-A8CA-77B2296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F2B6-601F-4175-A6B4-0F092EEE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3C3D-012D-47F6-BDEC-5D139410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0DEF-DABE-4791-98A3-875B9761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3E5-9A84-487C-AB10-E1E32EF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E7F4-F9C6-4AFA-A5E7-CA41CB2C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25DD-6F66-48E0-A144-74A5262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9EFC-1017-400D-A0A7-06969D1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ED80F-3A50-4015-9045-C9ECB84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326E1-D339-4DF8-B14C-C36077F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D244-4919-4F32-8AB7-7810FA52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1A13-8F8B-4E18-8354-68F6B5F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0EBE-09C5-4047-9614-8E841F1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CE75-D74D-467C-8225-CD7FDE4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3FCD-3F22-4F1B-8D65-3D935DF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0E6-B4AF-4C59-80B6-95F7BB5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20A3-3575-443A-8699-82E6598E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1D7B-3556-4C0A-8055-5A497FA1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403B-2D48-405B-90EB-F33EEB4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C012-69E7-4119-9663-D8C418E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9441-30EF-4898-9229-7F2A1F1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3FD9-0998-4D0C-883A-9273321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6171-FB11-4948-9928-1CA0B0B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C1D3-8D31-4168-8BCB-C935CDE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91C3-7E6A-4B5D-AFFE-61AB93B3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A5B0-6993-4C27-BA68-1CBE5B9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DBD-1DA5-4892-AF4D-4D96246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A04D-77CC-47AC-BBB1-5FEDBE0C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A14CB-8547-49B0-A645-5AC14231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4ADA-F5D4-4A05-A003-2F1E7AC6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F2161-E208-4960-86D6-D5BE1E7C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E52D-CE64-4E68-B1E8-A16D81A5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EB6E-47AC-4821-9B10-4CAD218C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0111-60A8-431F-A07D-7561773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C389-29DB-4A88-B554-2074EBD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3B70-C77F-447D-A6EF-CE417ED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C5A5-C5FB-42F6-B33D-CE83145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7DD-005E-4EE1-B538-2D4578B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41552-36A3-4BFC-BEAB-22ABE87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EB1F-F8A0-4635-8F02-CA784B6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FF543-55AC-4A0E-809C-886B3DD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BB087-1AAC-4462-81B0-1D390021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693F-55DE-4A17-98BC-9D5A9C32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1135-DC46-4790-8091-3FCE9552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7EEF3-91B0-4239-A369-3A22E8B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9AB7-32AA-41C7-9EF9-9216066B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6352-F421-464A-915F-5583A82F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200E-9FC7-4312-8C0F-2A7E0F9B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612-32AA-4462-B8E8-D45E85E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CDDC-A152-4711-9175-6DC293A3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8211-C0F1-4A10-8FB1-C049290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1AD40-2966-48B7-81B5-E4B5FEEA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1116-9CEE-4466-A1E3-F96B766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057D-7E48-4DD0-8BFD-486F9CE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C7BD-9C00-4C6C-875F-69AD8AC9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B9ACF-8BCE-47A9-B385-D00FA8FC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3BEA-5340-4673-8B95-2E49AB71AF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DD3-0A94-4B9D-B8B1-D4C667DD02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A58-4542-461D-B115-0E5C852830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979-BB71-4BDC-A377-44F7A53DEF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F2F-D128-4E77-B5F9-34A14B049E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E81-6316-4587-8F02-A373B9078D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482-BD27-45F7-AE5F-BB482B411A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AFA-6460-4131-B9DB-BEE1E6B736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5168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30240" y="96840"/>
            <a:ext cx="9077400" cy="1573200"/>
          </a:xfrm>
          <a:prstGeom prst="rect">
            <a:avLst/>
          </a:prstGeom>
          <a:ln w="0">
            <a:noFill/>
          </a:ln>
        </p:spPr>
      </p:pic>
      <p:pic>
        <p:nvPicPr>
          <p:cNvPr id="372" name="Объект 3" descr="Картинки по запросу взаимное расположение окружности и прямой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Объект 1" descr=""/>
          <p:cNvPicPr/>
          <p:nvPr/>
        </p:nvPicPr>
        <p:blipFill>
          <a:blip r:embed="rId1"/>
          <a:stretch/>
        </p:blipFill>
        <p:spPr>
          <a:xfrm>
            <a:off x="457200" y="993600"/>
            <a:ext cx="8229600" cy="274320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2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1881360" y="5580000"/>
            <a:ext cx="6653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от плоскости до центра сфе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адиус 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37036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DA690635"/>
          <p:cNvPicPr/>
          <p:nvPr/>
        </p:nvPicPr>
        <p:blipFill>
          <a:blip r:embed="rId1"/>
          <a:stretch/>
        </p:blipFill>
        <p:spPr>
          <a:xfrm>
            <a:off x="5064120" y="831960"/>
            <a:ext cx="3276720" cy="43005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"/>
          <p:cNvSpPr/>
          <p:nvPr/>
        </p:nvSpPr>
        <p:spPr>
          <a:xfrm>
            <a:off x="1144080" y="5164200"/>
            <a:ext cx="7203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стояние от плоскости до центра 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радиус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Заголовок 8" descr=""/>
          <p:cNvPicPr/>
          <p:nvPr/>
        </p:nvPicPr>
        <p:blipFill>
          <a:blip r:embed="rId2"/>
          <a:stretch/>
        </p:blipFill>
        <p:spPr>
          <a:xfrm>
            <a:off x="457200" y="-1522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08396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тояние от центра сферы до плоскости </a:t>
            </a:r>
            <a:r>
              <a:rPr b="0" i="1" lang="ru-RU" sz="2700" spc="-1" strike="noStrike">
                <a:solidFill>
                  <a:srgbClr val="ff0000"/>
                </a:solidFill>
                <a:latin typeface="Lucida Sans Unicode"/>
              </a:rPr>
              <a:t>больш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радиуса сфер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Не имеют общих точе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стема не имеет решен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D0AFC84F"/>
          <p:cNvPicPr/>
          <p:nvPr/>
        </p:nvPicPr>
        <p:blipFill>
          <a:blip r:embed="rId1"/>
          <a:stretch/>
        </p:blipFill>
        <p:spPr>
          <a:xfrm>
            <a:off x="5105520" y="1114560"/>
            <a:ext cx="3276360" cy="3578040"/>
          </a:xfrm>
          <a:prstGeom prst="rect">
            <a:avLst/>
          </a:prstGeom>
          <a:ln w="0">
            <a:noFill/>
          </a:ln>
        </p:spPr>
      </p:pic>
      <p:sp>
        <p:nvSpPr>
          <p:cNvPr id="382" name="Объект 9"/>
          <p:cNvSpPr/>
          <p:nvPr/>
        </p:nvSpPr>
        <p:spPr>
          <a:xfrm>
            <a:off x="457200" y="108432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тояние от центра сферы до плоскости </a:t>
            </a:r>
            <a:r>
              <a:rPr b="0" i="1" lang="ru-RU" sz="2700" spc="-1" strike="noStrike">
                <a:solidFill>
                  <a:srgbClr val="ff0000"/>
                </a:solidFill>
                <a:latin typeface="Lucida Sans Unicode"/>
              </a:rPr>
              <a:t>равн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радиусу сфе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Одна общая точ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стема имеет единственное реш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Заголовок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Случай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144080" y="5164200"/>
            <a:ext cx="7203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стояние от плоскости до центра 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радиус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1C187FD9"/>
          <p:cNvPicPr/>
          <p:nvPr/>
        </p:nvPicPr>
        <p:blipFill>
          <a:blip r:embed="rId1"/>
          <a:stretch/>
        </p:blipFill>
        <p:spPr>
          <a:xfrm>
            <a:off x="5334120" y="1077840"/>
            <a:ext cx="3200400" cy="3554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1"/>
          <p:cNvSpPr/>
          <p:nvPr/>
        </p:nvSpPr>
        <p:spPr>
          <a:xfrm>
            <a:off x="5113080" y="4632480"/>
            <a:ext cx="30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ус окружности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Заголовок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Случай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125000" y="4986360"/>
            <a:ext cx="7203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стояние от плоскости до центра 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радиус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бъект 9"/>
          <p:cNvSpPr/>
          <p:nvPr/>
        </p:nvSpPr>
        <p:spPr>
          <a:xfrm>
            <a:off x="457200" y="108432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тояние от центра сферы до плоскости </a:t>
            </a:r>
            <a:r>
              <a:rPr b="0" i="1" lang="ru-RU" sz="2700" spc="-1" strike="noStrike">
                <a:solidFill>
                  <a:srgbClr val="ff0000"/>
                </a:solidFill>
                <a:latin typeface="Lucida Sans Unicode"/>
              </a:rPr>
              <a:t>меньш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радиуса сфе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ечение – окружнос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стема имеет более одного реш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12-10T18:22:5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