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4.png" ContentType="image/png"/>
  <Override PartName="/ppt/media/image9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12.jpeg" ContentType="image/jpeg"/>
  <Override PartName="/ppt/media/image1.jpeg" ContentType="image/jpeg"/>
  <Override PartName="/ppt/media/image7.png" ContentType="image/png"/>
  <Override PartName="/ppt/media/image8.png" ContentType="image/png"/>
  <Override PartName="/ppt/media/image5.png" ContentType="image/png"/>
  <Override PartName="/ppt/media/image10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5D00C-12D5-4529-AE1F-DBB4C9E39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5E961-D8EA-4D85-BDC2-94EB0C4DD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29517-DDA9-4DC4-B062-3696B048C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1C035-07B4-4FDE-9DBA-41099D528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58FE6-2EA3-4D0C-A8F7-AB8B532B3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D4F2B-5AB8-4FCE-B762-A7E55C89D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26E16-81D5-4CBA-86AB-E7BC1238A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1EEA9-95FE-4846-BF52-2A5237A13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BD5B6-D9EC-480E-97FE-673CF6DE0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A55FA-29B1-40E0-8A75-6889EFA25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FFC2A-99AE-415F-984F-490C53F33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9616C-6B4A-489A-8430-44CB14F24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F7B8F-50F8-458C-BE29-5FA2A572AC0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126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 Light"/>
              </a:rPr>
              <a:t>Тема урока: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 Light"/>
              </a:rPr>
              <a:t> Что делает человека человеком?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2" name="Содержимое 3" descr="загруженное.jpg"/>
          <p:cNvPicPr/>
          <p:nvPr/>
        </p:nvPicPr>
        <p:blipFill>
          <a:blip r:embed="rId1"/>
          <a:stretch/>
        </p:blipFill>
        <p:spPr>
          <a:xfrm>
            <a:off x="900000" y="2060640"/>
            <a:ext cx="770436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66" name="Содержимое 3" descr="img6.jpg"/>
          <p:cNvPicPr/>
          <p:nvPr/>
        </p:nvPicPr>
        <p:blipFill>
          <a:blip r:embed="rId1"/>
          <a:stretch/>
        </p:blipFill>
        <p:spPr>
          <a:xfrm>
            <a:off x="468360" y="476280"/>
            <a:ext cx="8351640" cy="588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512280"/>
            <a:ext cx="7772400" cy="565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alibri Light"/>
              </a:rPr>
              <a:t>Главные виды человеческой деятельности:</a:t>
            </a:r>
            <a:br>
              <a:rPr sz="6000"/>
            </a:br>
            <a:r>
              <a:rPr b="0" lang="ru-RU" sz="6000" spc="-1" strike="noStrike">
                <a:solidFill>
                  <a:srgbClr val="000000"/>
                </a:solidFill>
                <a:latin typeface="Calibri Light"/>
              </a:rPr>
              <a:t>Игра, учеба, труд, общение.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233280" y="765000"/>
            <a:ext cx="867744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 rot="10800000">
            <a:off x="1691640" y="-171360"/>
            <a:ext cx="14292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 Light"/>
              </a:rPr>
              <a:t>овек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71" name="Содержимое 3" descr="img4.jpg"/>
          <p:cNvPicPr/>
          <p:nvPr/>
        </p:nvPicPr>
        <p:blipFill>
          <a:blip r:embed="rId1"/>
          <a:stretch/>
        </p:blipFill>
        <p:spPr>
          <a:xfrm>
            <a:off x="468360" y="189000"/>
            <a:ext cx="842472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30000" y="456840"/>
            <a:ext cx="294948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 Light"/>
              </a:rPr>
              <a:t>Вывод по схеме: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73" name="Содержимое 6" descr="images (1).jpg"/>
          <p:cNvPicPr/>
          <p:nvPr/>
        </p:nvPicPr>
        <p:blipFill>
          <a:blip r:embed="rId1"/>
          <a:stretch/>
        </p:blipFill>
        <p:spPr>
          <a:xfrm>
            <a:off x="684360" y="3645000"/>
            <a:ext cx="2619360" cy="17431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92000" y="115920"/>
            <a:ext cx="5327640" cy="516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Для человека одинаково важны оба начала, и биологическое и социально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тличие человека от животных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Человек способен производить и совершенствовать орудия труда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ладает высокоорганизованным мозгом, мышлением и членораздельной речью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н способен к целенаправленной творческой деятельност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000000"/>
                </a:solidFill>
                <a:latin typeface="Calibri Light"/>
              </a:rPr>
              <a:t>д/з </a:t>
            </a:r>
            <a:br>
              <a:rPr sz="4300"/>
            </a:br>
            <a:r>
              <a:rPr b="0" lang="ru-RU" sz="4300" spc="-1" strike="noStrike">
                <a:solidFill>
                  <a:srgbClr val="000000"/>
                </a:solidFill>
                <a:latin typeface="Calibri Light"/>
              </a:rPr>
              <a:t>§ 1 (работа по вопросам после параграфа)</a:t>
            </a:r>
            <a:endParaRPr b="0" lang="en-US" sz="4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76" name="Picture 2" descr=""/>
          <p:cNvPicPr/>
          <p:nvPr/>
        </p:nvPicPr>
        <p:blipFill>
          <a:blip r:embed="rId1"/>
          <a:stretch/>
        </p:blipFill>
        <p:spPr>
          <a:xfrm>
            <a:off x="133200" y="2100240"/>
            <a:ext cx="8877600" cy="435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Содержимое 3" descr="img1.jpg"/>
          <p:cNvPicPr/>
          <p:nvPr/>
        </p:nvPicPr>
        <p:blipFill>
          <a:blip r:embed="rId1"/>
          <a:stretch/>
        </p:blipFill>
        <p:spPr>
          <a:xfrm>
            <a:off x="539640" y="476280"/>
            <a:ext cx="820908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763640" y="-5210640"/>
            <a:ext cx="216000" cy="996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6" name="Содержимое 3" descr="img2.jpg"/>
          <p:cNvPicPr/>
          <p:nvPr/>
        </p:nvPicPr>
        <p:blipFill>
          <a:blip r:embed="rId1"/>
          <a:stretch/>
        </p:blipFill>
        <p:spPr>
          <a:xfrm>
            <a:off x="539640" y="189000"/>
            <a:ext cx="835344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1640" y="-5067000"/>
            <a:ext cx="144360" cy="996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8" name="Содержимое 3" descr="img3.jpg"/>
          <p:cNvPicPr/>
          <p:nvPr/>
        </p:nvPicPr>
        <p:blipFill>
          <a:blip r:embed="rId1"/>
          <a:stretch/>
        </p:blipFill>
        <p:spPr>
          <a:xfrm>
            <a:off x="395280" y="260280"/>
            <a:ext cx="849780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28560" y="1825200"/>
            <a:ext cx="7886880" cy="43513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" descr=""/>
          <p:cNvPicPr/>
          <p:nvPr/>
        </p:nvPicPr>
        <p:blipFill>
          <a:blip r:embed="rId2"/>
          <a:stretch/>
        </p:blipFill>
        <p:spPr>
          <a:xfrm>
            <a:off x="0" y="404640"/>
            <a:ext cx="9144000" cy="61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28560" y="1825200"/>
            <a:ext cx="7886880" cy="43513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"/>
          <p:cNvPicPr/>
          <p:nvPr/>
        </p:nvPicPr>
        <p:blipFill>
          <a:blip r:embed="rId2"/>
          <a:stretch/>
        </p:blipFill>
        <p:spPr>
          <a:xfrm>
            <a:off x="104760" y="620640"/>
            <a:ext cx="893448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30000" y="365040"/>
            <a:ext cx="788652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Заполните схему: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42960" y="3571560"/>
            <a:ext cx="3868560" cy="824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66000"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Биологические потребности человек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6840" y="6858000"/>
            <a:ext cx="2746440" cy="17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43280" y="2928600"/>
            <a:ext cx="3888000" cy="824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67000"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Социальные потребност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628560" y="1825200"/>
            <a:ext cx="7886880" cy="43513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" descr=""/>
          <p:cNvPicPr/>
          <p:nvPr/>
        </p:nvPicPr>
        <p:blipFill>
          <a:blip r:embed="rId2"/>
          <a:stretch/>
        </p:blipFill>
        <p:spPr>
          <a:xfrm>
            <a:off x="181080" y="549360"/>
            <a:ext cx="8781840" cy="54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628560" y="1825200"/>
            <a:ext cx="7886880" cy="43513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" descr=""/>
          <p:cNvPicPr/>
          <p:nvPr/>
        </p:nvPicPr>
        <p:blipFill>
          <a:blip r:embed="rId2"/>
          <a:stretch/>
        </p:blipFill>
        <p:spPr>
          <a:xfrm>
            <a:off x="90360" y="333360"/>
            <a:ext cx="8963280" cy="59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9-11T06:31:07Z</dcterms:created>
  <dc:creator>Вечканова</dc:creator>
  <dc:description/>
  <dc:language>en-US</dc:language>
  <cp:lastModifiedBy>anna</cp:lastModifiedBy>
  <dcterms:modified xsi:type="dcterms:W3CDTF">2019-12-05T08:34:05Z</dcterms:modified>
  <cp:revision>9</cp:revision>
  <dc:subject/>
  <dc:title>Что делает человека человеком?</dc:title>
</cp:coreProperties>
</file>