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9AE-04B8-487A-9F7B-F9A54537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E51-8972-45A0-AEE5-EAA43A31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5F6B-DAF3-4EFC-8FB9-C2E36AB4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F54-8D0C-4450-85FA-A44F8ABE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EFF4-B377-4B16-B87F-CCC71CC9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337C-060B-4639-856D-16B2955F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0267-D1AB-4A43-8461-C9786F00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37DA-559A-432A-8A50-2B220D6E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5809-15B5-4260-9B33-E4D35B65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971B-E835-45D5-BEC2-8DCB53AA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82DA-F569-4168-B8D3-A3BC5A2E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FA7-99B9-45F8-9DF3-5CB2126B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0E55-7F1B-4051-B346-0260C44E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5042-59C6-4570-8718-CECCC1FB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A57C-4E28-47C1-A6E5-EC2AED1B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21DA-CFC0-45D2-9A45-BD92C071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CED2-9B31-47B5-8630-BD5D169C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AC484-3D43-4676-A297-4E49F55E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3E639-FBD2-4285-9091-8B841BBA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CCCEC-2DA8-4884-A572-0D245304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81ED0-E608-4242-AB59-B1C9A30A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435CB-FBD5-4EBA-8772-18EA3ACF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D58-9A02-4FEA-91BF-4E76B5D7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F069B-190A-4319-B053-F0B1C402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F7D3E-D450-42E1-A829-CC942EA2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1DBB0-0364-48FF-9680-278FF6F3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598C0-8E62-464C-BD16-9F2DFE20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41AC5-F105-4383-BBB6-69461C0F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30FB4-FADB-420F-8B48-8EF2D18A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CF7E6-C6FB-4B19-87A7-9DE1DFD5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95156-6E47-4B50-8086-83456E9D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44219-8157-41E2-93D8-01F4B353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9B1AE-026E-42D9-AE8A-E38C5CE5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59E-EB02-4940-BB51-53AF5781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A8F87-6ED9-468F-97AB-B416EAA9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91CF1-42FB-49C4-96B9-019C2F83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EB4D6-36CE-4273-A978-D66A7D9F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9F513-041F-4D17-BA13-9C47358C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2A9CB-C83D-42E6-B06D-17E8F40C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6BDBE-E445-4B8D-844B-AF250873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86F0B-D8F5-4AD2-A97B-C964285D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C6594-617F-4F20-AC7F-774F95CE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60728-A803-4A36-AA25-930EF1F0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F7D1A-C0A7-49B6-892D-5D4FE5BB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DEF-31EC-4C73-AC4B-182FC235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37F04-FCA9-478C-98C3-04D339E4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C1CD8-6E21-42C8-92BC-C5403163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6A185-A39B-462C-B5A3-E7F20A44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A00A6-6B4D-4DEF-ACBF-02469574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4BF8F-0CD2-4E26-8854-CBC1A312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63562-CCF4-4D64-AA22-44AC4BF4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CC711-C900-4A4C-9C06-DABEFEAB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4F241-867C-4F85-B919-9E385AF3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ACDDB-1554-4EBB-929B-66EF038B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ED73A-661A-406A-AE91-0DFCAE0B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3C1-E364-44A9-A542-ED1DB6C0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473E5-4928-4197-9F5F-476231A1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FF5BE-2B5A-47B1-B847-DEE8B53E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DB2AD-FCD0-4A79-A798-ED5E6C05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28A47-2DCC-439B-89DD-EE0360F7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ED927-C1EC-4002-9824-4AB650B0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66290-DFBC-4408-B6A0-B10D39AA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D6A79-0CA3-4C0E-8049-A04F0867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15E71-1705-4368-9589-7B411651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9E7B4-1A6B-4984-A5B9-B2DD172A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14C58-FEEC-418F-BFAE-72B3AFBD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8F6-9AEB-460E-AF87-E6D896D6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6E56A-B5F7-492D-A732-67417BC8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95288-E50C-4D4C-853B-44076B1D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B6FB7-319B-46F0-8ED8-58411F1B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0D9-A60D-4AC8-8171-7AE5F1CC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03F5-7609-4DD2-A70D-F43501DA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08F4-4C49-4181-A63B-1E75EAAC104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CB07-C97F-4535-A771-67F9D974748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DB2E-AA30-47CF-9CBE-D03255960F2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03D4-FB21-4F78-9AB0-1839B72BA6E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7A84-3A99-475F-B83B-E7A68014DC4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0EEF-1619-4198-8327-2A95F4257A4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6560" y="1196640"/>
            <a:ext cx="582804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0c226"/>
                </a:solidFill>
                <a:latin typeface="Times New Roman"/>
              </a:rPr>
              <a:t>Наш округ - седой богатырь.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582624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7f7f7f"/>
                </a:solidFill>
                <a:latin typeface="Times New Roman"/>
              </a:rPr>
              <a:t>Ханты-Мансийский  автономный округ - Югра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8" name="Рисунок 1" descr=""/>
          <p:cNvPicPr/>
          <p:nvPr/>
        </p:nvPicPr>
        <p:blipFill>
          <a:blip r:embed="rId1"/>
          <a:stretch/>
        </p:blipFill>
        <p:spPr>
          <a:xfrm>
            <a:off x="5148360" y="30240"/>
            <a:ext cx="2011320" cy="1431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3" name="Picture 2" descr="C:\Users\Венера\Desktop\Все к конспекту Наш округ седой богатырь\Чем знаменит округ..jpg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337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5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Нефть и газ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7" name="Picture 3" descr="C:\Users\Венера\Desktop\Все к конспекту Наш округ седой богатырь\НЕФТЬ И ГАЗ.jpg"/>
          <p:cNvPicPr/>
          <p:nvPr/>
        </p:nvPicPr>
        <p:blipFill>
          <a:blip r:embed="rId1"/>
          <a:stretch/>
        </p:blipFill>
        <p:spPr>
          <a:xfrm>
            <a:off x="1403280" y="1773360"/>
            <a:ext cx="6516720" cy="3887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68000" y="2060640"/>
            <a:ext cx="821844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Наш округ – седой богатырь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Свой дух возродил величаво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Опора России – Урал и Сибирь!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Гордимся Югрою по праву!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Из Гимна ХМАО - Югр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0" name="Picture 5" descr="image_813"/>
          <p:cNvPicPr/>
          <p:nvPr/>
        </p:nvPicPr>
        <p:blipFill>
          <a:blip r:embed="rId1"/>
          <a:stretch/>
        </p:blipFill>
        <p:spPr>
          <a:xfrm>
            <a:off x="2987640" y="260280"/>
            <a:ext cx="2008080" cy="1433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22" name="Picture 2" descr="C:\Users\Венера\Desktop\Все к конспекту Наш округ седой богатырь\ХАНТЫ -МАНСИЙСКИЙ АВТОНОМНЫЙ ОКРУГ ЮГРА.jpg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33360"/>
            <a:ext cx="7850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         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Герб ХМАО-ЮГР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24" name="Picture 2" descr="C:\Users\Венера\Desktop\Все к конспекту Наш округ седой богатырь\Герб ХМАО.png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84360" y="907560"/>
            <a:ext cx="2808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Флаг </a:t>
            </a:r>
            <a:br>
              <a:rPr sz="3200"/>
            </a:br>
            <a:r>
              <a:rPr b="0" lang="ru-RU" sz="3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Ханты -Мансийского автономного округа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95280" y="6165720"/>
            <a:ext cx="7848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7" name="Picture 5" descr="C:\Users\Венера\Desktop\Все к конспекту Наш округ седой богатырь\Флаг ХМАО.jpg"/>
          <p:cNvPicPr/>
          <p:nvPr/>
        </p:nvPicPr>
        <p:blipFill>
          <a:blip r:embed="rId1"/>
          <a:stretch/>
        </p:blipFill>
        <p:spPr>
          <a:xfrm>
            <a:off x="395280" y="476280"/>
            <a:ext cx="561672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0" name="Picture 2" descr="C:\Users\Венера\Desktop\Все к конспекту Наш округ седой богатырь\Гимн ХМАО-ЮГРЫ.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193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3" name="Picture 2" descr="C:\Users\Венера\Desktop\Все к конспекту Наш округ седой богатырь\Кто такие ханты и манси.jpg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6" name="Picture 2" descr="C:\Users\Венера\Desktop\img3 (6).jpg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9" name="Picture 2" descr="C:\Users\Венера\Desktop\Все к конспекту Наш округ седой богатырь\img11 (9).jpg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4:55:42Z</dcterms:created>
  <dc:creator>4</dc:creator>
  <dc:description/>
  <dc:language>en-US</dc:language>
  <cp:lastModifiedBy>Пользователь Windows</cp:lastModifiedBy>
  <dcterms:modified xsi:type="dcterms:W3CDTF">2019-12-05T14:50:39Z</dcterms:modified>
  <cp:revision>31</cp:revision>
  <dc:subject/>
  <dc:title>Моя малая Родина</dc:title>
</cp:coreProperties>
</file>