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1881-9719-4A64-A339-DC5CF23CE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F607-F18E-4D6C-AA2B-537B2CABD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ABE4-BB41-4DB4-91FB-18B1FA94B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46F-7EC3-47FB-8837-6ADA95858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0A41-5F17-4B5A-8671-106B589A4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7FE-D543-45E5-92DF-B057707F7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A03-A689-41AA-9835-E5710969C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96D4-06F0-4C7D-ADFF-1806184E0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5D8-ABD3-400B-A769-2D7E66032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3A28-4A46-4546-A0EF-697A0F098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D56-1D00-4DE9-81BC-DCEFC5109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E0D-7EA0-44B1-9FEC-1A1344BD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CB1-1817-48B8-ADBB-6B37E5CE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7BE-B5EB-4233-8E25-92A8967A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5BC-4F21-48FB-AF81-F04E5173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A7F1-06D0-4BA4-BEA2-5AD36E0C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82A-8E1C-44A0-84B0-740EA1F6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8ABB-C668-4E00-B047-BAE6E5DF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2FEE-2A38-4D2F-A5B8-6E7E8FF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E3EF-787B-4ECF-BCEB-23EF1C6C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3055-CE14-4DC7-8011-EDE98D3D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9099-CB9F-430F-ADAC-86FB8E1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46D-DF20-43F3-BADC-7F48D39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C9BD-C747-45B6-8317-0BE12FD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A87C-C9B0-4060-AB50-E3C1A44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4080-B161-45DB-81E8-49A828D5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3D6-1E7F-405C-8222-A1A8C9F6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70E1-AC3A-41F5-88EC-EFDD42A8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582A4-082B-4EF2-BCF1-97FBF738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0D4E4-1969-42D0-9B3A-550EB3C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24D3C-7CDB-4D6F-8E6D-94BBF32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F84DE-1740-4366-A3F9-6D01C5BC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C6E90-43F5-4BCB-A198-B5D84632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EA9-A10E-471F-859E-A4AE4515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5C3F9-7C55-44CC-8A7E-A142037C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0ADB3-9060-4752-957D-EF49B9F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D99CC-2B51-45C0-AB06-7518135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4E549-0447-4C1B-9E26-7A7A204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C0A77-3BA2-404C-A4B9-BA4A05B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96977-106B-4BDD-ADC1-BF83C986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C2168-A0B5-4772-AA08-BC49C203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DC37-481A-4093-A437-8AA65B99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1213-E31E-436B-B4B3-2D3D3001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3C4E-6489-4B4E-A3EF-300791A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236-9B63-4A9A-B705-B67D253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73F4-97F4-4B30-B9F2-CE56EF9F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A6D2-0914-4C4F-9B9B-BCC54AD5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AC00-65C2-433C-9C38-EAF4A806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AE09-C154-4C87-8C8E-655F81E4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2DFE-3354-49A9-A9C8-873CB87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B688-EA0D-4A88-AE48-0653D47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8D16-664B-427F-B4AB-9287C560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4CF0-1C7C-4688-8A80-EAC59426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3818-9F86-4357-85AC-A946E46F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C171F-76F7-4732-9F8F-EA807DDA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DE5-71A0-4B01-B565-46452B3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EB295-5993-4341-90DD-10324CC3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0F5BB-4A23-419C-8908-0F96FAF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E3122-0C90-4A2C-88FC-90409E50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69FB9-5080-48B9-9C66-BBD0234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3497E-1CDF-4CE2-A0B1-CFA6C0A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AB19F-A8DE-4B92-9DD0-A289B7E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9C6BA-3147-485A-896B-77E630D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4F274-E794-441C-930C-346A9D5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9F8A8-CAAF-48D3-B1F6-5C0C3E95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B8C54-A54E-46AC-A44F-CFCBA76A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EA9-779B-42F4-83FC-FB216871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E178E-A723-4B78-993E-8BD58909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1E4FC-0502-4E62-BC32-A9368917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E7AD4-68E2-46C8-BBBA-B1D129F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29C96-D914-4FD4-8B6D-2EACC30D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A8187-7C02-4393-9815-5D9A338D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5C69A-AA89-4771-8979-942E2D5D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B435C-5245-4427-A8D7-14888372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D097D-D6A0-4DEB-BD0C-147C9FF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FBD09-A4FB-429E-A58B-3013EA0C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87906-7599-4584-AB72-9382EF6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3F4-7975-4A87-9E06-B3CAD4A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EEB11-027C-47BB-8434-89B9155E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08C10-15F9-405F-8299-154BC9BD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E2D32-58C3-4132-9A05-6B62FCBE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F3E80-FC77-48F9-9724-B73F4227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9FCA4-5E7A-40E6-9E88-8D29C94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C8761-3815-4DA0-837C-9C2CA648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9A8F2-3907-459F-AA5E-0B48ED90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19365-88F2-4E06-BEFE-D744D14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75BD6-55C9-4E72-B391-BBDA6644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02621-FADE-4C36-B892-4EE3D89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D64-2B26-4FC9-80F4-18F3A08B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46E92-1108-4A3E-BB4E-0C1A6E33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E0128-0A14-4AA2-BF7E-2BE0392B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6FAFE-DCE8-4127-B62F-C1634380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8FB57-8922-4E07-A4B4-9FA1E6FB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496F6-8AB9-422A-8864-C1F859CD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977-B489-4BA0-A9C9-A3BE10D5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36E-5EA9-4690-98F4-87BA882BA81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405F-585A-48C8-BBBE-E0A3062D0A8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20B7-26F0-4292-A03D-110DDB20A7E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F1BC-85DD-4012-AA37-9D06E61478A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9F95-591C-4CC3-883D-19CED48C6D3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0668-F1E0-4CF2-A782-A6E259C6DFD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193-C1C0-4060-816A-DBE57FEE4E0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1066680" y="838080"/>
            <a:ext cx="7086600" cy="36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Азбука  здорового  питани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9" name="Picture 5" descr="i"/>
          <p:cNvPicPr/>
          <p:nvPr/>
        </p:nvPicPr>
        <p:blipFill>
          <a:blip r:embed="rId1"/>
          <a:stretch/>
        </p:blipFill>
        <p:spPr>
          <a:xfrm>
            <a:off x="380880" y="4648320"/>
            <a:ext cx="1638360" cy="1428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0_7e3b9_358dcb32_XL"/>
          <p:cNvPicPr/>
          <p:nvPr/>
        </p:nvPicPr>
        <p:blipFill>
          <a:blip r:embed="rId2"/>
          <a:stretch/>
        </p:blipFill>
        <p:spPr>
          <a:xfrm>
            <a:off x="4648320" y="4952880"/>
            <a:ext cx="17524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S6303827"/>
          <p:cNvPicPr/>
          <p:nvPr/>
        </p:nvPicPr>
        <p:blipFill>
          <a:blip r:embed="rId1"/>
          <a:stretch/>
        </p:blipFill>
        <p:spPr>
          <a:xfrm>
            <a:off x="762120" y="990720"/>
            <a:ext cx="6933960" cy="462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685800" y="380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 такое здоровое пит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457200" y="1219320"/>
            <a:ext cx="7086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Это питание, которое обеспечивает рост, нормальное развитие и жизнь человека, помогает укреплять здоровье и защищает от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57200" y="2895480"/>
            <a:ext cx="57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ие продукты полез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0880" y="34290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одукты здорового питания – это натуральные продукты: злаки, свежие овощи, фрукты, кисло–молочные продукты, орехи и другие продукты, богатые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полезными вещ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0_7dbc9_5fd5e2c3_L"/>
          <p:cNvPicPr/>
          <p:nvPr/>
        </p:nvPicPr>
        <p:blipFill>
          <a:blip r:embed="rId1"/>
          <a:stretch/>
        </p:blipFill>
        <p:spPr>
          <a:xfrm>
            <a:off x="4648320" y="4572000"/>
            <a:ext cx="3124080" cy="196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533520" y="3276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питания в современных условиях значительно повышается в связи с ухудшением состояния здоровья детей в результате целого комплекса причин. Практически во всех регионах страны в последние годы отмечается заболеваемость детей, обусловленная неправильным питанием, это хронические заболевания органов пищеварения, эндокринной, костно - мышечной систем, анемия, ожирение и сахарный диабет. Более чем у 60% детей отмечается дефицит витаминов и минеральных веществ. Как же обеспечить здоровое питание в детском саду и до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0_7dbcd_41797cbf_L"/>
          <p:cNvPicPr/>
          <p:nvPr/>
        </p:nvPicPr>
        <p:blipFill>
          <a:blip r:embed="rId1"/>
          <a:stretch/>
        </p:blipFill>
        <p:spPr>
          <a:xfrm>
            <a:off x="5486400" y="4952880"/>
            <a:ext cx="1195560" cy="1524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0_7dbd1_ad6af740_L"/>
          <p:cNvPicPr/>
          <p:nvPr/>
        </p:nvPicPr>
        <p:blipFill>
          <a:blip r:embed="rId2"/>
          <a:stretch/>
        </p:blipFill>
        <p:spPr>
          <a:xfrm>
            <a:off x="685800" y="4952880"/>
            <a:ext cx="1387440" cy="1524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0_7dba6_c752ec48_L"/>
          <p:cNvPicPr/>
          <p:nvPr/>
        </p:nvPicPr>
        <p:blipFill>
          <a:blip r:embed="rId3"/>
          <a:stretch/>
        </p:blipFill>
        <p:spPr>
          <a:xfrm>
            <a:off x="2895480" y="5029200"/>
            <a:ext cx="1524240" cy="128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533520" y="320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всего организация питания в детском саду должна сочетаться с правильным питанием ребёнка в семье. Нужно стремиться. Чтобы домашнее питание дополняло рацион детского сада. С этой целью родители должны знакомится с меню, ежедневно вывешиваемое в группах. Поэтому на ужин лучше предлагать те продукты и блюда, которые ребёнок не получал в детском саду, а в выходные и праздники его рацион лучше приблизить к садовск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harchuvannya-dytyny-v-2-roky1"/>
          <p:cNvPicPr/>
          <p:nvPr/>
        </p:nvPicPr>
        <p:blipFill>
          <a:blip r:embed="rId1"/>
          <a:stretch/>
        </p:blipFill>
        <p:spPr>
          <a:xfrm>
            <a:off x="5105520" y="37339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0_7dbc9_5fd5e2c3_L"/>
          <p:cNvPicPr/>
          <p:nvPr/>
        </p:nvPicPr>
        <p:blipFill>
          <a:blip r:embed="rId2"/>
          <a:stretch/>
        </p:blipFill>
        <p:spPr>
          <a:xfrm>
            <a:off x="914400" y="449568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457200" y="46620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 о питании важным является и вопрос воспитания культуры поведения детей за столом. Правильная и красивая сервировка стола поднимает аппетит и создает доброжелательный настрой у детей. Умение вести себя за столом, пользоваться столовыми приборами и салфетками развивает у детей уверенность в себе, способствует их общему развитию, развитию социальной компетентности, вк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Sv_27_02"/>
          <p:cNvPicPr/>
          <p:nvPr/>
        </p:nvPicPr>
        <p:blipFill>
          <a:blip r:embed="rId1"/>
          <a:stretch/>
        </p:blipFill>
        <p:spPr>
          <a:xfrm>
            <a:off x="3657600" y="2971800"/>
            <a:ext cx="4038480" cy="3409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lunchmenu"/>
          <p:cNvPicPr/>
          <p:nvPr/>
        </p:nvPicPr>
        <p:blipFill>
          <a:blip r:embed="rId2"/>
          <a:stretch/>
        </p:blipFill>
        <p:spPr>
          <a:xfrm>
            <a:off x="304920" y="4876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609480" y="304920"/>
            <a:ext cx="59436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следовательность блюд должна быть постоя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еред ребенком нужно ставить только одно блю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Еда не должна быть ни слишком холодной, ни слишком горя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о время еды не разговар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от и руки вытирают бумажной салфет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е следует допускать во время е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ромких разговоров и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торапливан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осильного к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суждения ребенка за неосторожность, неопр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78255193_ovoschi"/>
          <p:cNvPicPr/>
          <p:nvPr/>
        </p:nvPicPr>
        <p:blipFill>
          <a:blip r:embed="rId1"/>
          <a:stretch/>
        </p:blipFill>
        <p:spPr>
          <a:xfrm>
            <a:off x="5257800" y="4724280"/>
            <a:ext cx="2743200" cy="1720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304920" y="228600"/>
            <a:ext cx="65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ень ребенок должен получать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и полочные прод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ры (сливочное мас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821329052"/>
          <p:cNvPicPr/>
          <p:nvPr/>
        </p:nvPicPr>
        <p:blipFill>
          <a:blip r:embed="rId1"/>
          <a:stretch/>
        </p:blipFill>
        <p:spPr>
          <a:xfrm>
            <a:off x="457200" y="3892680"/>
            <a:ext cx="1981080" cy="2641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0_7dba8_4bf1b91a_L"/>
          <p:cNvPicPr/>
          <p:nvPr/>
        </p:nvPicPr>
        <p:blipFill>
          <a:blip r:embed="rId2"/>
          <a:stretch/>
        </p:blipFill>
        <p:spPr>
          <a:xfrm>
            <a:off x="6477120" y="2057400"/>
            <a:ext cx="1239840" cy="1523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iR13OY7LP"/>
          <p:cNvPicPr/>
          <p:nvPr/>
        </p:nvPicPr>
        <p:blipFill>
          <a:blip r:embed="rId3"/>
          <a:stretch/>
        </p:blipFill>
        <p:spPr>
          <a:xfrm>
            <a:off x="3429000" y="4876920"/>
            <a:ext cx="1533600" cy="1428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0_7dbdd_8ad0507b_L"/>
          <p:cNvPicPr/>
          <p:nvPr/>
        </p:nvPicPr>
        <p:blipFill>
          <a:blip r:embed="rId4"/>
          <a:stretch/>
        </p:blipFill>
        <p:spPr>
          <a:xfrm>
            <a:off x="5562720" y="3886200"/>
            <a:ext cx="1523880" cy="1246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457200" y="228600"/>
            <a:ext cx="7620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ребенок ел хорошо, еда долж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влять ему удоволь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лядеть аппети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интересно оформ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iNWGBMVM1"/>
          <p:cNvPicPr/>
          <p:nvPr/>
        </p:nvPicPr>
        <p:blipFill>
          <a:blip r:embed="rId1"/>
          <a:stretch/>
        </p:blipFill>
        <p:spPr>
          <a:xfrm>
            <a:off x="304920" y="35053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iNMDVHFKT"/>
          <p:cNvPicPr/>
          <p:nvPr/>
        </p:nvPicPr>
        <p:blipFill>
          <a:blip r:embed="rId2"/>
          <a:stretch/>
        </p:blipFill>
        <p:spPr>
          <a:xfrm>
            <a:off x="3886200" y="289548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2"/>
          <p:cNvSpPr/>
          <p:nvPr/>
        </p:nvSpPr>
        <p:spPr>
          <a:xfrm>
            <a:off x="380880" y="228600"/>
            <a:ext cx="7467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 делать, если ребёнок плохо е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яснить, не может ли это быть связано с каким-либо заболеванием или однообразием приготовленной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торопите ребёнка, пусть он хоть и медленно, но справляется с блюдом, медленно пережёвывает пищ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228600" y="289548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которые дети пьют во время еды много воды, что снижает объём потребляемой пищи и её усвоение. Однако при плохом аппетите разрешите малышу запивать небольшими глоточками густую и твёрдую пищ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прибегайте к кормлению насильно. Если ребёнок отказывается от еды, лучше пропустить одно кормление вообще, чем настаивать и доводить его до слёз. Не кормите с уговорами, с развлечениями, во время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9:32:12Z</dcterms:created>
  <dc:creator>PC</dc:creator>
  <dc:description/>
  <dc:language>en-US</dc:language>
  <cp:lastModifiedBy>7</cp:lastModifiedBy>
  <dcterms:modified xsi:type="dcterms:W3CDTF">2016-04-16T08:59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