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AD8-47F6-454E-8C86-67BD5817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A5C-A55E-4693-95FB-C7E2C14D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5BB-EB91-479F-A6B6-0BF895BA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334-13AD-4482-BD99-4C7C8278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3C0-711F-4231-BD3B-DA632336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4A8-8BDA-4047-BB6C-4DFB7B8F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B93-45AC-4D56-969B-B6F19A27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431-9B7E-4E5F-B220-8051CDA6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5C7-1F06-4FBE-8F5C-CA98108B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FD2-299F-44B0-9891-23395C84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D3F-E02B-410F-B002-2084FBAB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854-3816-46EE-A56B-43CC296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80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3F85-2E39-460A-B54E-AE58D53F26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jpeg"/><Relationship Id="rId3" Type="http://schemas.openxmlformats.org/officeDocument/2006/relationships/image" Target="../media/image21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image" Target="../media/image32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Урок – путешествие по теме «Жемчужина Сибири – Байкал»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11" descr="байкал25"/>
          <p:cNvPicPr/>
          <p:nvPr/>
        </p:nvPicPr>
        <p:blipFill>
          <a:blip r:embed="rId1"/>
          <a:stretch/>
        </p:blipFill>
        <p:spPr>
          <a:xfrm>
            <a:off x="2484360" y="227664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Промысловые</a:t>
            </a: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рыбы</a:t>
            </a: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Байкала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муль                        Сиг             Осётр        Хариу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озере есть весьма ценные промысловые рыбы и животные. Это прежде всего знаменитый омуль – необычно нежная и приятная на вкус рыба, а также сиг, осетр, хариу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9" descr="омуль"/>
          <p:cNvPicPr/>
          <p:nvPr/>
        </p:nvPicPr>
        <p:blipFill>
          <a:blip r:embed="rId1"/>
          <a:stretch/>
        </p:blipFill>
        <p:spPr>
          <a:xfrm>
            <a:off x="179280" y="1628640"/>
            <a:ext cx="2881440" cy="1878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сиг"/>
          <p:cNvPicPr/>
          <p:nvPr/>
        </p:nvPicPr>
        <p:blipFill>
          <a:blip r:embed="rId2"/>
          <a:stretch/>
        </p:blipFill>
        <p:spPr>
          <a:xfrm>
            <a:off x="2916360" y="2060640"/>
            <a:ext cx="2447640" cy="18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осетр"/>
          <p:cNvPicPr/>
          <p:nvPr/>
        </p:nvPicPr>
        <p:blipFill>
          <a:blip r:embed="rId3"/>
          <a:stretch/>
        </p:blipFill>
        <p:spPr>
          <a:xfrm>
            <a:off x="5076720" y="1268280"/>
            <a:ext cx="2252880" cy="1694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хариус"/>
          <p:cNvPicPr/>
          <p:nvPr/>
        </p:nvPicPr>
        <p:blipFill>
          <a:blip r:embed="rId4"/>
          <a:stretch/>
        </p:blipFill>
        <p:spPr>
          <a:xfrm>
            <a:off x="6443640" y="2492280"/>
            <a:ext cx="2411280" cy="1559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з млекопитающих в озере водится байкальский тюлень – нерпа, обладающий прекрасным мех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7" descr="нерпа"/>
          <p:cNvPicPr/>
          <p:nvPr/>
        </p:nvPicPr>
        <p:blipFill>
          <a:blip r:embed="rId1"/>
          <a:stretch/>
        </p:blipFill>
        <p:spPr>
          <a:xfrm>
            <a:off x="395280" y="278136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тюлень"/>
          <p:cNvPicPr/>
          <p:nvPr/>
        </p:nvPicPr>
        <p:blipFill>
          <a:blip r:embed="rId2"/>
          <a:stretch/>
        </p:blipFill>
        <p:spPr>
          <a:xfrm>
            <a:off x="3635280" y="2349360"/>
            <a:ext cx="5184720" cy="3559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Физминутка для глаз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594972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вести глазами контуры озера Байкал  и рыбы  Осёт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4" descr="байкал1"/>
          <p:cNvPicPr/>
          <p:nvPr/>
        </p:nvPicPr>
        <p:blipFill>
          <a:blip r:embed="rId1"/>
          <a:stretch/>
        </p:blipFill>
        <p:spPr>
          <a:xfrm>
            <a:off x="328680" y="1197000"/>
            <a:ext cx="3641760" cy="49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осетр"/>
          <p:cNvPicPr/>
          <p:nvPr/>
        </p:nvPicPr>
        <p:blipFill>
          <a:blip r:embed="rId2"/>
          <a:stretch/>
        </p:blipFill>
        <p:spPr>
          <a:xfrm>
            <a:off x="4211640" y="1773360"/>
            <a:ext cx="4608360" cy="34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080a"/>
                </a:solidFill>
                <a:latin typeface="Tahoma"/>
              </a:rPr>
              <a:t>История освоения Байкала</a:t>
            </a: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3645000"/>
            <a:ext cx="871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.Д. Черский     И.Г. Гмелин     П.С. Паллас    В.А. Обручев   Л.С. Бер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усские землепроходцы вышли к Байкалу в 17 веке. Первые русские сообщения о Байкале появляются в 1640 г. Любопытные данные о нем содержатся в «Житии протопопа Аввакума», сосланного в Забайкалье и побывавшего на озере в 1656 г. Изучением Байкала занимались многие крупные ученые (Иван Демидович Черский), академики Российской академии ( Иван Геогр Гмелин, Петр Симон Паллас, Владимир Афанасьевич Обручев, Лев Семенович Берг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9" descr="Черский"/>
          <p:cNvPicPr/>
          <p:nvPr/>
        </p:nvPicPr>
        <p:blipFill>
          <a:blip r:embed="rId1"/>
          <a:stretch/>
        </p:blipFill>
        <p:spPr>
          <a:xfrm>
            <a:off x="324000" y="1413000"/>
            <a:ext cx="1609560" cy="198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Гмелин"/>
          <p:cNvPicPr/>
          <p:nvPr/>
        </p:nvPicPr>
        <p:blipFill>
          <a:blip r:embed="rId2"/>
          <a:stretch/>
        </p:blipFill>
        <p:spPr>
          <a:xfrm>
            <a:off x="2268360" y="1484280"/>
            <a:ext cx="150192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паллас"/>
          <p:cNvPicPr/>
          <p:nvPr/>
        </p:nvPicPr>
        <p:blipFill>
          <a:blip r:embed="rId3"/>
          <a:stretch/>
        </p:blipFill>
        <p:spPr>
          <a:xfrm>
            <a:off x="4140360" y="1484280"/>
            <a:ext cx="1339560" cy="194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обручев"/>
          <p:cNvPicPr/>
          <p:nvPr/>
        </p:nvPicPr>
        <p:blipFill>
          <a:blip r:embed="rId4"/>
          <a:stretch/>
        </p:blipFill>
        <p:spPr>
          <a:xfrm>
            <a:off x="5724360" y="1484280"/>
            <a:ext cx="128592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Берг"/>
          <p:cNvPicPr/>
          <p:nvPr/>
        </p:nvPicPr>
        <p:blipFill>
          <a:blip r:embed="rId5"/>
          <a:stretch/>
        </p:blipFill>
        <p:spPr>
          <a:xfrm>
            <a:off x="7308720" y="1484280"/>
            <a:ext cx="1451160" cy="1944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Происхождение Байкала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 сих пор нет единой точки зрения на происхождение впадины Байкала. Одни утверждают, что она возникла в результате глубоких разломов и последующего опускания земной коры. Другие считают, что впадина Байкала – следствие медленного прогибания земной коры.  Озеро и окружающие его горы находятся в сейсмоактивной зоне. Наиболее сильное землетрясение произошло на Байкале в конце 1861 г., когда образовался залив Пров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Байкал23"/>
          <p:cNvPicPr/>
          <p:nvPr/>
        </p:nvPicPr>
        <p:blipFill>
          <a:blip r:embed="rId1"/>
          <a:stretch/>
        </p:blipFill>
        <p:spPr>
          <a:xfrm>
            <a:off x="5148360" y="4292640"/>
            <a:ext cx="2952720" cy="2203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залив Провал"/>
          <p:cNvPicPr/>
          <p:nvPr/>
        </p:nvPicPr>
        <p:blipFill>
          <a:blip r:embed="rId2"/>
          <a:stretch/>
        </p:blipFill>
        <p:spPr>
          <a:xfrm>
            <a:off x="4716360" y="1268280"/>
            <a:ext cx="3743280" cy="2925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Особенности природы </a:t>
            </a:r>
            <a:br>
              <a:rPr sz="4000"/>
            </a:b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озера Байкал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 27 островов Байкала самый большой Ольх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 73 км в длину и 11 км в ширину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положен остров почти в центре озера у его северо – западного побережь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6" descr="Ольхон"/>
          <p:cNvPicPr/>
          <p:nvPr/>
        </p:nvPicPr>
        <p:blipFill>
          <a:blip r:embed="rId1"/>
          <a:stretch/>
        </p:blipFill>
        <p:spPr>
          <a:xfrm>
            <a:off x="5219640" y="1557360"/>
            <a:ext cx="3384720" cy="2525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ольхон карта"/>
          <p:cNvPicPr/>
          <p:nvPr/>
        </p:nvPicPr>
        <p:blipFill>
          <a:blip r:embed="rId2"/>
          <a:stretch/>
        </p:blipFill>
        <p:spPr>
          <a:xfrm>
            <a:off x="5364000" y="4292640"/>
            <a:ext cx="2880000" cy="2279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Особенности природы </a:t>
            </a:r>
            <a:br>
              <a:rPr sz="4000"/>
            </a:b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озера Байкал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коен и ласков Байкал при тихой погоде, но суров, неприступен и опасен в шторм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обенно свиреп ветер САРМА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н налетает с северо – запада со скоростью более 60 м/с и сметает все, что попадается на пути. Узкая и вытянутая котловина Байкала, зажатая между высокими горами, долины рек в прибрежных хребтах влияют на направление ветра над озер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сарма"/>
          <p:cNvPicPr/>
          <p:nvPr/>
        </p:nvPicPr>
        <p:blipFill>
          <a:blip r:embed="rId1"/>
          <a:stretch/>
        </p:blipFill>
        <p:spPr>
          <a:xfrm>
            <a:off x="4859280" y="22050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080a"/>
                </a:solidFill>
                <a:latin typeface="Tahoma"/>
              </a:rPr>
              <a:t>Местные ветра Байкала </a:t>
            </a: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аргузин             Верховик               Култу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6" descr="баргузин"/>
          <p:cNvPicPr/>
          <p:nvPr/>
        </p:nvPicPr>
        <p:blipFill>
          <a:blip r:embed="rId1"/>
          <a:stretch/>
        </p:blipFill>
        <p:spPr>
          <a:xfrm>
            <a:off x="250920" y="2924280"/>
            <a:ext cx="2665440" cy="1778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верховик"/>
          <p:cNvPicPr/>
          <p:nvPr/>
        </p:nvPicPr>
        <p:blipFill>
          <a:blip r:embed="rId2"/>
          <a:stretch/>
        </p:blipFill>
        <p:spPr>
          <a:xfrm>
            <a:off x="3203640" y="1916280"/>
            <a:ext cx="263052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култук"/>
          <p:cNvPicPr/>
          <p:nvPr/>
        </p:nvPicPr>
        <p:blipFill>
          <a:blip r:embed="rId3"/>
          <a:stretch/>
        </p:blipFill>
        <p:spPr>
          <a:xfrm>
            <a:off x="6084720" y="2421000"/>
            <a:ext cx="2881440" cy="2152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Особенности природы Байкала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продолжительности солнечного сияния район Байкала превосходит такие известные курорты, как Железноводск, Давос и др., и не уступает странам Средиземноморь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ная тайга, окружающая Байкал, издавна известна ценными породами деревьев, богатством пушных зверей. Байкальский соболь дает самый ценный мех в Сибир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8" descr="Байкал10"/>
          <p:cNvPicPr/>
          <p:nvPr/>
        </p:nvPicPr>
        <p:blipFill>
          <a:blip r:embed="rId1"/>
          <a:stretch/>
        </p:blipFill>
        <p:spPr>
          <a:xfrm>
            <a:off x="5076720" y="3933720"/>
            <a:ext cx="3348000" cy="252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Байкал9"/>
          <p:cNvPicPr/>
          <p:nvPr/>
        </p:nvPicPr>
        <p:blipFill>
          <a:blip r:embed="rId2"/>
          <a:stretch/>
        </p:blipFill>
        <p:spPr>
          <a:xfrm>
            <a:off x="5508720" y="1989000"/>
            <a:ext cx="2232000" cy="16812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080a"/>
                </a:solidFill>
                <a:latin typeface="Tahoma"/>
              </a:rPr>
              <a:t>Значение Байкала</a:t>
            </a: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овторимая красота Байкала, живописные его берега и острова привлекали и привлекают туристов из нашей страны и зарубежь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елебный воздух, многочисленные термальные источники могут служить хорошей базой для создания курортов и зон отды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7" descr="залив Провал1"/>
          <p:cNvPicPr/>
          <p:nvPr/>
        </p:nvPicPr>
        <p:blipFill>
          <a:blip r:embed="rId1"/>
          <a:stretch/>
        </p:blipFill>
        <p:spPr>
          <a:xfrm>
            <a:off x="4716360" y="1700280"/>
            <a:ext cx="3351240" cy="2233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Байкал19"/>
          <p:cNvPicPr/>
          <p:nvPr/>
        </p:nvPicPr>
        <p:blipFill>
          <a:blip r:embed="rId2"/>
          <a:stretch/>
        </p:blipFill>
        <p:spPr>
          <a:xfrm>
            <a:off x="5076720" y="4365720"/>
            <a:ext cx="2808360" cy="2131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«Кто Байкала не видал, тот в Сибири не бывал», - говорят сибиряки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йкал – уникальное озеро, одно из неповторимых чудес планеты, поистине природная святыня не только россиян, но и всего человечества. Байкал – великан, богатырь, красавец под стать Сибири – матушк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5" descr="Байка13"/>
          <p:cNvPicPr/>
          <p:nvPr/>
        </p:nvPicPr>
        <p:blipFill>
          <a:blip r:embed="rId1"/>
          <a:stretch/>
        </p:blipFill>
        <p:spPr>
          <a:xfrm>
            <a:off x="4648320" y="2205000"/>
            <a:ext cx="4038480" cy="374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080a"/>
                </a:solidFill>
                <a:latin typeface="Tahoma"/>
              </a:rPr>
              <a:t>Значение Байкала</a:t>
            </a: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вторимый животный и растительный мир озера делают его «музеем живых древностей». Не зря озеро Байкал вошло в число семи чудес Росс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ногочисленные заповедники созданные на берегах и островах Байкала сохраняют уникальность всего природного комплекса. Старейшим из всех заповедников Байкала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ргузинский заповедни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заповедник"/>
          <p:cNvPicPr/>
          <p:nvPr/>
        </p:nvPicPr>
        <p:blipFill>
          <a:blip r:embed="rId1"/>
          <a:stretch/>
        </p:blipFill>
        <p:spPr>
          <a:xfrm>
            <a:off x="5867280" y="3429000"/>
            <a:ext cx="2194200" cy="295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заповедник 2"/>
          <p:cNvPicPr/>
          <p:nvPr/>
        </p:nvPicPr>
        <p:blipFill>
          <a:blip r:embed="rId2"/>
          <a:stretch/>
        </p:blipFill>
        <p:spPr>
          <a:xfrm>
            <a:off x="5292720" y="1413000"/>
            <a:ext cx="3095640" cy="1852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Экологическое состояние Байкала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3933360"/>
            <a:ext cx="8785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оружение Иркутской ГЭС, Селенгинского картонного комбината, различных промышленных предприятий в Улан – Удэ и Иркутске отрицательно влияет на природу Байкала. К сожалению, и в 50 – 60 – х гг. и даже сейчас далеко не все понимают необходимость бережного отношения к природе. Необходимость сохранения как отдельных компонентов природы, так и всего природно – территориального комплекса. Только разумное, основанное на современных технологиях освоение природных ресурсов Байкала поможет и получить экономические выгоды, и сохранить эту природную святыню для наших потом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9" descr="Байкал20"/>
          <p:cNvPicPr/>
          <p:nvPr/>
        </p:nvPicPr>
        <p:blipFill>
          <a:blip r:embed="rId1"/>
          <a:stretch/>
        </p:blipFill>
        <p:spPr>
          <a:xfrm>
            <a:off x="468360" y="1628640"/>
            <a:ext cx="2608200" cy="1849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Байкал18"/>
          <p:cNvPicPr/>
          <p:nvPr/>
        </p:nvPicPr>
        <p:blipFill>
          <a:blip r:embed="rId2"/>
          <a:stretch/>
        </p:blipFill>
        <p:spPr>
          <a:xfrm>
            <a:off x="6084720" y="1700280"/>
            <a:ext cx="2592720" cy="175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иркутская гэс"/>
          <p:cNvPicPr/>
          <p:nvPr/>
        </p:nvPicPr>
        <p:blipFill>
          <a:blip r:embed="rId3"/>
          <a:stretch/>
        </p:blipFill>
        <p:spPr>
          <a:xfrm>
            <a:off x="3276720" y="1844640"/>
            <a:ext cx="2630520" cy="1981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Закрепление</a:t>
            </a:r>
            <a:br>
              <a:rPr sz="4000"/>
            </a:b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Игра «Что лишнее?»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pic>
        <p:nvPicPr>
          <p:cNvPr id="127" name="Picture 8" descr="бычок"/>
          <p:cNvPicPr/>
          <p:nvPr/>
        </p:nvPicPr>
        <p:blipFill>
          <a:blip r:embed="rId1"/>
          <a:stretch/>
        </p:blipFill>
        <p:spPr>
          <a:xfrm>
            <a:off x="4716360" y="1628640"/>
            <a:ext cx="3313080" cy="247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омуль"/>
          <p:cNvPicPr/>
          <p:nvPr/>
        </p:nvPicPr>
        <p:blipFill>
          <a:blip r:embed="rId2"/>
          <a:stretch/>
        </p:blipFill>
        <p:spPr>
          <a:xfrm>
            <a:off x="4932360" y="4437000"/>
            <a:ext cx="3311640" cy="205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сиг"/>
          <p:cNvPicPr/>
          <p:nvPr/>
        </p:nvPicPr>
        <p:blipFill>
          <a:blip r:embed="rId3"/>
          <a:stretch/>
        </p:blipFill>
        <p:spPr>
          <a:xfrm>
            <a:off x="1042920" y="4076640"/>
            <a:ext cx="3179880" cy="2395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карась"/>
          <p:cNvPicPr/>
          <p:nvPr/>
        </p:nvPicPr>
        <p:blipFill>
          <a:blip r:embed="rId4"/>
          <a:stretch/>
        </p:blipFill>
        <p:spPr>
          <a:xfrm>
            <a:off x="971640" y="1844640"/>
            <a:ext cx="3119400" cy="20210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Игра «Кто лишний?»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pic>
        <p:nvPicPr>
          <p:cNvPr id="132" name="Picture 8" descr="Берг"/>
          <p:cNvPicPr/>
          <p:nvPr/>
        </p:nvPicPr>
        <p:blipFill>
          <a:blip r:embed="rId1"/>
          <a:stretch/>
        </p:blipFill>
        <p:spPr>
          <a:xfrm>
            <a:off x="539640" y="1197000"/>
            <a:ext cx="2009880" cy="2693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обручев"/>
          <p:cNvPicPr/>
          <p:nvPr/>
        </p:nvPicPr>
        <p:blipFill>
          <a:blip r:embed="rId2"/>
          <a:stretch/>
        </p:blipFill>
        <p:spPr>
          <a:xfrm>
            <a:off x="4572000" y="1268280"/>
            <a:ext cx="2139840" cy="324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Черский"/>
          <p:cNvPicPr/>
          <p:nvPr/>
        </p:nvPicPr>
        <p:blipFill>
          <a:blip r:embed="rId3"/>
          <a:stretch/>
        </p:blipFill>
        <p:spPr>
          <a:xfrm>
            <a:off x="2268360" y="3645000"/>
            <a:ext cx="2225880" cy="2738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Докучаев"/>
          <p:cNvPicPr/>
          <p:nvPr/>
        </p:nvPicPr>
        <p:blipFill>
          <a:blip r:embed="rId4"/>
          <a:stretch/>
        </p:blipFill>
        <p:spPr>
          <a:xfrm>
            <a:off x="6516720" y="3429000"/>
            <a:ext cx="2241360" cy="30272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080a"/>
                </a:solidFill>
                <a:latin typeface="Tahoma"/>
              </a:rPr>
              <a:t>Игра «Что лишнее?»                    </a:t>
            </a: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pic>
        <p:nvPicPr>
          <p:cNvPr id="137" name="Picture 8" descr="баргузин"/>
          <p:cNvPicPr/>
          <p:nvPr/>
        </p:nvPicPr>
        <p:blipFill>
          <a:blip r:embed="rId1"/>
          <a:stretch/>
        </p:blipFill>
        <p:spPr>
          <a:xfrm>
            <a:off x="684360" y="1501920"/>
            <a:ext cx="3671640" cy="244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култук"/>
          <p:cNvPicPr/>
          <p:nvPr/>
        </p:nvPicPr>
        <p:blipFill>
          <a:blip r:embed="rId2"/>
          <a:stretch/>
        </p:blipFill>
        <p:spPr>
          <a:xfrm>
            <a:off x="4788000" y="1413000"/>
            <a:ext cx="3384360" cy="2527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верховик"/>
          <p:cNvPicPr/>
          <p:nvPr/>
        </p:nvPicPr>
        <p:blipFill>
          <a:blip r:embed="rId3"/>
          <a:stretch/>
        </p:blipFill>
        <p:spPr>
          <a:xfrm>
            <a:off x="4859280" y="4076640"/>
            <a:ext cx="3384720" cy="2549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ураган"/>
          <p:cNvPicPr/>
          <p:nvPr/>
        </p:nvPicPr>
        <p:blipFill>
          <a:blip r:embed="rId4"/>
          <a:stretch/>
        </p:blipFill>
        <p:spPr>
          <a:xfrm>
            <a:off x="755640" y="4149720"/>
            <a:ext cx="3556080" cy="241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080a"/>
                </a:solidFill>
                <a:latin typeface="Tahoma"/>
              </a:rPr>
              <a:t>Игра «Что лишнее?»</a:t>
            </a: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4868640"/>
            <a:ext cx="7705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2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1" descr="ольхон карта"/>
          <p:cNvPicPr/>
          <p:nvPr/>
        </p:nvPicPr>
        <p:blipFill>
          <a:blip r:embed="rId1"/>
          <a:stretch/>
        </p:blipFill>
        <p:spPr>
          <a:xfrm>
            <a:off x="3708360" y="2565360"/>
            <a:ext cx="2519280" cy="1992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Танганьика 1"/>
          <p:cNvPicPr/>
          <p:nvPr/>
        </p:nvPicPr>
        <p:blipFill>
          <a:blip r:embed="rId2"/>
          <a:stretch/>
        </p:blipFill>
        <p:spPr>
          <a:xfrm>
            <a:off x="6659640" y="1773360"/>
            <a:ext cx="2293920" cy="388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Байкал17"/>
          <p:cNvPicPr/>
          <p:nvPr/>
        </p:nvPicPr>
        <p:blipFill>
          <a:blip r:embed="rId3"/>
          <a:stretch/>
        </p:blipFill>
        <p:spPr>
          <a:xfrm>
            <a:off x="324000" y="1700280"/>
            <a:ext cx="3038400" cy="3097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4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06080a"/>
                </a:solidFill>
                <a:latin typeface="Tahoma"/>
              </a:rPr>
              <a:t>Спасибо за урок!</a:t>
            </a:r>
            <a:endParaRPr b="0" lang="en-US" sz="6000" spc="-1" strike="noStrike">
              <a:solidFill>
                <a:srgbClr val="06080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Байкал5"/>
          <p:cNvPicPr/>
          <p:nvPr/>
        </p:nvPicPr>
        <p:blipFill>
          <a:blip r:embed="rId1"/>
          <a:stretch/>
        </p:blipFill>
        <p:spPr>
          <a:xfrm>
            <a:off x="1979640" y="981000"/>
            <a:ext cx="5256360" cy="3281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Балкал – далай» - называют его буряты, что означает «Байкал – море». Нет на Земле другого столь глубокого озера. Его максимальная глубина – 1620 метров, а средняя – 730 м. Дно Байкала на 1167 м ниже уровня Мирового океана, а зеркало его вод – на 453 м выш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Байкал – удивительное озеро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Байкал – самая глубокая</a:t>
            </a:r>
            <a:br>
              <a:rPr sz="4000"/>
            </a:b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 впадина суши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т на Земле другого столь древнего озера. Возраст Байкала – 15 – 20 млн. лет, в то время как другим озерам не более 5 – 15 тыс. л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8" descr="Байкал4"/>
          <p:cNvPicPr/>
          <p:nvPr/>
        </p:nvPicPr>
        <p:blipFill>
          <a:blip r:embed="rId1"/>
          <a:stretch/>
        </p:blipFill>
        <p:spPr>
          <a:xfrm>
            <a:off x="539640" y="1855800"/>
            <a:ext cx="3961080" cy="228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Байкал"/>
          <p:cNvPicPr/>
          <p:nvPr/>
        </p:nvPicPr>
        <p:blipFill>
          <a:blip r:embed="rId2"/>
          <a:stretch/>
        </p:blipFill>
        <p:spPr>
          <a:xfrm>
            <a:off x="4865760" y="1981080"/>
            <a:ext cx="4027320" cy="22147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длину озеро простирае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620 к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шири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24 до 79 к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– за большой глубины и протяженности в Байкале собрано колоссальное количество пресной воды – 1/10 часть пресных вод всей плане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ая смена воды в Байкале происходит в течение 332 л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байкал1"/>
          <p:cNvPicPr/>
          <p:nvPr/>
        </p:nvPicPr>
        <p:blipFill>
          <a:blip r:embed="rId1"/>
          <a:stretch/>
        </p:blipFill>
        <p:spPr>
          <a:xfrm>
            <a:off x="4862520" y="1052640"/>
            <a:ext cx="367200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Характеристика</a:t>
            </a: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озера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озеро впадает более 336 рек,  а вытекает одна АНГАР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нятно, почему Ангара стоит на одном из первых мест в России по запасам водной энергии и намного превосходит энергетическую мощность Волги, Камы и Дона, взятых вмес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7" descr="ангара"/>
          <p:cNvPicPr/>
          <p:nvPr/>
        </p:nvPicPr>
        <p:blipFill>
          <a:blip r:embed="rId1"/>
          <a:stretch/>
        </p:blipFill>
        <p:spPr>
          <a:xfrm>
            <a:off x="4648320" y="1125360"/>
            <a:ext cx="4038480" cy="4932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080a"/>
                </a:solidFill>
                <a:latin typeface="Tahoma"/>
              </a:rPr>
              <a:t>Байкал – исток Ангары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080a"/>
                </a:solidFill>
                <a:latin typeface="Tahoma"/>
              </a:rPr>
              <a:t>Уникальность воды Байкала</a:t>
            </a: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никальна вода Байкал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её прозрачности Байкал превосходит альпийские озе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лый диск, используемый для определения прозрачности воды, виден в озере на глубине 40 м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авная ценность байкальской воды в её гидрохимических свойствах и качеств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на может быть использована как в бытовых целях, так и в целом ряде производ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7" descr="Диск 1"/>
          <p:cNvPicPr/>
          <p:nvPr/>
        </p:nvPicPr>
        <p:blipFill>
          <a:blip r:embed="rId1"/>
          <a:stretch/>
        </p:blipFill>
        <p:spPr>
          <a:xfrm>
            <a:off x="4788000" y="1117440"/>
            <a:ext cx="3960720" cy="2818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Диск"/>
          <p:cNvPicPr/>
          <p:nvPr/>
        </p:nvPicPr>
        <p:blipFill>
          <a:blip r:embed="rId2"/>
          <a:stretch/>
        </p:blipFill>
        <p:spPr>
          <a:xfrm>
            <a:off x="5364000" y="4076640"/>
            <a:ext cx="2951280" cy="25812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080a"/>
                </a:solidFill>
                <a:latin typeface="Tahoma"/>
              </a:rPr>
              <a:t>Байкал – самое уникальное озеро на планете</a:t>
            </a:r>
            <a:endParaRPr b="0" lang="en-US" sz="40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да Байкала – химически очень чистая, слабо минерализованна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 в 1 л менее 0,1 г солей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гата кислород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ревний возраст Байкала позволил ему сохранить живые организмы давно исчезнувших време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¾ видов живых организмов озера эндемичны, то есть не встречаются больше нигд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Байкал7"/>
          <p:cNvPicPr/>
          <p:nvPr/>
        </p:nvPicPr>
        <p:blipFill>
          <a:blip r:embed="rId1"/>
          <a:stretch/>
        </p:blipFill>
        <p:spPr>
          <a:xfrm>
            <a:off x="5219640" y="1536840"/>
            <a:ext cx="3384720" cy="225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Байкал10"/>
          <p:cNvPicPr/>
          <p:nvPr/>
        </p:nvPicPr>
        <p:blipFill>
          <a:blip r:embed="rId2"/>
          <a:stretch/>
        </p:blipFill>
        <p:spPr>
          <a:xfrm>
            <a:off x="5219640" y="3933720"/>
            <a:ext cx="3311640" cy="24955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080a"/>
                </a:solidFill>
                <a:latin typeface="Tahoma"/>
              </a:rPr>
              <a:t>Эндемики Байкала</a:t>
            </a:r>
            <a:endParaRPr b="0" lang="en-US" sz="4400" spc="-1" strike="noStrike">
              <a:solidFill>
                <a:srgbClr val="06080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3860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ломянка                  Омуль                     Быч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иболее интересные эндемики Байкала – голомянка, омуль, бычки – подкаменщики. Голомянка – это розовато – белая полупрозрачная рыбка, не имеющая чешуи. Голомянка – живородящая рыба, то есть она не мечет икру, а родит живых детеныш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9" descr="голомянка"/>
          <p:cNvPicPr/>
          <p:nvPr/>
        </p:nvPicPr>
        <p:blipFill>
          <a:blip r:embed="rId1"/>
          <a:stretch/>
        </p:blipFill>
        <p:spPr>
          <a:xfrm>
            <a:off x="324000" y="2013120"/>
            <a:ext cx="2592360" cy="171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омуль"/>
          <p:cNvPicPr/>
          <p:nvPr/>
        </p:nvPicPr>
        <p:blipFill>
          <a:blip r:embed="rId2"/>
          <a:stretch/>
        </p:blipFill>
        <p:spPr>
          <a:xfrm>
            <a:off x="3203640" y="1954080"/>
            <a:ext cx="2881080" cy="179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бычок"/>
          <p:cNvPicPr/>
          <p:nvPr/>
        </p:nvPicPr>
        <p:blipFill>
          <a:blip r:embed="rId3"/>
          <a:stretch/>
        </p:blipFill>
        <p:spPr>
          <a:xfrm>
            <a:off x="6227640" y="1916280"/>
            <a:ext cx="2449800" cy="1831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1:22:33Z</dcterms:created>
  <dc:creator>User</dc:creator>
  <dc:description/>
  <dc:language>en-US</dc:language>
  <cp:lastModifiedBy>1</cp:lastModifiedBy>
  <dcterms:modified xsi:type="dcterms:W3CDTF">2019-12-04T22:28:44Z</dcterms:modified>
  <cp:revision>10</cp:revision>
  <dc:subject/>
  <dc:title>Урок – путешествие по теме «Жемчужина Сибири - Байкал»  8 класс</dc:title>
</cp:coreProperties>
</file>