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C3A-EA25-460A-B256-8721566A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881-7201-46FC-BFA3-B64678F8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91F-4E8F-4918-A8D6-35F042BB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A78-BDDB-491C-8C82-3AE6229C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6A14-522F-4B49-B46E-D6FB14FA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130F-74CA-4827-BBCD-192B4B26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260E-28EC-4B58-B0C3-DF556FA6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1923-FD28-48DA-BCF2-525BE31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2C54-264D-4E8E-9898-1D11F9E7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850E-6C19-43BD-B838-C694B500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9221-7AE2-4BB2-8F7F-8EB5F833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15E-E3B0-4EE5-A189-AB854C51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59CF-AE5E-4556-A578-5013D701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7094-656D-45C7-8C25-35DE498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244D-3B0D-45AE-A7B7-D3B2B50F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E0BC-20FE-4390-9B41-377CAAAC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F32C-F45B-49BC-B592-227BF5C6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477-D5D9-4995-BE81-06A989C2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854-8100-4553-92A3-70C69155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A6A-6771-4F46-A0BD-72398086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EC7-565B-4630-B112-D769D7D4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2C9-7487-490D-A190-DD69363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36D-F6D7-4B3A-A9D3-08104679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9E6-0436-4AFB-A212-4202530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306-96D8-432A-8F1B-9AF92F059E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519-E441-4BCB-986D-8B792937CD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hyperlink" Target="http://www.astraclub.ru/forum/files/_5__c_program_files_kompas_511_samples__158_588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ьютерная графика в дополнительном образован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итель: Белых П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дагог дополнительного образ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41672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703dff"/>
                </a:solidFill>
                <a:latin typeface="Comic Sans MS"/>
              </a:rPr>
              <a:t>Вопросы, решаемые с помощью компьютерной графики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55640" y="1916280"/>
            <a:ext cx="7129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ы диалога учащийся – компьюте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элементами окна, главным меню и инструментальными панел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ы алгоритм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ошибками. Откат событ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ы графического моделирова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ие контекстного мен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операции с файлами и пап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756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учение компьютерной графики в курсе программ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опедевтический курс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627280" y="3573360"/>
            <a:ext cx="5832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00720" y="1844640"/>
            <a:ext cx="3960720" cy="158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афический редактор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S Paint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афические возможност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кстового процессор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S Wor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411280" y="3645000"/>
            <a:ext cx="6077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Основные технические операции с графическими объектам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выделение объек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копирование объек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вставка объек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еремещение объек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удаление объ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dff"/>
                </a:solidFill>
                <a:latin typeface="Comic Sans MS"/>
              </a:rPr>
              <a:t>Применение компьютерной графики в презентациях и моделировании объект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учение в старшем школьном возраст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116000" y="1916280"/>
            <a:ext cx="37720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азовый курс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500720" y="1700280"/>
            <a:ext cx="3960720" cy="2233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Microsoft Office Picture Manage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торный редактор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rel Draw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стровый редакто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obe Photoshop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грамма для созд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ифрового видео 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нима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Macromedia Flash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35280" y="4292640"/>
            <a:ext cx="6840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Основные понят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нятие векторной и растровой графи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ческие форматы.   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комство с основными инструментальными средствам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obe Photoshop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работа со слоями) и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el Draw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работа с объектам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новы анима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lesson4_1"/>
          <p:cNvPicPr/>
          <p:nvPr/>
        </p:nvPicPr>
        <p:blipFill>
          <a:blip r:embed="rId1"/>
          <a:stretch/>
        </p:blipFill>
        <p:spPr>
          <a:xfrm>
            <a:off x="6748560" y="0"/>
            <a:ext cx="2395440" cy="352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4corel5"/>
          <p:cNvPicPr/>
          <p:nvPr/>
        </p:nvPicPr>
        <p:blipFill>
          <a:blip r:embed="rId2"/>
          <a:stretch/>
        </p:blipFill>
        <p:spPr>
          <a:xfrm>
            <a:off x="0" y="692280"/>
            <a:ext cx="4176720" cy="1992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гульнара копия"/>
          <p:cNvPicPr/>
          <p:nvPr/>
        </p:nvPicPr>
        <p:blipFill>
          <a:blip r:embed="rId3"/>
          <a:stretch/>
        </p:blipFill>
        <p:spPr>
          <a:xfrm>
            <a:off x="4427640" y="836640"/>
            <a:ext cx="2473200" cy="3197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валент"/>
          <p:cNvPicPr/>
          <p:nvPr/>
        </p:nvPicPr>
        <p:blipFill>
          <a:blip r:embed="rId4"/>
          <a:stretch/>
        </p:blipFill>
        <p:spPr>
          <a:xfrm>
            <a:off x="4716360" y="4097160"/>
            <a:ext cx="3681360" cy="2760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Без бордюра"/>
          <p:cNvPicPr/>
          <p:nvPr/>
        </p:nvPicPr>
        <p:blipFill>
          <a:blip r:embed="rId5"/>
          <a:stretch/>
        </p:blipFill>
        <p:spPr>
          <a:xfrm>
            <a:off x="0" y="3309840"/>
            <a:ext cx="42116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9"/>
          <p:cNvPicPr/>
          <p:nvPr/>
        </p:nvPicPr>
        <p:blipFill>
          <a:blip r:embed="rId1"/>
          <a:stretch/>
        </p:blipFill>
        <p:spPr>
          <a:xfrm>
            <a:off x="0" y="4226040"/>
            <a:ext cx="3564000" cy="263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ar2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33"/>
          <p:cNvPicPr/>
          <p:nvPr/>
        </p:nvPicPr>
        <p:blipFill>
          <a:blip r:embed="rId3"/>
          <a:stretch/>
        </p:blipFill>
        <p:spPr>
          <a:xfrm>
            <a:off x="0" y="549360"/>
            <a:ext cx="35272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едпрофессиональная подготов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4360" y="1844640"/>
            <a:ext cx="626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фильный курс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00720" y="1700280"/>
            <a:ext cx="3960720" cy="24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кторный редактор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rel Draw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стровый редакто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obe Photoshop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грамма дл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здания трехмерных моделе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МПАС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реда разработки web-сайт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nt Page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835280" y="4292640"/>
            <a:ext cx="6840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Основные понят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делирование в сред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el Draw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а с кистями, текстом каналами и фильтрами в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obe Photoshop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ая графика электронных страниц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Т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страницы средствам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nt Pag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Создание баннеров. Трёхмерное моделировани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БЕЗ АНИМАЦИИ 2"/>
          <p:cNvPicPr/>
          <p:nvPr/>
        </p:nvPicPr>
        <p:blipFill>
          <a:blip r:embed="rId1"/>
          <a:stretch/>
        </p:blipFill>
        <p:spPr>
          <a:xfrm>
            <a:off x="3635280" y="0"/>
            <a:ext cx="2158920" cy="107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g"/>
          <p:cNvPicPr/>
          <p:nvPr/>
        </p:nvPicPr>
        <p:blipFill>
          <a:blip r:embed="rId2"/>
          <a:stretch/>
        </p:blipFill>
        <p:spPr>
          <a:xfrm>
            <a:off x="0" y="3309840"/>
            <a:ext cx="3548160" cy="354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10"/>
          <p:cNvPicPr/>
          <p:nvPr/>
        </p:nvPicPr>
        <p:blipFill>
          <a:blip r:embed="rId3"/>
          <a:stretch/>
        </p:blipFill>
        <p:spPr>
          <a:xfrm>
            <a:off x="0" y="0"/>
            <a:ext cx="3564000" cy="3435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0000003"/>
          <p:cNvPicPr/>
          <p:nvPr/>
        </p:nvPicPr>
        <p:blipFill>
          <a:blip r:embed="rId4"/>
          <a:stretch/>
        </p:blipFill>
        <p:spPr>
          <a:xfrm>
            <a:off x="6048360" y="0"/>
            <a:ext cx="3095640" cy="2316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4"/>
          <p:cNvPicPr/>
          <p:nvPr/>
        </p:nvPicPr>
        <p:blipFill>
          <a:blip r:embed="rId5"/>
          <a:stretch/>
        </p:blipFill>
        <p:spPr>
          <a:xfrm>
            <a:off x="3780000" y="1773360"/>
            <a:ext cx="1809720" cy="2476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9"/>
          <p:cNvPicPr/>
          <p:nvPr/>
        </p:nvPicPr>
        <p:blipFill>
          <a:blip r:embed="rId6"/>
          <a:stretch/>
        </p:blipFill>
        <p:spPr>
          <a:xfrm>
            <a:off x="6095880" y="242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10"/>
          <p:cNvPicPr/>
          <p:nvPr/>
        </p:nvPicPr>
        <p:blipFill>
          <a:blip r:embed="rId7"/>
          <a:stretch/>
        </p:blipFill>
        <p:spPr>
          <a:xfrm>
            <a:off x="3780000" y="4572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08"/>
          <p:cNvPicPr/>
          <p:nvPr/>
        </p:nvPicPr>
        <p:blipFill>
          <a:blip r:embed="rId8"/>
          <a:stretch/>
        </p:blipFill>
        <p:spPr>
          <a:xfrm>
            <a:off x="6443640" y="4896000"/>
            <a:ext cx="2700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" descr="3456"/>
          <p:cNvPicPr/>
          <p:nvPr/>
        </p:nvPicPr>
        <p:blipFill>
          <a:blip r:embed="rId1"/>
          <a:stretch/>
        </p:blipFill>
        <p:spPr>
          <a:xfrm>
            <a:off x="971640" y="3284640"/>
            <a:ext cx="3759120" cy="118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t16"/>
          <p:cNvPicPr/>
          <p:nvPr/>
        </p:nvPicPr>
        <p:blipFill>
          <a:blip r:embed="rId2"/>
          <a:stretch/>
        </p:blipFill>
        <p:spPr>
          <a:xfrm>
            <a:off x="611280" y="476280"/>
            <a:ext cx="5040360" cy="188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1"/>
          <p:cNvPicPr/>
          <p:nvPr/>
        </p:nvPicPr>
        <p:blipFill>
          <a:blip r:embed="rId3"/>
          <a:stretch/>
        </p:blipFill>
        <p:spPr>
          <a:xfrm>
            <a:off x="5651640" y="836640"/>
            <a:ext cx="3143160" cy="2352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t11"/>
          <p:cNvPicPr/>
          <p:nvPr/>
        </p:nvPicPr>
        <p:blipFill>
          <a:blip r:embed="rId4"/>
          <a:stretch/>
        </p:blipFill>
        <p:spPr>
          <a:xfrm>
            <a:off x="0" y="5446800"/>
            <a:ext cx="3887640" cy="1411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Картинка 36 из 25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4307040"/>
            <a:ext cx="36352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4:07:46Z</dcterms:created>
  <dc:creator>Елена</dc:creator>
  <dc:description/>
  <dc:language>en-US</dc:language>
  <cp:lastModifiedBy>Элеонора</cp:lastModifiedBy>
  <dcterms:modified xsi:type="dcterms:W3CDTF">2019-12-05T02:04:35Z</dcterms:modified>
  <cp:revision>17</cp:revision>
  <dc:subject/>
  <dc:title>Компьютерная графика в школе</dc:title>
</cp:coreProperties>
</file>