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FA1CF-0385-4302-B55C-68449F406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136FE-79C9-4208-9D75-CC9C3CE1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329BA-3E8F-49B4-A32F-41F620562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3AC63-54AB-4A4C-82B9-D68C6CE4A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62ABF-DA20-4DBD-A8C5-26D8C6878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0E34F-67D4-4CDC-83DF-4B1C075D2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2520D-1F91-4F56-8FE1-E81B04B55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CB16E-EE36-4B21-B251-FA22FED05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4AC2A-E534-4F6D-9DC4-BEA865E2E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12A46-3672-47BC-BF29-0AD621EE0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F6E8C-90BA-43ED-B06D-280BC6E1B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A62F2-D769-48C0-938D-07BC9F70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24463-FE0B-465F-B8D3-4ADA2B96D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AE1EC-11DC-45FD-8D60-333C0D426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FC17D-0D03-4DBB-8652-DEEF182E1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1AE74-664A-45B4-BDAE-193BA3A3F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0C4F9-86B2-4CE9-A3DD-3A37DAD9D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0FE4A-B03D-4E20-9B1B-C11981783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BE8FF-475F-4398-92BB-6594EA7C0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BD2BB-E3DC-40A5-8CAA-8A4B9D546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10707-4235-4DF0-B452-DF7AA4BF8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20F9C-61B2-490E-9B46-1664B9FB7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4793-6A83-4DBE-B2F6-1534DFB8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8BAA1-77C9-4EB7-9786-03AF10DF7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3F7D1-E9FB-4675-AA9E-6A975D4A6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9A0D8-9EE0-445F-80AD-4E9848765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2C619-0EDF-4ED6-BBE6-BCCC43FAD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85E0F-D2BB-46B0-9478-1548CE8A1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258B3-62ED-4218-955A-BB9658351A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DAC56F-963E-46D4-90D0-B648B9F5D0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E501E7-BC14-4B53-A84C-60A028AEE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7E3EF-2BE4-4B76-BB4C-933C513C03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C5726-E479-41C9-846D-A0B7F4FFE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FAF5-B0C9-425E-AEA9-07A41C8C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F0F51-6932-4D84-A39F-E19B00EC0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1AEA1-C99A-409D-83C2-000C8A00C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8DFB3-41F9-4283-AA4B-E1E7AF642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28A5D-42E9-4DE7-8DAF-924F39664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DB1D1-4AE0-4A95-9C00-C7BA32FBB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7012A-DC88-476C-8259-D74DBFF2D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DA03B-2DE5-416F-96BE-F106F49E6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4BA986-FF81-4789-94CF-34B5ABE48F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40A084-110C-488B-9E3D-A24AE25D5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F0BB1-ECDC-457B-8EBF-6EAF6922F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55B56-34A4-4C6C-B646-AB2A486D1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EB55A-5417-4E46-A245-B569C9A56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538094-4D32-47B4-8923-1D918116C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26232-FCE1-498B-A91C-34D64663C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3FF99-89C6-4FEF-8BE9-EDB4D1F8EF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1A4C2-EEC7-4E57-B762-0E8D1FA32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C4244-3AE5-4A1B-BCCD-EA87EAFC0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BAE62-39DF-4DA4-8B82-4AD45BC81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87C69-4B31-4B9A-812C-7FF0D4319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EF95F-7556-44F9-9BEA-8C1063E81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697507-6533-4EE5-B306-43CA8BCE2E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4A45D-02EF-4066-B0BA-BFCAA6A13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CA9657-7B96-4A31-935F-4311CD2E3C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A1B825-E45E-41DD-B25D-47FCCB6701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4D2A2-DDE4-4E32-8BA7-9B8414A5D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CF548-08DD-48FD-ABA9-E58E790F1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D38E0-A06C-4EAD-9A27-52E7FDD17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060DD1-3FD1-489E-A51D-069F7BFFB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0AC43-2D24-45E2-87E5-055B1CAC0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C8E02-10E0-4D3C-8075-FA87B577B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BA637-879B-48AF-A84D-10CEAC21A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D4B65-A922-4A25-9378-B8801B4D7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D499-2B3C-4A6C-A47B-E1C17161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9584D-64D6-4827-9BA0-CBC0ADBFF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CCFF05-7612-4958-85FB-32267A8F4E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C81F9A-19DE-4B28-A23E-8AEE86AFE2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AD3A7-535A-4B17-96DF-7BC7D0B62C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93CE3-4374-4488-8C4E-C1B3467E4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71D558-379C-4FCB-AC34-FE992B865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15884-466B-4703-8A1B-42B109629C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824602-1941-449F-AE8A-792FDB8DC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45BFA4-83C9-42FF-B90D-1ED10C41B9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5A373-FF64-4BCF-AF5A-2E98C612D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FB10-6277-4DCF-9398-E92A303C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86198-4927-44DB-86D0-69BCD2562B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77BAF-5DCD-4F40-B039-3787DC384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75F26-9490-4CA0-8C29-E26302FBC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37F833-F592-4CF9-A0AC-6B57AF88C2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4719A6-C6DF-4E8C-A4F8-C647ACE1E6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7D6C48-E010-48AB-B596-C8E67B3BE7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852CB8-654C-43E1-BF01-F5500CCE37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13C0E-29A5-41DC-A066-52B1E90E28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A4045-BAA7-42F4-8E3B-41E7B84D8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158E7-B7C4-4C15-81EF-DF8FF0B4A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78E4-49DE-488B-BA16-A9227D8D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99AD6-5B14-412E-90C7-B76B4E510F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EC131-8FD5-40F2-A9CB-DFB9D5CB7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CB270-C679-4399-A46A-99683003A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6D1DD-97B2-4824-B113-704FDB8E9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3AFCFA-5B57-4EFC-9B51-D4B0DBFD0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B64A0D-F058-4112-B943-BEDB7A0154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00086A-655C-4705-9ED5-8D182A7DD1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8FBF-104E-4B36-84DE-E7AF9AC9451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199D-5315-4EDD-9F93-367704504755}"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1135-5EB6-41A3-A06B-599284460B3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1901-3B83-467E-8556-B2DD96E5975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EE99-1E31-4869-9DC1-7B2AF3D365C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BD55-2A3D-4277-9A61-461B394884C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2D56-5EAA-4B71-A4C1-21C8F61D2FC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21A9-F954-44A7-A1BA-1C3D80A41DF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566640" y="1749600"/>
            <a:ext cx="816948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64646"/>
                </a:solidFill>
                <a:latin typeface="Lucida Sans Unicode"/>
              </a:rPr>
              <a:t>«Проектная деятельность»</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856800"/>
            <a:ext cx="8229600" cy="5149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второй.  </a:t>
            </a:r>
            <a:r>
              <a:rPr b="0" lang="ru-RU" sz="1900" spc="-1" strike="noStrike">
                <a:solidFill>
                  <a:srgbClr val="000000"/>
                </a:solidFill>
                <a:latin typeface="Lucida Sans Unicode"/>
              </a:rPr>
              <a:t>В ходе проектной деятельности учащиеся не просто приобретают знания, они еще и учатся тому, как самостоятельно приобретать эти знания. Это чрезвычайно важно, ведь быстро устаревающие знания, появление новых видов деятельности делают заучивание определенного объема информации бессмысленным. Знания приходится все время обновлять. Значит, этому необходимо учить. В настоящий момент актуально развивать умения учащихся к самообразованию, работать в группе, делиться знаниями с товарищам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третий. </a:t>
            </a:r>
            <a:r>
              <a:rPr b="0" lang="ru-RU" sz="1900" spc="-1" strike="noStrike">
                <a:solidFill>
                  <a:srgbClr val="000000"/>
                </a:solidFill>
                <a:latin typeface="Lucida Sans Unicode"/>
              </a:rPr>
              <a:t>Для ученика проект – это возможность максимального раскрытия своего творческого потенциала. Это деятельность, которая позволяет проявить себя индивидуально или в группе, попробовать свои силы, приложить свои знания, принести пользу, показать публично достигнутый результат. Это деятельность, направленная на решение интересной проблемы, сформулированной самими учащимися. Результат этой деятельности – найденный способ решения проблемы – носит практический характер, имеет прикладное значение и значим для самих открывателей.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99680"/>
            <a:ext cx="8229600" cy="5506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Плюс» четвертый. </a:t>
            </a:r>
            <a:r>
              <a:rPr b="0" lang="ru-RU" sz="2000" spc="-1" strike="noStrike">
                <a:solidFill>
                  <a:srgbClr val="000000"/>
                </a:solidFill>
                <a:latin typeface="Lucida Sans Unicode"/>
              </a:rPr>
              <a:t>Для учителя учебный проект – это дидактическое средство развития, обучения и воспитания, которое позволяет вырабатывать и развивать специфические умения и навыки проектирования: проблематизация, целеполагание, планирование деятельности, рефлексия и самоанализ, презентация и самопрезентация, а также поиск информации, практическое применение академических знаний, самообучение, исследовательская и творческая деятельность.</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Плюс» пятый. </a:t>
            </a:r>
            <a:r>
              <a:rPr b="0" lang="ru-RU" sz="2000" spc="-1" strike="noStrike">
                <a:solidFill>
                  <a:srgbClr val="000000"/>
                </a:solidFill>
                <a:latin typeface="Lucida Sans Unicode"/>
              </a:rPr>
              <a:t>Метод проектов тесно связан с использованием новейших компьютерных технологий.</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Я сделала вывод о том, что целесообразнее начинать работу по методу проектов с младшими школьниками (5-7кл)</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499680"/>
            <a:ext cx="8229600" cy="5506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Метод проектов мне очень нравится своей универсальностью и широким простором для творчества, как учителя, так и учащихся. С учётом учебного материала, возрастных и индивидуальных особенностей учащихся и для урока, и для внеклассной работы, и для элективного курса можно разработать проект, работа над которым сделает процесс познания радостным для учащихся, а значит результативным.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Конечно, метод проектов требует больших затрат личного времени учителя для подготовки материалов для урока, планирования заданий, составления карточек для работы, постоянного самообразования. Но, сегодня уже трудно себе представить школу настоящего и будущего без школы проектов.</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Заголовок 2" descr=""/>
          <p:cNvPicPr/>
          <p:nvPr/>
        </p:nvPicPr>
        <p:blipFill>
          <a:blip r:embed="rId1"/>
          <a:stretch/>
        </p:blipFill>
        <p:spPr>
          <a:xfrm>
            <a:off x="450720" y="268200"/>
            <a:ext cx="8589960" cy="31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Важнейшей задачей современной системы образования является формирование совокупности универсальных учебных действий, обеспечивающих компетенцию «научить учиться», а не только освоение учащимися конкретных предметных знаний и навыков в рамках отдельных дисциплин.</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В широком смысле слова «универсальные учебные действия» означают саморазвитие и самосовершенствование путем сознательного и активного присвоения нового социального опыта. В настоящее время, в век компьютеров и новых технологий, для достижения результатов, важно, в первую очередь, инициировать у детей собственные вопросы: «Чему мне нужно научиться?» и «Как мне этому научиться?».</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Поэтому в основе разработки стандартов нового поколения лежит системно-деятельностный подход. Логика развития универсальных учебных действий строится по формуле: от действия к мысл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10% от того, что они читаю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26% от того, что они слыша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30% от того, что они видя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50% от того, что они видят и слыша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70% от того, что они обсуждают с другими;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80% от того, что основано на личном опыте;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90 % от того, что они говорят (проговаривают) в то время, как делаю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95% от того, чему они обучаются сами.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Заголовок 2" descr=""/>
          <p:cNvPicPr/>
          <p:nvPr/>
        </p:nvPicPr>
        <p:blipFill>
          <a:blip r:embed="rId1"/>
          <a:stretch/>
        </p:blipFill>
        <p:spPr>
          <a:xfrm>
            <a:off x="298440" y="378000"/>
            <a:ext cx="8394840" cy="104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Учителю приходится задумываться над новыми методами обучения, использовать новые технологии преподавания, которые развивают мотивацию школьников к учебно-познавательной деятельности, повышают их интеллектуальный уровень, раскрывают творческие способност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Большие возможности в этом плане открывает проектная деятельность учащихся. Она является ведущей технологией для формирования УУД как во время классных занятий, так и во внеурочной деятельност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8"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457200" y="1481040"/>
          <a:ext cx="8258040" cy="4233960"/>
        </p:xfrm>
        <a:graphic>
          <a:graphicData uri="http://schemas.openxmlformats.org/drawingml/2006/table">
            <a:tbl>
              <a:tblPr/>
              <a:tblGrid>
                <a:gridCol w="1195560"/>
                <a:gridCol w="2104920"/>
                <a:gridCol w="2894040"/>
                <a:gridCol w="2063520"/>
              </a:tblGrid>
              <a:tr h="105912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Этапы проектной деятельности</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Действия учащихся</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УУД</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058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1</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становка проблемы, которая требует решения</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становка проблем</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движение гипотезы</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бсуждение путей решения проблемы</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ланирование деятельности по реализации  проекта </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Личностные</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Регулятивны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057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2</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полнение работы</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бор информации </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труктурирование информ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Изготовление продукта</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формление проду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знавательные общеучебные</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знавательные логически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58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3</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резентация прое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бор формы презент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дготовка презент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резентация прое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амооценка и самоанализ</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Коммуникативны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380" name="Заголовок 2" descr=""/>
          <p:cNvPicPr/>
          <p:nvPr/>
        </p:nvPicPr>
        <p:blipFill>
          <a:blip r:embed="rId1"/>
          <a:stretch/>
        </p:blipFill>
        <p:spPr>
          <a:xfrm>
            <a:off x="450720" y="231840"/>
            <a:ext cx="8242560" cy="119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учить учащихся самостоятельному, критическому мышлению.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Размышлять, опираясь на знание фактов, закономерностей науки, делать обоснованные выводы.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ринимать самостоятельные аргументированные решения.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учить работать в команде, выполняя разные социальные роли</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формировать навыки передачи и презентации полученных знаний и опыта.</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225360" y="268200"/>
            <a:ext cx="852804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Проектирование – особый вид деятельности, результатом которого является создание реального «продукта» имеющего для участников проекта практическое значение.</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Внешний результат – можно увидеть, осмыслить, применить в реальной практической деятельност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Внутренний результат – опыт деятельности – становится бесценным достижением учащегося, соединяя в себе знания и умения.</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первый. </a:t>
            </a:r>
            <a:r>
              <a:rPr b="0" lang="ru-RU" sz="1900" spc="-1" strike="noStrike">
                <a:solidFill>
                  <a:srgbClr val="000000"/>
                </a:solidFill>
                <a:latin typeface="Lucida Sans Unicode"/>
              </a:rPr>
              <a:t>Одна из причин внимания к новому методу – проблема повышения мотивации учащихся к изучению предмета.</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Современные дети рациональны, они хотят четко понимать, зачем им нужно то или иное знание, что дает, где может пригодиться. Искушенные в различного рода телекоммуникационных представлениях и развлечениях, играх и шоу, они хотят, чтобы и на уроках было интересно, ярко, броско, как в кино и на ТV. Имея доступ к информации через интернет, им скучно впитывать знания, читая учебник или слушая лекцию учителя. Новое поколение и новые реалии жизни требуют новых методов обучения. Современный человек все меньше пишет ручкой, все больше на компьютере. Жизнь диктует перемены. Так и с методикой. Надо учить по-новому. Вне всяких сомнений – проектирование относится к методам обучения, отвечающим современной жизни.</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6" name="Заголовок 2" descr=""/>
          <p:cNvPicPr/>
          <p:nvPr/>
        </p:nvPicPr>
        <p:blipFill>
          <a:blip r:embed="rId1"/>
          <a:stretch/>
        </p:blipFill>
        <p:spPr>
          <a:xfrm>
            <a:off x="298440" y="231840"/>
            <a:ext cx="8431200" cy="119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30T02:49:24Z</dcterms:created>
  <dc:creator>Пользователь Windows</dc:creator>
  <dc:description/>
  <dc:language>en-US</dc:language>
  <cp:lastModifiedBy>Пользователь Windows</cp:lastModifiedBy>
  <dcterms:modified xsi:type="dcterms:W3CDTF">2019-03-30T03:15:59Z</dcterms:modified>
  <cp:revision>3</cp:revision>
  <dc:subject/>
  <dc:title>Методический семинар</dc:title>
</cp:coreProperties>
</file>