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png" ContentType="image/png"/>
  <Override PartName="/ppt/media/image12.png" ContentType="image/png"/>
  <Override PartName="/ppt/media/image6.jpeg" ContentType="image/jpeg"/>
  <Override PartName="/ppt/media/image1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00E4F-9279-4B9F-ADF2-E48B55CF0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5E7F6-03AF-4E4E-A921-DFC0EFAC7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73440-6F3C-437A-BB34-A8353B00F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E252E-D200-4093-889D-487C397A1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932923-BAB0-4469-8AA9-D0ABE295F8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9AD5A-1F72-437A-9735-A62B69F60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B6342-3CD2-4489-BDAB-A2FA0D58C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94926-868A-4150-84A0-590597FBA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D6E35-E638-41A8-B72B-B7F1F2A38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62935-A396-4485-96D9-EECFD1232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A00ED-008D-445E-8D45-D2AD46465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A65DF-DC86-4A8F-840A-828FB5110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E562F-3C74-4013-B4C1-0303846BF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3F9D8-5E38-4DFC-A0D0-97501823F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6D90D-EE69-427B-8FAE-EC864E329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B90D88-6A9E-4F48-B03C-6ECF2658F6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74D076-76DB-4F6D-8B3C-0FF844D093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57BF2E-3954-4FFE-8E77-CA1D6B02C7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7A8EB3-E190-4B8F-AD4E-1FADE79C4A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02F924-579E-4AC8-A136-3AF4419DFB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CE7837-725F-402A-8B5A-6E4886C345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B007FD-61A0-4D8E-9698-E417DEB018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982AD-F460-432F-99A0-67FE9FA59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A024EA-133E-4C3A-8771-A6DD995448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40BC4A-3BDC-4709-8657-88CB30CBB0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FFE812-F030-4F7E-9BEB-5016B735A9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616890-A972-46C6-8E1A-DCDCCF06B4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DF32E6-21A8-47CF-B914-93E16A0477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ADC229-0899-4C24-BD8C-610613FA10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B9E73D-809D-4632-9336-39970E9A54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034014-E9F5-49B7-A51B-E193A9CEA3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CF24E1-3FE2-4380-B30B-8E5A66433C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62CAA1-E063-4327-A418-C737E2A74B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FA6B9-7FE2-4360-8680-4EABA024B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270225-90EE-4517-B1B2-C3692DFEAF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27FB0D-619A-4CD4-ACE0-839E9E55F9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BE1E14-2138-4CA5-B9C3-67F613613E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9E7E54-3E23-4226-9101-3BF05BD4C8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456F5B-4F89-4871-975F-9D478B027B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B66150-FAF4-4CC9-8519-F4387393AD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4B51BE-1DD6-4254-9C87-9EDD9FC881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E3F461-D6E1-4D40-9E49-47AF41CF8F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D6EE81-B558-4E15-A910-062A115DB7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049E0E-330D-458A-952A-B4E9E6BF90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63725-14AC-4C96-B791-E417A0083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962DFB-DDAA-4905-B358-85DF08FF2E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E8194C-6958-4ED1-9F3B-B878346D01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39334F-F7C0-4211-937A-0F0CDAF95C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40E57D-811D-4D0B-ACA0-9FD66DBD62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7AD4DC-1D8E-453D-8B67-21FA65D190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EAADD0-F8D6-48F4-ABF1-21B9BBC695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30871D-962E-4E54-86A3-92F32ACF63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10807D-1247-4F9A-B0BB-DC5C8A31C3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3756B6-6FFF-4FCA-B360-BD841EF96E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DE4D80-CAD8-4E37-B058-351A135869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850B0-F428-49EB-B077-D9C9AE455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F0C7C8-690F-45E6-8134-02957EAA20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3C44DE-9636-4989-A9A4-6F0A0353AB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523D77-C8EC-4F54-91AB-5C7048A1C0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9FCB65-C153-43F0-B901-7DE92D8E77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ABE26C-A549-4B10-96B0-A9AE3526AD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724573-EF4F-45AB-A034-E5FDF4977A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F02696-41F3-4839-95F3-FAF292268F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267547-E401-4CB4-8CA3-F4BCEE716E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350B1A-9986-425C-865A-FEE00BDAEE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EBAD0E-0EA3-40AE-99C9-463EA02668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77F6E-5E5A-4B43-901B-069583848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713FA6-3558-4C73-A759-1745CA05C0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4E2B53-B37E-447A-B6F0-5B2C7A977A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BF2336-0C17-4A50-988F-91BC40B47D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0AA0D9-295A-4699-9BE8-80569AB406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6D414E-0CFE-4E9F-B9F0-358B1854BD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BBD008-606E-439A-AFF9-995A35A24B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B07DB4-712A-4D1B-84BB-ECBC5A0D07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3F21D7-6449-4B0D-8578-8414C5B5F1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5AD825-EECF-45FF-8F95-6DA4D6227C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8DCF05-C381-4941-BD8B-4385E7F312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5841C-04C4-4552-8504-F879BF854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C27716-8259-4798-B55D-E4821C156A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A461B1-BB8D-48BA-BA86-0529919FE1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FA9E62-7CB8-4BAA-9D77-0C5705EF03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9882A0-1AEB-492A-9F4D-DB72CA1D6F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7E884F-8D52-41A0-9B51-394098F7D8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61CF7A-809B-49FA-9A8C-D06E401661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1A7C1A-D228-48A9-9742-090C277D90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5CDABC-BF09-431A-AED6-9399F07128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8B3AA8-5B74-4E16-91FD-5C04B3BF37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0D168B-63E1-4AE3-9CEC-74E06462A7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44DC3-0225-4620-A70A-0AF7DEAA3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2C0878-00A5-4D55-8CA8-2EC40E289C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22801E-59FE-48B0-816A-E12DD5B030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C405C5-D64F-4267-BF20-9B09925E1F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AFF380-42DA-4F61-BDE3-321C78E025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C62FCC-BA33-4900-AE35-F2559EF1E6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66602E-95D9-47FC-9586-865B14EF2C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B9A865-DBBE-43FE-92AB-0B23641CE8E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EA112-02DF-4D24-83F4-5D409AF9CFA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Полилиния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Полилиния 19"/>
            <p:cNvGrpSpPr/>
            <p:nvPr/>
          </p:nvGrpSpPr>
          <p:grpSpPr>
            <a:xfrm>
              <a:off x="2520" y="4992120"/>
              <a:ext cx="9141480" cy="1872360"/>
              <a:chOff x="2520" y="4992120"/>
              <a:chExt cx="9141480" cy="1872360"/>
            </a:xfrm>
          </p:grpSpPr>
          <p:pic>
            <p:nvPicPr>
              <p:cNvPr id="52" name="Полилиния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Прямая соединительная линия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CE0B5-2414-41FB-8B7C-30CDFA69836B}"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943A-29F3-467E-8ADF-AC277B7ECB66}"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AD2F-F560-4B14-B899-52CEB0502CA9}"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17F5F-5D9F-4AA8-8559-8FE6847D90A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Полилиния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32E4-D4DB-4E73-9C76-11823FABB691}"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05D6-FB6A-4C4C-818A-27B2687558D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Полилиния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Прямоугольный треугольник 16"/>
          <p:cNvGrpSpPr/>
          <p:nvPr/>
        </p:nvGrpSpPr>
        <p:grpSpPr>
          <a:xfrm>
            <a:off x="-12600" y="5784840"/>
            <a:ext cx="3414600" cy="1092240"/>
            <a:chOff x="-12600" y="5784840"/>
            <a:chExt cx="3414600" cy="1092240"/>
          </a:xfrm>
        </p:grpSpPr>
        <p:pic>
          <p:nvPicPr>
            <p:cNvPr id="324"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327"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B182E-C9F3-423E-B1FF-9F208C244A37}"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Заголовок 1" descr=""/>
          <p:cNvPicPr/>
          <p:nvPr/>
        </p:nvPicPr>
        <p:blipFill>
          <a:blip r:embed="rId1"/>
          <a:stretch/>
        </p:blipFill>
        <p:spPr>
          <a:xfrm>
            <a:off x="566640" y="1749600"/>
            <a:ext cx="816948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464646"/>
                </a:solidFill>
                <a:latin typeface="Lucida Sans Unicode"/>
              </a:rPr>
              <a:t>«Проектная деятельность»</a:t>
            </a: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856800"/>
            <a:ext cx="8229600" cy="514980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Lucida Sans Unicode"/>
              </a:rPr>
              <a:t>«Плюс» второй.  </a:t>
            </a:r>
            <a:r>
              <a:rPr b="0" lang="ru-RU" sz="1900" spc="-1" strike="noStrike">
                <a:solidFill>
                  <a:srgbClr val="000000"/>
                </a:solidFill>
                <a:latin typeface="Lucida Sans Unicode"/>
              </a:rPr>
              <a:t>В ходе проектной деятельности учащиеся не просто приобретают знания, они еще и учатся тому, как самостоятельно приобретать эти знания. Это чрезвычайно важно, ведь быстро устаревающие знания, появление новых видов деятельности делают заучивание определенного объема информации бессмысленным. Знания приходится все время обновлять. Значит, этому необходимо учить. В настоящий момент актуально развивать умения учащихся к самообразованию, работать в группе, делиться знаниями с товарищами.</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Lucida Sans Unicode"/>
              </a:rPr>
              <a:t>«Плюс» третий. </a:t>
            </a:r>
            <a:r>
              <a:rPr b="0" lang="ru-RU" sz="1900" spc="-1" strike="noStrike">
                <a:solidFill>
                  <a:srgbClr val="000000"/>
                </a:solidFill>
                <a:latin typeface="Lucida Sans Unicode"/>
              </a:rPr>
              <a:t>Для ученика проект – это возможность максимального раскрытия своего творческого потенциала. Это деятельность, которая позволяет проявить себя индивидуально или в группе, попробовать свои силы, приложить свои знания, принести пользу, показать публично достигнутый результат. Это деятельность, направленная на решение интересной проблемы, сформулированной самими учащимися. Результат этой деятельности – найденный способ решения проблемы – носит практический характер, имеет прикладное значение и значим для самих открывателей.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499680"/>
            <a:ext cx="8229600" cy="5506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Lucida Sans Unicode"/>
              </a:rPr>
              <a:t>«Плюс» четвертый. </a:t>
            </a:r>
            <a:r>
              <a:rPr b="0" lang="ru-RU" sz="2000" spc="-1" strike="noStrike">
                <a:solidFill>
                  <a:srgbClr val="000000"/>
                </a:solidFill>
                <a:latin typeface="Lucida Sans Unicode"/>
              </a:rPr>
              <a:t>Для учителя учебный проект – это дидактическое средство развития, обучения и воспитания, которое позволяет вырабатывать и развивать специфические умения и навыки проектирования: проблематизация, целеполагание, планирование деятельности, рефлексия и самоанализ, презентация и самопрезентация, а также поиск информации, практическое применение академических знаний, самообучение, исследовательская и творческая деятельность.</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Lucida Sans Unicode"/>
              </a:rPr>
              <a:t>«Плюс» пятый. </a:t>
            </a:r>
            <a:r>
              <a:rPr b="0" lang="ru-RU" sz="2000" spc="-1" strike="noStrike">
                <a:solidFill>
                  <a:srgbClr val="000000"/>
                </a:solidFill>
                <a:latin typeface="Lucida Sans Unicode"/>
              </a:rPr>
              <a:t>Метод проектов тесно связан с использованием новейших компьютерных технологий.</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Я сделала вывод о том, что целесообразнее начинать работу по методу проектов с младшими школьниками (5-7кл)</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499680"/>
            <a:ext cx="8229600" cy="5506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Lucida Sans Unicode"/>
              </a:rPr>
              <a:t>Метод проектов мне очень нравится своей универсальностью и широким простором для творчества, как учителя, так и учащихся. С учётом учебного материала, возрастных и индивидуальных особенностей учащихся и для урока, и для внеклассной работы, и для элективного курса можно разработать проект, работа над которым сделает процесс познания радостным для учащихся, а значит результативным.  </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Lucida Sans Unicode"/>
              </a:rPr>
              <a:t>Конечно, метод проектов требует больших затрат личного времени учителя для подготовки материалов для урока, планирования заданий, составления карточек для работы, постоянного самообразования. Но, сегодня уже трудно себе представить школу настоящего и будущего без школы проектов.</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Заголовок 2" descr=""/>
          <p:cNvPicPr/>
          <p:nvPr/>
        </p:nvPicPr>
        <p:blipFill>
          <a:blip r:embed="rId1"/>
          <a:stretch/>
        </p:blipFill>
        <p:spPr>
          <a:xfrm>
            <a:off x="450720" y="268200"/>
            <a:ext cx="8589960" cy="317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Важнейшей задачей современной системы образования является формирование совокупности универсальных учебных действий, обеспечивающих компетенцию «научить учиться», а не только освоение учащимися конкретных предметных знаний и навыков в рамках отдельных дисциплин.</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В широком смысле слова «универсальные учебные действия» означают саморазвитие и самосовершенствование путем сознательного и активного присвоения нового социального опыта. В настоящее время, в век компьютеров и новых технологий, для достижения результатов, важно, в первую очередь, инициировать у детей собственные вопросы: «Чему мне нужно научиться?» и «Как мне этому научиться?».</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Поэтому в основе разработки стандартов нового поколения лежит системно-деятельностный подход. Логика развития универсальных учебных действий строится по формуле: от действия к мысли.</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10% от того, что они читают;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26% от того, что они слышат;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30% от того, что они видят;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50% от того, что они видят и слышат;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70% от того, что они обсуждают с другими;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80% от того, что основано на личном опыте;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90 % от того, что они говорят (проговаривают) в то время, как делают;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95% от того, чему они обучаются сами.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6" name="Заголовок 2" descr=""/>
          <p:cNvPicPr/>
          <p:nvPr/>
        </p:nvPicPr>
        <p:blipFill>
          <a:blip r:embed="rId1"/>
          <a:stretch/>
        </p:blipFill>
        <p:spPr>
          <a:xfrm>
            <a:off x="298440" y="378000"/>
            <a:ext cx="8394840" cy="104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Lucida Sans Unicode"/>
              </a:rPr>
              <a:t>Учителю приходится задумываться над новыми методами обучения, использовать новые технологии преподавания, которые развивают мотивацию школьников к учебно-познавательной деятельности, повышают их интеллектуальный уровень, раскрывают творческие способности.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Lucida Sans Unicode"/>
              </a:rPr>
              <a:t>Большие возможности в этом плане открывает проектная деятельность учащихся. Она является ведущей технологией для формирования УУД как во время классных занятий, так и во внеурочной деятельности.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78" name="Заголовок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
          <p:cNvGraphicFramePr/>
          <p:nvPr/>
        </p:nvGraphicFramePr>
        <p:xfrm>
          <a:off x="457200" y="1481040"/>
          <a:ext cx="8258040" cy="4233960"/>
        </p:xfrm>
        <a:graphic>
          <a:graphicData uri="http://schemas.openxmlformats.org/drawingml/2006/table">
            <a:tbl>
              <a:tblPr/>
              <a:tblGrid>
                <a:gridCol w="1195560"/>
                <a:gridCol w="2104920"/>
                <a:gridCol w="2894040"/>
                <a:gridCol w="2063520"/>
              </a:tblGrid>
              <a:tr h="105912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Calibri"/>
                        </a:rPr>
                        <a:t>№</a:t>
                      </a:r>
                      <a:endParaRPr b="0" lang="en-US" sz="14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Calibri"/>
                        </a:rPr>
                        <a:t>     </a:t>
                      </a:r>
                      <a:r>
                        <a:rPr b="1" lang="ru-RU" sz="1400" spc="-1" strike="noStrike">
                          <a:solidFill>
                            <a:srgbClr val="ffffff"/>
                          </a:solidFill>
                          <a:latin typeface="Times New Roman"/>
                          <a:ea typeface="Calibri"/>
                        </a:rPr>
                        <a:t>Этапы проектной деятельности</a:t>
                      </a:r>
                      <a:endParaRPr b="0" lang="en-US" sz="14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Calibri"/>
                        </a:rPr>
                        <a:t>      </a:t>
                      </a:r>
                      <a:r>
                        <a:rPr b="1" lang="ru-RU" sz="1400" spc="-1" strike="noStrike">
                          <a:solidFill>
                            <a:srgbClr val="ffffff"/>
                          </a:solidFill>
                          <a:latin typeface="Times New Roman"/>
                          <a:ea typeface="Calibri"/>
                        </a:rPr>
                        <a:t>Действия учащихся</a:t>
                      </a:r>
                      <a:endParaRPr b="0" lang="en-US" sz="14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Calibri"/>
                        </a:rPr>
                        <a:t>УУД</a:t>
                      </a:r>
                      <a:endParaRPr b="0" lang="en-US" sz="14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10587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1</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остановка проблемы, которая требует решения</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остановка проблем</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Выдвижение гипотезы</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Обсуждение путей решения проблемы</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ланирование деятельности по реализации  проекта </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Личностные</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Регулятивные</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105732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2</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Выполнение работы</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Сбор информации </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Структурирование информации</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Изготовление продукта</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Оформление продукта</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ознавательные общеучебные</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ознавательные логические</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10587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3</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резентация проекта</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Выбор формы презентации</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одготовка презентации</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Презентация проекта</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Самооценка и самоанализ</a:t>
                      </a:r>
                      <a:endParaRPr b="0" lang="en-US" sz="1200" spc="-1" strike="noStrike">
                        <a:solidFill>
                          <a:srgbClr val="000000"/>
                        </a:solidFill>
                        <a:latin typeface="Lucida Sans Unicode"/>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Коммуникативные</a:t>
                      </a:r>
                      <a:endParaRPr b="0" lang="en-US" sz="1200" spc="-1" strike="noStrike">
                        <a:solidFill>
                          <a:srgbClr val="000000"/>
                        </a:solidFill>
                        <a:latin typeface="Lucida Sans Unicod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pic>
        <p:nvPicPr>
          <p:cNvPr id="380" name="Заголовок 2" descr=""/>
          <p:cNvPicPr/>
          <p:nvPr/>
        </p:nvPicPr>
        <p:blipFill>
          <a:blip r:embed="rId1"/>
          <a:stretch/>
        </p:blipFill>
        <p:spPr>
          <a:xfrm>
            <a:off x="450720" y="231840"/>
            <a:ext cx="8242560" cy="119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Научить учащихся самостоятельному, критическому мышлению.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Размышлять, опираясь на знание фактов, закономерностей науки, делать обоснованные выводы.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Принимать самостоятельные аргументированные решения.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Научить работать в команде, выполняя разные социальные роли</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Сформировать навыки передачи и презентации полученных знаний и опыта.</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2" name="Заголовок 2" descr=""/>
          <p:cNvPicPr/>
          <p:nvPr/>
        </p:nvPicPr>
        <p:blipFill>
          <a:blip r:embed="rId1"/>
          <a:stretch/>
        </p:blipFill>
        <p:spPr>
          <a:xfrm>
            <a:off x="225360" y="268200"/>
            <a:ext cx="852804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Lucida Sans Unicode"/>
              </a:rPr>
              <a:t>Проектирование – особый вид деятельности, результатом которого является создание реального «продукта» имеющего для участников проекта практическое значение.</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Lucida Sans Unicode"/>
              </a:rPr>
              <a:t>Внешний результат – можно увидеть, осмыслить, применить в реальной практической деятельности.</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Lucida Sans Unicode"/>
              </a:rPr>
              <a:t>Внутренний результат – опыт деятельности – становится бесценным достижением учащегося, соединяя в себе знания и умения.</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4" name="Заголовок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Lucida Sans Unicode"/>
              </a:rPr>
              <a:t>«Плюс» первый. </a:t>
            </a:r>
            <a:r>
              <a:rPr b="0" lang="ru-RU" sz="1900" spc="-1" strike="noStrike">
                <a:solidFill>
                  <a:srgbClr val="000000"/>
                </a:solidFill>
                <a:latin typeface="Lucida Sans Unicode"/>
              </a:rPr>
              <a:t>Одна из причин внимания к новому методу – проблема повышения мотивации учащихся к изучению предмета.</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      </a:t>
            </a:r>
            <a:r>
              <a:rPr b="0" lang="ru-RU" sz="1900" spc="-1" strike="noStrike">
                <a:solidFill>
                  <a:srgbClr val="000000"/>
                </a:solidFill>
                <a:latin typeface="Lucida Sans Unicode"/>
              </a:rPr>
              <a:t>Современные дети рациональны, они хотят четко понимать, зачем им нужно то или иное знание, что дает, где может пригодиться. Искушенные в различного рода телекоммуникационных представлениях и развлечениях, играх и шоу, они хотят, чтобы и на уроках было интересно, ярко, броско, как в кино и на ТV. Имея доступ к информации через интернет, им скучно впитывать знания, читая учебник или слушая лекцию учителя. Новое поколение и новые реалии жизни требуют новых методов обучения. Современный человек все меньше пишет ручкой, все больше на компьютере. Жизнь диктует перемены. Так и с методикой. Надо учить по-новому. Вне всяких сомнений – проектирование относится к методам обучения, отвечающим современной жизни.</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86" name="Заголовок 2" descr=""/>
          <p:cNvPicPr/>
          <p:nvPr/>
        </p:nvPicPr>
        <p:blipFill>
          <a:blip r:embed="rId1"/>
          <a:stretch/>
        </p:blipFill>
        <p:spPr>
          <a:xfrm>
            <a:off x="298440" y="231840"/>
            <a:ext cx="8431200" cy="119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3-30T02:49:24Z</dcterms:created>
  <dc:creator>Пользователь Windows</dc:creator>
  <dc:description/>
  <dc:language>en-US</dc:language>
  <cp:lastModifiedBy>Пользователь Windows</cp:lastModifiedBy>
  <dcterms:modified xsi:type="dcterms:W3CDTF">2019-03-30T03:15:59Z</dcterms:modified>
  <cp:revision>3</cp:revision>
  <dc:subject/>
  <dc:title>Методический семинар</dc:title>
</cp:coreProperties>
</file>