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81D-8DE6-4DAE-8B2E-C5BAEC03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F3F-295E-49B6-BBA3-EA08051F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E3B-8A18-4343-862F-B8CC1E1E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D31-7281-421A-B26D-FED044B5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15EF-4CB5-4579-9394-AF5C3632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3F90-1A26-4686-B493-2048E68C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7FBA-488B-476C-B5E7-925B8319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E93D-9B07-4392-B690-C1AA64F8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67DE-0420-4608-BFBB-7021B225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0623-A1CC-4CFA-9A12-8FEF674A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D456-784A-4692-AB69-EE701AC9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6532-6E74-4CB0-935E-825F7E40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CCD3-D7AD-4BFE-8507-22FF0AA3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2CBD-4826-47F7-9394-E9B425E2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B7C7-46E8-4CCE-A3EA-ABBFC792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2872-8DC5-4CDB-A7F7-4A27FDF9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EDC1-F7BB-4A5D-BD43-1A320C1A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4AF-F8AE-4DFB-8088-D3709D1F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5405-69D4-415F-BB50-CEFD788F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C7E-79AE-451F-806F-687E0E0E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72C1-13E9-40DF-8CE8-4100E962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5E34-0580-4A6C-8EA3-F9271A3E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344-0646-425E-B867-3E00E01E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B8A5-7860-4155-A690-790F3232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0F89-9C66-49DE-92DD-24605FDA005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0672-2423-4E7F-963F-69B06322714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05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Городская конференция школьников</a:t>
            </a:r>
            <a:br>
              <a:rPr sz="1800"/>
            </a:b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 «Открытие»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4149720"/>
            <a:ext cx="4500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втор: Хакимова Дарья Вячеславовна 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еница 5 А класса МАОУ СОШ №1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уководитель: Лещёва Лариса Николаевн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итель математики МАОУ СОШ №1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2276640"/>
            <a:ext cx="82054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МАТЕМАТИЧЕСКАЯ МОДЕЛЬ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АК ОСНОВА РЕШЕНИЯ ЗАДАЧ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125360"/>
            <a:ext cx="82058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кция «Математ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6093000"/>
            <a:ext cx="4500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галым,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9280" y="2924280"/>
            <a:ext cx="82296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4005360"/>
            <a:ext cx="82296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68280" y="71280"/>
            <a:ext cx="8325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Типы текстовых задач и построения их модел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ес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графическ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Схема            Числ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н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127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Задачи, содержащие скрытое услови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2296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трович вернулся с рыбалки и гордо предъявил семье улов. При ближайшем рассмотрении оказалось, что 8 рыбин родом из северных морей, 20% всех рыбин - из южных, а из местной реки, где рыбачил Петрович - нет ни одной. Сколько всего рыбин купил Петрович в магазине "Морепродукты"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ÐÐ°ÑÑÐ¸Ð½ÐºÐ¸ Ð¿Ð¾ Ð·Ð°Ð¿ÑÐ¾ÑÑ ÑÐ¸ÑÑÐ½Ð¾Ðº ÑÑÐ± ÑÐ¶Ð½ÑÑ Ð¼Ð¾ÑÐµÐ¹ Ð² Ð¼Ð°Ð³Ð°Ð·Ð¸Ð½Ðµ"/>
          <p:cNvPicPr/>
          <p:nvPr/>
        </p:nvPicPr>
        <p:blipFill>
          <a:blip r:embed="rId1"/>
          <a:srcRect l="49187" t="-34" r="0" b="0"/>
          <a:stretch/>
        </p:blipFill>
        <p:spPr>
          <a:xfrm>
            <a:off x="5867280" y="1844640"/>
            <a:ext cx="3276720" cy="2887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4000" y="1989000"/>
            <a:ext cx="5327640" cy="7192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2924280"/>
            <a:ext cx="5472000" cy="2305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5373720"/>
            <a:ext cx="5689440" cy="129528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2060640"/>
            <a:ext cx="489744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Явная информация 8 рыбин из северных морей и 20% всех рыбин из юж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2924280"/>
            <a:ext cx="4968720" cy="28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Неявная информац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0% всех рыбин из южных морей, то 80% - из других мест, т.е. из северных морей 8 рыб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Мы не знаем, сколько рыб, то обозначим через 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 – всех рыб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Из северных морей 8. Из южных 20% от всех, следовательно  -             рыб из южных морей.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340000" y="4724280"/>
                <a:ext cx="4921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324000" y="5300640"/>
            <a:ext cx="5760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Математическая модель задачи: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Всего рыб = рыбы северных морей + рыбы южных мор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979640" y="5877000"/>
                <a:ext cx="16556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9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Вывод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2296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60440" indent="-4604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дя исследования и изучив тему, выделила для себя следующие мо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ое очень внимательно читать задачу и не один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ять условие задачи графически, в виде таблицы, схемы, чтобы легче было записать в виде буквенных выра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способы используемые для решения задачи уже являются моделями и их можно применять к задачам с другим условием, но подходящими по смыс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ким образ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выдвинутая мно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то  построение и использование математических моделей помогает, при решении текстовых задач с различной формулировкой, формирует умение выделять из условия задачи явно и неявно видные условия полностью подтверд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переводить задачи с обычного языка на математический язык, записывать математические модели и использовать их для решения задач уже изученными способ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Объект исследования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текстовые задачи и реально предметные ситуаци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Гипотеза исследования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роение и использование математических моделей помогает, при решении текстовых задач с различной формулировкой, формирует умение выделять из условия задачи явно и неявно видные усло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ить теоретический материал и выделить шаги для построения математической мод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аучится переводить текстовые задачи в математические мод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рименять на уроках математики математические модели при решении текстовых задач и реально предметных си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64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Что такое задача?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429000"/>
            <a:ext cx="41925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блемная ситуация с явно заданной целью, которую необходимо достич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1125360"/>
            <a:ext cx="518508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пражнение, которое выполняется, решается посредством умозаключения, вычисления и т. п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16320" y="6810480"/>
            <a:ext cx="183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ÐÐ°ÑÑÐ¸Ð½ÐºÐ¸ Ð¿Ð¾ Ð·Ð°Ð¿ÑÐ¾ÑÑ ÐºÐ°ÑÑÐ¸Ð½ÐºÐ¸ Ð½Ð° ÑÐµÐ¼Ñ Ð´ÑÐ¼Ð°ÑÑ"/>
          <p:cNvPicPr/>
          <p:nvPr/>
        </p:nvPicPr>
        <p:blipFill>
          <a:blip r:embed="rId1"/>
          <a:stretch/>
        </p:blipFill>
        <p:spPr>
          <a:xfrm>
            <a:off x="5364000" y="4032360"/>
            <a:ext cx="3780000" cy="2825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ÐÐ°ÑÑÐ¸Ð½ÐºÐ¸ Ð¿Ð¾ Ð·Ð°Ð¿ÑÐ¾ÑÑ ÐºÐ°ÑÑÐ¸Ð½ÐºÐ¸ Ð½Ð° ÑÐµÐ¼Ñ Ð´ÑÐ¼Ð°ÑÑ"/>
          <p:cNvPicPr/>
          <p:nvPr/>
        </p:nvPicPr>
        <p:blipFill>
          <a:blip r:embed="rId2"/>
          <a:srcRect l="23278" t="-142" r="18490" b="1380"/>
          <a:stretch/>
        </p:blipFill>
        <p:spPr>
          <a:xfrm>
            <a:off x="0" y="692280"/>
            <a:ext cx="3097080" cy="2482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5805360"/>
            <a:ext cx="5292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онечная цель 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«Достижение результата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127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Шаги решения реальных предметных задач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шаг – ознакомление с условие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шаг – выделение цел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шаг – определение, к какому типу относится задач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шаг – запись услов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шаг – выбор способа реш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шаг – вывод по задаче (ответ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292640"/>
            <a:ext cx="6659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ÐÐ°ÑÑÐ¸Ð½ÐºÐ¸ Ð¿Ð¾ Ð·Ð°Ð¿ÑÐ¾ÑÑ ÑÐ°Ð³Ð¸ ÑÐµÑÐµÐ½Ð¸Ñ ÑÐµÐ°Ð»ÑÐ½Ð¾ Ð¿ÑÐµÐ´Ð¼ÐµÑÐ½ÑÑ ÑÐ¸ÑÑÐ°ÑÐ¸Ð¹"/>
          <p:cNvPicPr/>
          <p:nvPr/>
        </p:nvPicPr>
        <p:blipFill>
          <a:blip r:embed="rId1"/>
          <a:stretch/>
        </p:blipFill>
        <p:spPr>
          <a:xfrm>
            <a:off x="0" y="3789360"/>
            <a:ext cx="9144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7956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Модель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413000"/>
            <a:ext cx="80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атематическая модель - связывает математику и реальную жизн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20500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ческая модель - это математическое описание любой ситуаци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 может быть примитивной, может быть и суперслож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ая ситуация, такая и моде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ÐÐ°ÑÑÐ¸Ð½ÐºÐ¸ Ð¿Ð¾ Ð·Ð°Ð¿ÑÐ¾ÑÑ ÑÐ¸ÑÑÐ½Ð¾Ðº Ð¼Ð°ÑÐµÐ¼Ð°ÑÐ¸ÑÐµÑÐºÐ°Ñ Ð¼Ð¾Ð´ÐµÐ»Ñ Ð¸ ÑÐµÐ°Ð»ÑÐ½Ð°Ñ ÑÐ¸ÑÑÐ°ÑÐ¸Ñ"/>
          <p:cNvPicPr/>
          <p:nvPr/>
        </p:nvPicPr>
        <p:blipFill>
          <a:blip r:embed="rId1"/>
          <a:stretch/>
        </p:blipFill>
        <p:spPr>
          <a:xfrm>
            <a:off x="5111640" y="3274920"/>
            <a:ext cx="4032360" cy="3583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0" y="3568680"/>
            <a:ext cx="49323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60280"/>
            <a:ext cx="5256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ов работы один автомат закрывае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анок, а другой – в 2 раза больше. Сколько банок закроют они вместе за 1 час, если будут работать с той же производи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00720" y="1700280"/>
            <a:ext cx="4465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дворе гуля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альчиков, а девочек в 2 раза больше. Для игры все дети разбились на команды по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еловек в каждой. Сколько получилось команд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2060640"/>
            <a:ext cx="3492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матическая моде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3284640"/>
            <a:ext cx="331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матическая мод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708280"/>
            <a:ext cx="47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ок вместе закрывают за один ча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4005360"/>
            <a:ext cx="302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его коман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ÐÐ°ÑÑÐ¸Ð½ÐºÐ¸ Ð¿Ð¾ Ð·Ð°Ð¿ÑÐ¾ÑÑ ÑÐ¸ÑÑÐ½Ð¾Ðº ÐºÐ°Ðº Ð·Ð°ÐºÑÑÐ²Ð°ÑÑ ÐºÐ¾Ð½ÑÐµÑÐ²Ð½ÑÐµ Ð±Ð°Ð½ÐºÐ¸"/>
          <p:cNvPicPr/>
          <p:nvPr/>
        </p:nvPicPr>
        <p:blipFill>
          <a:blip r:embed="rId1"/>
          <a:stretch/>
        </p:blipFill>
        <p:spPr>
          <a:xfrm>
            <a:off x="0" y="3321000"/>
            <a:ext cx="3564000" cy="3564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ÐÐ°ÑÑÐ¸Ð½ÐºÐ¸ Ð¿Ð¾ Ð·Ð°Ð¿ÑÐ¾ÑÑ ÑÐ¸ÑÑÐ½Ð¾Ðº Ð²Ð¾ Ð´Ð²Ð¾ÑÐµ Ð³ÑÐ»ÑÑÑ Ð´ÐµÑÐ¸"/>
          <p:cNvPicPr/>
          <p:nvPr/>
        </p:nvPicPr>
        <p:blipFill>
          <a:blip r:embed="rId2"/>
          <a:stretch/>
        </p:blipFill>
        <p:spPr>
          <a:xfrm>
            <a:off x="5003640" y="4503600"/>
            <a:ext cx="396108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04640"/>
            <a:ext cx="754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66"/>
                </a:solidFill>
                <a:latin typeface="Arial"/>
              </a:rPr>
              <a:t>Построение математической модел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692280"/>
            <a:ext cx="3529080" cy="1584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836640"/>
            <a:ext cx="309708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Записать все, что видно явно, числа, знач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2708280"/>
            <a:ext cx="3744720" cy="1873080"/>
          </a:xfrm>
          <a:prstGeom prst="roundRect">
            <a:avLst>
              <a:gd name="adj" fmla="val 16667"/>
            </a:avLst>
          </a:prstGeom>
          <a:solidFill>
            <a:srgbClr val="6bed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3640" y="2637000"/>
            <a:ext cx="309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Прочитать текст задачи еще раз и найти скрытую информацию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19640" y="4984920"/>
            <a:ext cx="3745080" cy="1873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80000" y="5084640"/>
            <a:ext cx="309744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Определить связь между явной и скрытой информаци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16360" y="2276640"/>
            <a:ext cx="71892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8720" y="4581360"/>
            <a:ext cx="7189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Форма записи математиеской модели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9" name="" descr="ÐÐ°ÑÑÐ¸Ð½ÐºÐ¸ Ð¿Ð¾ Ð·Ð°Ð¿ÑÐ¾ÑÑ ÑÐ¸ÑÑÐ½Ð¾Ðº Ð¼Ð°ÑÐµÐ¼Ð°ÑÐ¸ÑÐµÑÐºÐ¸Ðµ Ð¼Ð¾Ð´ÐµÐ»Ð¸ Ð² Ð²Ð¸Ð´Ðµ ÑÐ¸ÑÑÐ½ÐºÐ¾Ð²"/>
          <p:cNvPicPr/>
          <p:nvPr/>
        </p:nvPicPr>
        <p:blipFill>
          <a:blip r:embed="rId1"/>
          <a:stretch/>
        </p:blipFill>
        <p:spPr>
          <a:xfrm>
            <a:off x="250920" y="1484280"/>
            <a:ext cx="2577960" cy="2881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ÐÐ°ÑÑÐ¸Ð½ÐºÐ¸ Ð¿Ð¾ Ð·Ð°Ð¿ÑÐ¾ÑÑ ÑÐ¸ÑÑÐ½Ð¾Ðº Ð¼Ð°ÑÐµÐ¼Ð°ÑÐ¸ÑÐµÑÐºÐ¸Ðµ Ð¼Ð¾Ð´ÐµÐ»Ð¸ Ð² Ð²Ð¸Ð´Ðµ ÑÐ¸ÑÑÐ½ÐºÐ¾Ð²"/>
          <p:cNvPicPr/>
          <p:nvPr/>
        </p:nvPicPr>
        <p:blipFill>
          <a:blip r:embed="rId2"/>
          <a:stretch/>
        </p:blipFill>
        <p:spPr>
          <a:xfrm>
            <a:off x="3132000" y="3822840"/>
            <a:ext cx="5185080" cy="3035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ÐÐ°ÑÑÐ¸Ð½ÐºÐ¸ Ð¿Ð¾ Ð·Ð°Ð¿ÑÐ¾ÑÑ ÑÐ¸ÑÑÐ½Ð¾Ðº Ð¼Ð°ÑÐµÐ¼Ð°ÑÐ¸ÑÐµÑÐºÐ¸Ðµ Ð¼Ð¾Ð´ÐµÐ»Ð¸ Ð² Ð²Ð¸Ð´Ðµ ÑÐ¸ÑÑÐ½ÐºÐ¾Ð²"/>
          <p:cNvPicPr/>
          <p:nvPr/>
        </p:nvPicPr>
        <p:blipFill>
          <a:blip r:embed="rId3"/>
          <a:srcRect l="0" t="0" r="0" b="23238"/>
          <a:stretch/>
        </p:blipFill>
        <p:spPr>
          <a:xfrm>
            <a:off x="3708360" y="1197000"/>
            <a:ext cx="2351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8T18:32:21Z</dcterms:created>
  <dc:creator>User</dc:creator>
  <dc:description/>
  <dc:language>en-US</dc:language>
  <cp:lastModifiedBy>User</cp:lastModifiedBy>
  <dcterms:modified xsi:type="dcterms:W3CDTF">2018-04-18T08:54:49Z</dcterms:modified>
  <cp:revision>28</cp:revision>
  <dc:subject/>
  <dc:title>Слайд 1</dc:title>
</cp:coreProperties>
</file>