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33F-64A2-44FA-9916-5F524C17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A02-297F-45E6-AD5E-425A9145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8E0-480E-407B-9DE3-2B6B1A64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054-1881-4BF6-B6E4-CCDE7885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0CA-4872-48EA-ADD4-9C67638D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F8E-FFC7-4D4E-8A03-D9B2695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84F-DAD8-4AF5-ACEF-A959C69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BDF-BF70-4BC2-8AF0-3EE31B9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FB1-53CD-4082-8B34-5CC3096E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F6D-4C66-4E9C-A5BE-7A8BEE2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57A-5CFD-4954-BB5E-1980F17B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B87-F6B1-498A-99AE-F88D02D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599-CD44-48B5-93E0-FD68563D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те и найдите местои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лнуясь, конница лет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хота движется за н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тяжкой поступью сво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ё стремление кре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едал враг в тот день не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начит русский бой уд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 рукопаш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5:44:49Z</dcterms:created>
  <dc:creator>Admin</dc:creator>
  <dc:description/>
  <dc:language>en-US</dc:language>
  <cp:lastModifiedBy>Admin</cp:lastModifiedBy>
  <dcterms:modified xsi:type="dcterms:W3CDTF">2011-03-16T05:44:49Z</dcterms:modified>
  <cp:revision>1</cp:revision>
  <dc:subject/>
  <dc:title>Прочитайте и найдите местоимения</dc:title>
</cp:coreProperties>
</file>