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4B0-0931-4FB7-BAF2-D9FF50BF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6FF-1259-41B0-97BE-4C6FA64F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155-24C2-4E2A-93EE-7506B6B1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F81-0901-49F3-839F-628477CC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A4E-1DC6-4D49-BC84-805CB641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C03-CAA1-4C7F-AE84-848D70B5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DA0-2BCC-4568-B106-682FAADE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4FA-3460-4B74-A40A-112EB638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B5A-A107-425B-8FB1-B19D1643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255-2D73-47D7-A10C-876CEAC0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5F8-01AB-4FAA-9C1A-4859100F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5C3-9F52-4FAE-90AA-D9D3F365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A35E-79FD-4A77-B2DD-1D9C0A030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кройте ско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ем(нибудь) выб.рать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и)чего (ни)(у)кого (не)г.рело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(либо) комн.тные р.стен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и)какая опас(?)ность (не)грози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и)(перед)чем (не)ост.навливат(?)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чего боят(?)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.деть (не)(на)чт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ем(нибудь) пос.де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.снуться (не)ч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ем-нибудь выбирать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чего ни у кого не горело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-либо комнатные растен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акая опасность не грози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перед чем не останавливать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чего боять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ядеть  не на чт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ем-нибудь посиде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нуться неч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6:40:52Z</dcterms:created>
  <dc:creator>Admin</dc:creator>
  <dc:description/>
  <dc:language>en-US</dc:language>
  <cp:lastModifiedBy>Admin</cp:lastModifiedBy>
  <dcterms:modified xsi:type="dcterms:W3CDTF">2011-03-22T06:40:52Z</dcterms:modified>
  <cp:revision>1</cp:revision>
  <dc:subject/>
  <dc:title>Раскройте скобки</dc:title>
</cp:coreProperties>
</file>