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DC4-44B2-4F13-BE78-E06A8C37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8CA-72F8-4E42-8F66-3D1F954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FE736-8E9C-4948-B63D-A8D0A916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79E00-A9BC-4DC0-8933-5CA0EA2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6ED4D-CCFA-4A01-858D-028B344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2650B-08FB-413C-9D2F-F797877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26005-FD68-4EAA-9887-F2A4CCA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0CA4B-A841-45AD-A391-71BD0BB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B536D-BE48-4A2C-9BBA-CF804F4B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15E6F-1491-44AE-82FA-CDFA1D3F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E1B2-365E-4BF9-BB04-BAA9FCAE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2ABD3-9E66-42AA-B54D-E3E5242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B8E-D3AE-4FE9-BE66-29E10C1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94F40-893C-46DD-AAA3-1FF1FC1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D565A-090D-4BD8-9D61-FCBB87F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100AD-C0E8-4BD9-8F3E-353B7E5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5B27A-D901-4542-9191-0A50D23A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04C94-824B-4B8A-8254-5DE1861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283F2-4873-4AE6-95C5-BE87153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1C58D-8C31-4445-9D24-625D537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F3A43-1728-4EB2-8D39-0ECC647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1C447-8FFB-45F2-BE68-7B1C3CE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F1F10-B2E3-47DD-AFF3-F81DB8F0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B33-2B13-4488-A9EB-D9ECA739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DFA6E-8EBA-4E6A-9A9C-00C91580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874C40-ED70-4C5C-8323-3636A77B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6E2A55-2D0C-4647-B17D-E038D966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89661D-0EE8-494C-AA73-2DBDA52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38D3E3-B341-4D40-B289-B9C5C88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8BFF31-69FD-4BCA-84CB-9612391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44A2A4-DD5C-4D91-9E2A-49B7C16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65DC8D-1F39-49DA-A257-D7803BB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3A502C-BD30-46C7-B215-30607F3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3F3467-D712-4C19-96AC-867BB20C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6176-31FA-4A5C-B059-26E4CD8D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8EABD5-641C-44F1-A7BC-83002DE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EB8110-81B4-4B10-AEB2-935E0B23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1073C1-1400-45C4-9B49-FAA52F88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9CEBB-9892-4912-A150-7C610BB8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AD377-C662-42D0-AC2F-7DCBF261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35AE1-7DCD-46C5-BC51-75E338A4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224C6-5ABA-4F27-95D0-05ADD126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5AAD7-BE6A-40F3-A297-92B96099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C1F1C-054C-4173-9B31-7CF6A1D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74F71-0700-4493-AF9A-A618DF1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8D0-8921-4AFB-A9DD-A56DD4F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4A2B5-8BE0-4839-8C1F-E229D58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44C3-2E31-43BE-A55F-DBB6DB2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F936-CCD0-414E-8204-5ED0E8C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218F5-6902-4A9F-829F-72DB992E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AFF6F-E52A-43CE-8A95-571E434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52F36-4A0B-48C4-865A-8FF3B08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33410-288C-4B2B-B181-C3C7B37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494C3-6089-4878-9602-070BCEE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923F3-6660-4D56-89F6-A7A1858C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7B36F-9D37-4FCC-B004-6D167ADF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7ABD-19A1-4A86-BA02-114E5082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5C1E7-13CA-4402-96AD-E9185F5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0787B-E882-4DE8-8054-741B72C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E0108-FFFE-476A-AA09-76942B8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08086-F905-4B10-B0E0-3091116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B58F2-15F7-4A44-9819-DD2402B4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AAC2A-2840-434E-9A71-9C2FC896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CE925-307E-47F5-8375-B7285A1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35258-9722-4261-94F0-544E78EB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3E2E2-CB50-4A3D-BAF1-507F47B2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8A76A-5B7A-4D98-A4B0-A8B2A3A3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7A38-D7E6-46E7-8FF5-01C67963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F61DA-F6E3-48CA-B27B-6EF21A33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FC043-03AF-48E2-8C53-584DC1F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167A5-2366-4376-B5F0-43BDF0B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20FB9-C569-40D8-B880-91CC1D1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D6879-7868-4726-B491-A88987D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408E0-D4F0-441A-A4EE-9E65BBF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88A2D-7669-41B9-92E5-8872881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B460A-3CF4-4074-825D-794E62E2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6AEA0-B48A-4736-BFB3-12AA2404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137BC-3F6E-4528-A7A5-E8BEBED6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4E5-2AE1-4C19-A9AB-46D5D21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C2AFF-2291-4DCB-86FA-AC68A896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5569B-4352-4F2D-AA68-BDDC3404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71A9F-5469-45D8-A3FD-CF28592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45957-CF05-499B-B912-B6881E89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DD673-EAB7-4B57-8EFA-32D569E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49A7B-B8A1-4770-87FD-1392C90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17AC1-F916-4DE5-B0FE-98F1E1B0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5780A-BCB8-4352-918A-3D30F5A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77CB1-676A-49F1-BA07-E61EDC7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C8BBB-74A6-4EDD-8E15-FF8D047C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C936-1710-4CF2-A462-CA59567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F93F9-7949-482B-AB3A-6C659303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AABAE-D1D0-409F-9DEE-8FF261BC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2F13C-F74A-4BC0-86A0-7F83336C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9D261-A39F-4103-BD10-B0F69874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6CA52-6616-4D08-9492-8D2E8EC5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B33DA-3528-43E2-9BD9-3262279B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B990E-81F5-4275-8288-862DC70C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63171-B46F-49FB-9D0D-3513AE9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AD553-3970-46D2-9FD4-E0F79E8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F241D-8641-495D-861B-12BBB19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327-3A5E-4BF9-82F2-A56EB083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02082-EEA9-41B7-8EAE-FA8C8A57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86C03-36E5-4B8D-BB95-B7A236FC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4F980-1FF4-464A-B7BF-3C3F22FF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382A7-6D5E-4E22-A7ED-B668144F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E7CEF-970C-4F02-A829-82A4D09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E17CA-4F54-4D83-B3C9-789E4C1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D63F6-9F4E-4237-B402-908C629D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15DC7-BF60-456A-8180-8643B50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D5DE3-820F-47C8-984B-371B85C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2A540-4405-425C-97C9-E03F469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0B3-5D3C-4ECE-936F-4683F8E1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5047-F5E5-420B-BB59-E0904F9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C5FFB-125D-4A83-83B2-84503DA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FC2AB-865E-4DEB-B0F0-E3D013B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85CE6-69CF-4B3B-851C-B619A46B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81F13-3A92-41BD-88F1-F3D2E35F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942CC-E9EE-46D4-ABF8-3A898025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A8150-D33A-49E0-A453-C7360C35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298B9-85FC-4099-87ED-D04FE0EA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489FA2-6A37-4454-A29A-ACE1428B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4484F-B219-44DE-9810-1058B7F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EB4D8-DB17-4E32-B1FB-A845994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933-6AB2-4109-99B6-B0BF6D2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F4B96-2CCD-46B4-89BC-94AA786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72884-FC96-4483-9993-AA9BA5F6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4CEF1-A805-4719-A422-6F2B5DA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5A916-57FD-418E-AF70-357F8AD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BBBFD-5F34-43CE-B208-AA3716D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31722-9311-4D0C-9D86-EFBAE56E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4F46F-8615-4C84-8786-D9C63A00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67EE-A762-480F-B8E8-E47C3287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FD4-E04D-4C0B-BBE0-CDF1AA07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CB6-FB35-46B4-BA87-2B67346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BD6B-E82E-4668-8C98-5AB938BD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D511-34DC-41F3-8865-58CA333F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489A-848E-4C83-BF5C-7891E2FF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C833-2CB5-411C-A6C8-FACFBE9E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C968-9942-4E1D-B18F-4FF5701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5AC-4AFB-434A-8A0B-32E2E0C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5569-09DF-4CD7-AF81-72BAE9B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DCC7-72FC-4F7A-871E-C57BA83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8FC4-511C-49F1-B7A4-5A85DA0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4C1C-B858-4FFB-BB72-1BBDDC2C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70E2-7943-4663-B947-5FD731C2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5CC8-9ED2-47AA-9729-83FE6C83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5495-9061-467F-9158-72ABCE98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22324-0480-4C50-98C6-5DE87678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D0F04-F71B-42FE-911A-DE0E0C58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5305F-F7BB-429B-96A9-C2E81674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FBC-C5AB-49C1-850F-6B3E02F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EFA60-2F7C-4BAF-BEA1-3AD2B6C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20D42-DA51-4164-A356-3164959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51693-4DA4-49BE-983C-543D8F3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2A708-43F2-4DE1-883F-0B8BB30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691EA-384D-4936-B09D-0220FC7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7B6B8-3BAA-4C19-9385-2633F56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B146A-1EDA-4452-A564-5B8B4C6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4DD77-6051-429B-8CCC-A8C87B03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21CB0-1BA4-4A78-AE94-C3CEEEA9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E5BD9-126B-4B6D-A1FB-C704F546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69E-911A-45A9-BFB7-6DF9711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E7A6F-ED80-4869-BDF8-CD34F4F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30CB-6A04-4703-9FE4-CA866D3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CD5A8-819F-4BA4-B726-4412219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CCA5-45B9-4287-965C-03818F5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D317-1F05-45F8-9A2F-C16A4257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6CA3-15B1-46AB-B76C-1CD7E26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9300-6E41-433B-A47D-4A1EAFA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43C8-C47B-4729-B5C5-A67DBE4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AA59-BC3B-47E7-AFE2-6785A0C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7598-4212-41B3-B5B5-D6BBC93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1FC-AFAB-47D1-A207-850E0DA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2089-5BE1-46E1-912C-76F12EDB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83BE-A296-4CA2-939C-0BAB08D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69AD-6DA0-4AC0-894F-F62E60E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4387-DD46-4CCB-9C67-89E66EA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6F86-2255-404F-8B4A-ACF91FDC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3C3C-99BB-473F-90A3-945D17F7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1877-7EEE-428C-B505-6837FBF6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5FC1-D6B0-4F6C-B974-E1C9B6EB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133C-7DD6-489C-A72D-9D479AC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48B9-0D72-4219-976A-513FF255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A29-1006-4B47-8E8F-3E2D43B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B3E1-6357-4481-9E93-54D6CBE0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6F28-95AD-423E-9D0D-D0CE4800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6BB21-C828-418F-893F-518E5FB6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0B3D-467C-4154-97BA-F268FCD8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F90EB-B282-487B-8679-6B2CB89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A4E3-BEF4-4182-B3EE-C90251F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0B51-DAC5-4AB4-898D-99A3738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E2C73-1D29-4238-8733-43AC1ABE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EDE7-40DE-4488-8F4F-637F44E9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2AAC-2F7D-4929-BB02-A23C407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C43-57F1-41BC-B32F-A8041D7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93F9-3CF0-48DA-A285-BB5115D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7F85-9AC1-4BFE-B2A4-FD62398E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A383-C11F-4556-B458-E9852E36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06C9-CF64-4C27-8704-52705530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C7D6-163A-4C65-9BD8-1302CD33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18A6C-2853-4B67-B5CC-5E9C1A57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A9EC-BDB5-4BAE-9BA3-94B6A46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C992-2958-4836-906F-E34B900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C291-7384-4C61-95BA-C57EE51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1F45-F39A-4B3A-B720-FC78203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B36-ADF7-47E5-B946-5442BE6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7C8D-4D93-4C21-A9BE-0CD8414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F62C-E236-4DB4-83A5-653EFAE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D5C0-E43C-4E28-9D79-D70DE513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D258-3C2C-4C48-8C32-F1443B6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145F-A030-4ADD-A041-70012329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0E9B9-B174-458A-B147-1C96ECC9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F650-8B9E-4995-A64F-97471820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3666-B63E-4E12-B5A7-9ED25A3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47639-35A0-4605-8B51-FD41DFB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07958-9922-44C5-AE5F-8DFAC06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59AA-5D9C-499E-860B-52C41CDFD60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"/>
          <p:cNvGrpSpPr/>
          <p:nvPr/>
        </p:nvGrpSpPr>
        <p:grpSpPr>
          <a:xfrm>
            <a:off x="0" y="2438280"/>
            <a:ext cx="9004320" cy="1047960"/>
            <a:chOff x="0" y="2438280"/>
            <a:chExt cx="9004320" cy="1047960"/>
          </a:xfrm>
        </p:grpSpPr>
        <p:grpSp>
          <p:nvGrpSpPr>
            <p:cNvPr id="458" name="Group 2"/>
            <p:cNvGrpSpPr/>
            <p:nvPr/>
          </p:nvGrpSpPr>
          <p:grpSpPr>
            <a:xfrm>
              <a:off x="290520" y="2546280"/>
              <a:ext cx="706320" cy="469800"/>
              <a:chOff x="290520" y="2546280"/>
              <a:chExt cx="706320" cy="469800"/>
            </a:xfrm>
          </p:grpSpPr>
          <p:sp>
            <p:nvSpPr>
              <p:cNvPr id="459" name="Rectangle 3"/>
              <p:cNvSpPr/>
              <p:nvPr/>
            </p:nvSpPr>
            <p:spPr>
              <a:xfrm>
                <a:off x="290520" y="2546280"/>
                <a:ext cx="433440" cy="4698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4"/>
              <p:cNvSpPr/>
              <p:nvPr/>
            </p:nvSpPr>
            <p:spPr>
              <a:xfrm>
                <a:off x="673200" y="2546280"/>
                <a:ext cx="323640" cy="469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5"/>
            <p:cNvGrpSpPr/>
            <p:nvPr/>
          </p:nvGrpSpPr>
          <p:grpSpPr>
            <a:xfrm>
              <a:off x="414360" y="2968560"/>
              <a:ext cx="732960" cy="469800"/>
              <a:chOff x="414360" y="2968560"/>
              <a:chExt cx="732960" cy="46980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414360" y="2968560"/>
                <a:ext cx="421560" cy="4698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783360" y="2968560"/>
                <a:ext cx="363960" cy="469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Rectangle 8"/>
            <p:cNvSpPr/>
            <p:nvPr/>
          </p:nvSpPr>
          <p:spPr>
            <a:xfrm>
              <a:off x="0" y="2895480"/>
              <a:ext cx="555480" cy="417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9"/>
            <p:cNvSpPr/>
            <p:nvPr/>
          </p:nvSpPr>
          <p:spPr>
            <a:xfrm>
              <a:off x="635040" y="2438280"/>
              <a:ext cx="2700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 flipV="1">
              <a:off x="316080" y="3259800"/>
              <a:ext cx="86882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8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9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2A4CCD-9C48-4DF7-8012-A99E91A06FC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E41FD0-5D6C-426E-88DF-11CBF0EBD4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0" y="0"/>
            <a:ext cx="9139320" cy="541440"/>
            <a:chOff x="0" y="0"/>
            <a:chExt cx="9139320" cy="541440"/>
          </a:xfrm>
        </p:grpSpPr>
        <p:sp>
          <p:nvSpPr>
            <p:cNvPr id="510" name="Rectangle 4"/>
            <p:cNvSpPr/>
            <p:nvPr/>
          </p:nvSpPr>
          <p:spPr>
            <a:xfrm>
              <a:off x="0" y="0"/>
              <a:ext cx="281160" cy="52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5"/>
            <p:cNvSpPr/>
            <p:nvPr/>
          </p:nvSpPr>
          <p:spPr>
            <a:xfrm>
              <a:off x="412920" y="135000"/>
              <a:ext cx="8726400" cy="26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6"/>
            <p:cNvSpPr/>
            <p:nvPr/>
          </p:nvSpPr>
          <p:spPr>
            <a:xfrm>
              <a:off x="409680" y="135000"/>
              <a:ext cx="1332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7"/>
            <p:cNvSpPr/>
            <p:nvPr/>
          </p:nvSpPr>
          <p:spPr>
            <a:xfrm>
              <a:off x="547560" y="0"/>
              <a:ext cx="13500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8"/>
            <p:cNvSpPr/>
            <p:nvPr/>
          </p:nvSpPr>
          <p:spPr>
            <a:xfrm>
              <a:off x="547560" y="135000"/>
              <a:ext cx="1350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Rectangle 9"/>
            <p:cNvSpPr/>
            <p:nvPr/>
          </p:nvSpPr>
          <p:spPr>
            <a:xfrm>
              <a:off x="274680" y="274680"/>
              <a:ext cx="13176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10"/>
            <p:cNvSpPr/>
            <p:nvPr/>
          </p:nvSpPr>
          <p:spPr>
            <a:xfrm>
              <a:off x="131760" y="136440"/>
              <a:ext cx="136440" cy="133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>
              <a:off x="409680" y="271440"/>
              <a:ext cx="13320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274680" y="409680"/>
              <a:ext cx="13176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1"/>
          <p:cNvGrpSpPr/>
          <p:nvPr/>
        </p:nvGrpSpPr>
        <p:grpSpPr>
          <a:xfrm>
            <a:off x="0" y="0"/>
            <a:ext cx="9139320" cy="6853320"/>
            <a:chOff x="0" y="0"/>
            <a:chExt cx="9139320" cy="6853320"/>
          </a:xfrm>
        </p:grpSpPr>
        <p:sp>
          <p:nvSpPr>
            <p:cNvPr id="559" name="Rectangle 2"/>
            <p:cNvSpPr/>
            <p:nvPr/>
          </p:nvSpPr>
          <p:spPr>
            <a:xfrm>
              <a:off x="0" y="0"/>
              <a:ext cx="3500280" cy="685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Rectangle 3"/>
            <p:cNvSpPr/>
            <p:nvPr/>
          </p:nvSpPr>
          <p:spPr>
            <a:xfrm>
              <a:off x="1716120" y="1690560"/>
              <a:ext cx="7423200" cy="2529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Group 4"/>
            <p:cNvGrpSpPr/>
            <p:nvPr/>
          </p:nvGrpSpPr>
          <p:grpSpPr>
            <a:xfrm>
              <a:off x="0" y="1066680"/>
              <a:ext cx="2862360" cy="3152880"/>
              <a:chOff x="0" y="1066680"/>
              <a:chExt cx="2862360" cy="3152880"/>
            </a:xfrm>
          </p:grpSpPr>
          <p:sp>
            <p:nvSpPr>
              <p:cNvPr id="562" name="Rectangle 5"/>
              <p:cNvSpPr/>
              <p:nvPr/>
            </p:nvSpPr>
            <p:spPr>
              <a:xfrm>
                <a:off x="573120" y="3583080"/>
                <a:ext cx="571320" cy="636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6"/>
              <p:cNvSpPr/>
              <p:nvPr/>
            </p:nvSpPr>
            <p:spPr>
              <a:xfrm>
                <a:off x="1716120" y="1690560"/>
                <a:ext cx="569880" cy="6382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7"/>
              <p:cNvSpPr/>
              <p:nvPr/>
            </p:nvSpPr>
            <p:spPr>
              <a:xfrm>
                <a:off x="2281320" y="1066680"/>
                <a:ext cx="581040" cy="630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8"/>
              <p:cNvSpPr/>
              <p:nvPr/>
            </p:nvSpPr>
            <p:spPr>
              <a:xfrm>
                <a:off x="1141560" y="3583080"/>
                <a:ext cx="579240" cy="6364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9"/>
              <p:cNvSpPr/>
              <p:nvPr/>
            </p:nvSpPr>
            <p:spPr>
              <a:xfrm>
                <a:off x="2281320" y="1690560"/>
                <a:ext cx="581040" cy="6382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10"/>
              <p:cNvSpPr/>
              <p:nvPr/>
            </p:nvSpPr>
            <p:spPr>
              <a:xfrm>
                <a:off x="1141560" y="2324160"/>
                <a:ext cx="579240" cy="6285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11"/>
              <p:cNvSpPr/>
              <p:nvPr/>
            </p:nvSpPr>
            <p:spPr>
              <a:xfrm>
                <a:off x="0" y="2324160"/>
                <a:ext cx="577800" cy="6285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12"/>
              <p:cNvSpPr/>
              <p:nvPr/>
            </p:nvSpPr>
            <p:spPr>
              <a:xfrm>
                <a:off x="1716120" y="2324160"/>
                <a:ext cx="569880" cy="6285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13"/>
              <p:cNvSpPr/>
              <p:nvPr/>
            </p:nvSpPr>
            <p:spPr>
              <a:xfrm>
                <a:off x="573120" y="2948040"/>
                <a:ext cx="571320" cy="6397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14"/>
              <p:cNvSpPr/>
              <p:nvPr/>
            </p:nvSpPr>
            <p:spPr>
              <a:xfrm>
                <a:off x="1141560" y="2948040"/>
                <a:ext cx="57924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A620EA-3160-4133-A37A-7181ED6008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1"/>
          <p:cNvGrpSpPr/>
          <p:nvPr/>
        </p:nvGrpSpPr>
        <p:grpSpPr>
          <a:xfrm>
            <a:off x="0" y="0"/>
            <a:ext cx="2662200" cy="6853320"/>
            <a:chOff x="0" y="0"/>
            <a:chExt cx="2662200" cy="6853320"/>
          </a:xfrm>
        </p:grpSpPr>
        <p:sp>
          <p:nvSpPr>
            <p:cNvPr id="613" name="Rectangle 2"/>
            <p:cNvSpPr/>
            <p:nvPr/>
          </p:nvSpPr>
          <p:spPr>
            <a:xfrm>
              <a:off x="1981080" y="0"/>
              <a:ext cx="681120" cy="6853320"/>
            </a:xfrm>
            <a:prstGeom prst="rect">
              <a:avLst/>
            </a:prstGeom>
            <a:gradFill rotWithShape="0">
              <a:gsLst>
                <a:gs pos="0">
                  <a:srgbClr val="7373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4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5160" cy="68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934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F0B91A-AE45-4EB1-9352-DE22CEE7EA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42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15C9F8-2B7C-4FDD-9292-3776F375EF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5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1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3912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2492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65CAFD-2BAB-4723-8AF6-39853171C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7"/>
          <p:cNvGrpSpPr/>
          <p:nvPr/>
        </p:nvGrpSpPr>
        <p:grpSpPr>
          <a:xfrm>
            <a:off x="8153280" y="152280"/>
            <a:ext cx="787680" cy="1290600"/>
            <a:chOff x="8153280" y="152280"/>
            <a:chExt cx="787680" cy="1290600"/>
          </a:xfrm>
        </p:grpSpPr>
        <p:sp>
          <p:nvSpPr>
            <p:cNvPr id="704" name="Oval 8"/>
            <p:cNvSpPr/>
            <p:nvPr/>
          </p:nvSpPr>
          <p:spPr>
            <a:xfrm>
              <a:off x="8153280" y="15228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Oval 9"/>
            <p:cNvSpPr/>
            <p:nvPr/>
          </p:nvSpPr>
          <p:spPr>
            <a:xfrm>
              <a:off x="8321760" y="15228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Oval 10"/>
            <p:cNvSpPr/>
            <p:nvPr/>
          </p:nvSpPr>
          <p:spPr>
            <a:xfrm>
              <a:off x="8489880" y="15228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Oval 11"/>
            <p:cNvSpPr/>
            <p:nvPr/>
          </p:nvSpPr>
          <p:spPr>
            <a:xfrm>
              <a:off x="8153280" y="32076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Oval 12"/>
            <p:cNvSpPr/>
            <p:nvPr/>
          </p:nvSpPr>
          <p:spPr>
            <a:xfrm>
              <a:off x="8321760" y="32076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Oval 13"/>
            <p:cNvSpPr/>
            <p:nvPr/>
          </p:nvSpPr>
          <p:spPr>
            <a:xfrm>
              <a:off x="8489880" y="32076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Oval 14"/>
            <p:cNvSpPr/>
            <p:nvPr/>
          </p:nvSpPr>
          <p:spPr>
            <a:xfrm>
              <a:off x="8656560" y="32076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Oval 15"/>
            <p:cNvSpPr/>
            <p:nvPr/>
          </p:nvSpPr>
          <p:spPr>
            <a:xfrm>
              <a:off x="8153280" y="48888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Oval 16"/>
            <p:cNvSpPr/>
            <p:nvPr/>
          </p:nvSpPr>
          <p:spPr>
            <a:xfrm>
              <a:off x="8321760" y="48888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Oval 17"/>
            <p:cNvSpPr/>
            <p:nvPr/>
          </p:nvSpPr>
          <p:spPr>
            <a:xfrm>
              <a:off x="8489880" y="48888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Oval 18"/>
            <p:cNvSpPr/>
            <p:nvPr/>
          </p:nvSpPr>
          <p:spPr>
            <a:xfrm>
              <a:off x="8656560" y="48888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Oval 19"/>
            <p:cNvSpPr/>
            <p:nvPr/>
          </p:nvSpPr>
          <p:spPr>
            <a:xfrm>
              <a:off x="8825040" y="48888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Oval 20"/>
            <p:cNvSpPr/>
            <p:nvPr/>
          </p:nvSpPr>
          <p:spPr>
            <a:xfrm>
              <a:off x="8153280" y="655560"/>
              <a:ext cx="115920" cy="115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Oval 21"/>
            <p:cNvSpPr/>
            <p:nvPr/>
          </p:nvSpPr>
          <p:spPr>
            <a:xfrm>
              <a:off x="8321760" y="65556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Oval 22"/>
            <p:cNvSpPr/>
            <p:nvPr/>
          </p:nvSpPr>
          <p:spPr>
            <a:xfrm>
              <a:off x="8489880" y="65556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Oval 23"/>
            <p:cNvSpPr/>
            <p:nvPr/>
          </p:nvSpPr>
          <p:spPr>
            <a:xfrm>
              <a:off x="8656560" y="65556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Oval 24"/>
            <p:cNvSpPr/>
            <p:nvPr/>
          </p:nvSpPr>
          <p:spPr>
            <a:xfrm>
              <a:off x="8153280" y="82404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Oval 25"/>
            <p:cNvSpPr/>
            <p:nvPr/>
          </p:nvSpPr>
          <p:spPr>
            <a:xfrm>
              <a:off x="8321760" y="82404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Oval 26"/>
            <p:cNvSpPr/>
            <p:nvPr/>
          </p:nvSpPr>
          <p:spPr>
            <a:xfrm>
              <a:off x="8489880" y="82404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8656560" y="82404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Oval 28"/>
            <p:cNvSpPr/>
            <p:nvPr/>
          </p:nvSpPr>
          <p:spPr>
            <a:xfrm>
              <a:off x="8825040" y="824040"/>
              <a:ext cx="11592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Oval 29"/>
            <p:cNvSpPr/>
            <p:nvPr/>
          </p:nvSpPr>
          <p:spPr>
            <a:xfrm>
              <a:off x="8153280" y="992160"/>
              <a:ext cx="115920" cy="115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Oval 30"/>
            <p:cNvSpPr/>
            <p:nvPr/>
          </p:nvSpPr>
          <p:spPr>
            <a:xfrm>
              <a:off x="8321760" y="99216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Oval 31"/>
            <p:cNvSpPr/>
            <p:nvPr/>
          </p:nvSpPr>
          <p:spPr>
            <a:xfrm>
              <a:off x="8489880" y="992160"/>
              <a:ext cx="115920" cy="115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Oval 32"/>
            <p:cNvSpPr/>
            <p:nvPr/>
          </p:nvSpPr>
          <p:spPr>
            <a:xfrm>
              <a:off x="8656560" y="992160"/>
              <a:ext cx="115920" cy="115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Oval 33"/>
            <p:cNvSpPr/>
            <p:nvPr/>
          </p:nvSpPr>
          <p:spPr>
            <a:xfrm>
              <a:off x="8153280" y="1160640"/>
              <a:ext cx="1159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Oval 34"/>
            <p:cNvSpPr/>
            <p:nvPr/>
          </p:nvSpPr>
          <p:spPr>
            <a:xfrm>
              <a:off x="8321760" y="1160640"/>
              <a:ext cx="1159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Oval 35"/>
            <p:cNvSpPr/>
            <p:nvPr/>
          </p:nvSpPr>
          <p:spPr>
            <a:xfrm>
              <a:off x="8489880" y="1160640"/>
              <a:ext cx="1159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Oval 36"/>
            <p:cNvSpPr/>
            <p:nvPr/>
          </p:nvSpPr>
          <p:spPr>
            <a:xfrm>
              <a:off x="8656560" y="1160640"/>
              <a:ext cx="1159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Oval 37"/>
            <p:cNvSpPr/>
            <p:nvPr/>
          </p:nvSpPr>
          <p:spPr>
            <a:xfrm>
              <a:off x="8321760" y="1328760"/>
              <a:ext cx="1159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Oval 38"/>
            <p:cNvSpPr/>
            <p:nvPr/>
          </p:nvSpPr>
          <p:spPr>
            <a:xfrm>
              <a:off x="8656560" y="1328760"/>
              <a:ext cx="1159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Line 1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5720" y="464760"/>
            <a:ext cx="67770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A65BE6-ACCA-468F-A47A-C10DF16D4C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6"/>
          <p:cNvGrpSpPr/>
          <p:nvPr/>
        </p:nvGrpSpPr>
        <p:grpSpPr>
          <a:xfrm>
            <a:off x="7493040" y="2992320"/>
            <a:ext cx="1333440" cy="2184480"/>
            <a:chOff x="7493040" y="2992320"/>
            <a:chExt cx="1333440" cy="2184480"/>
          </a:xfrm>
        </p:grpSpPr>
        <p:sp>
          <p:nvSpPr>
            <p:cNvPr id="777" name="Oval 7"/>
            <p:cNvSpPr/>
            <p:nvPr/>
          </p:nvSpPr>
          <p:spPr>
            <a:xfrm>
              <a:off x="7493040" y="2992320"/>
              <a:ext cx="196920" cy="196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7777080" y="2992320"/>
              <a:ext cx="196920" cy="196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8061480" y="2992320"/>
              <a:ext cx="196560" cy="196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7493040" y="3276720"/>
              <a:ext cx="196920" cy="196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7777080" y="3276720"/>
              <a:ext cx="196920" cy="196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Oval 12"/>
            <p:cNvSpPr/>
            <p:nvPr/>
          </p:nvSpPr>
          <p:spPr>
            <a:xfrm>
              <a:off x="8061480" y="3276720"/>
              <a:ext cx="196560" cy="196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>
              <a:off x="8345520" y="3276720"/>
              <a:ext cx="196920" cy="196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Oval 14"/>
            <p:cNvSpPr/>
            <p:nvPr/>
          </p:nvSpPr>
          <p:spPr>
            <a:xfrm>
              <a:off x="7493040" y="3560760"/>
              <a:ext cx="196920" cy="196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Oval 15"/>
            <p:cNvSpPr/>
            <p:nvPr/>
          </p:nvSpPr>
          <p:spPr>
            <a:xfrm>
              <a:off x="7777080" y="3560760"/>
              <a:ext cx="196920" cy="196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Oval 16"/>
            <p:cNvSpPr/>
            <p:nvPr/>
          </p:nvSpPr>
          <p:spPr>
            <a:xfrm>
              <a:off x="8061480" y="3560760"/>
              <a:ext cx="196560" cy="196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Oval 17"/>
            <p:cNvSpPr/>
            <p:nvPr/>
          </p:nvSpPr>
          <p:spPr>
            <a:xfrm>
              <a:off x="8345520" y="3560760"/>
              <a:ext cx="196920" cy="196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Oval 18"/>
            <p:cNvSpPr/>
            <p:nvPr/>
          </p:nvSpPr>
          <p:spPr>
            <a:xfrm>
              <a:off x="8629560" y="3560760"/>
              <a:ext cx="196920" cy="196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Oval 19"/>
            <p:cNvSpPr/>
            <p:nvPr/>
          </p:nvSpPr>
          <p:spPr>
            <a:xfrm>
              <a:off x="7493040" y="3843360"/>
              <a:ext cx="196920" cy="1983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Oval 20"/>
            <p:cNvSpPr/>
            <p:nvPr/>
          </p:nvSpPr>
          <p:spPr>
            <a:xfrm>
              <a:off x="7777080" y="3843360"/>
              <a:ext cx="19692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Oval 21"/>
            <p:cNvSpPr/>
            <p:nvPr/>
          </p:nvSpPr>
          <p:spPr>
            <a:xfrm>
              <a:off x="8061480" y="3843360"/>
              <a:ext cx="19656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Oval 22"/>
            <p:cNvSpPr/>
            <p:nvPr/>
          </p:nvSpPr>
          <p:spPr>
            <a:xfrm>
              <a:off x="8345520" y="3843360"/>
              <a:ext cx="19692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Oval 23"/>
            <p:cNvSpPr/>
            <p:nvPr/>
          </p:nvSpPr>
          <p:spPr>
            <a:xfrm>
              <a:off x="7493040" y="4127400"/>
              <a:ext cx="19692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Oval 24"/>
            <p:cNvSpPr/>
            <p:nvPr/>
          </p:nvSpPr>
          <p:spPr>
            <a:xfrm>
              <a:off x="7777080" y="4127400"/>
              <a:ext cx="196920" cy="1983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Oval 25"/>
            <p:cNvSpPr/>
            <p:nvPr/>
          </p:nvSpPr>
          <p:spPr>
            <a:xfrm>
              <a:off x="8061480" y="4127400"/>
              <a:ext cx="19656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Oval 26"/>
            <p:cNvSpPr/>
            <p:nvPr/>
          </p:nvSpPr>
          <p:spPr>
            <a:xfrm>
              <a:off x="8345520" y="4127400"/>
              <a:ext cx="196920" cy="198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Oval 27"/>
            <p:cNvSpPr/>
            <p:nvPr/>
          </p:nvSpPr>
          <p:spPr>
            <a:xfrm>
              <a:off x="8629560" y="4127400"/>
              <a:ext cx="196920" cy="198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Oval 28"/>
            <p:cNvSpPr/>
            <p:nvPr/>
          </p:nvSpPr>
          <p:spPr>
            <a:xfrm>
              <a:off x="7493040" y="4411800"/>
              <a:ext cx="196920" cy="196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Oval 29"/>
            <p:cNvSpPr/>
            <p:nvPr/>
          </p:nvSpPr>
          <p:spPr>
            <a:xfrm>
              <a:off x="7777080" y="4411800"/>
              <a:ext cx="196920" cy="196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Oval 30"/>
            <p:cNvSpPr/>
            <p:nvPr/>
          </p:nvSpPr>
          <p:spPr>
            <a:xfrm>
              <a:off x="8061480" y="4411800"/>
              <a:ext cx="196560" cy="196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Oval 31"/>
            <p:cNvSpPr/>
            <p:nvPr/>
          </p:nvSpPr>
          <p:spPr>
            <a:xfrm>
              <a:off x="8345520" y="4411800"/>
              <a:ext cx="196920" cy="196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Oval 32"/>
            <p:cNvSpPr/>
            <p:nvPr/>
          </p:nvSpPr>
          <p:spPr>
            <a:xfrm>
              <a:off x="7493040" y="4695840"/>
              <a:ext cx="196920" cy="196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Oval 33"/>
            <p:cNvSpPr/>
            <p:nvPr/>
          </p:nvSpPr>
          <p:spPr>
            <a:xfrm>
              <a:off x="7777080" y="4695840"/>
              <a:ext cx="196920" cy="196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Oval 34"/>
            <p:cNvSpPr/>
            <p:nvPr/>
          </p:nvSpPr>
          <p:spPr>
            <a:xfrm>
              <a:off x="8061480" y="4695840"/>
              <a:ext cx="196560" cy="196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Oval 35"/>
            <p:cNvSpPr/>
            <p:nvPr/>
          </p:nvSpPr>
          <p:spPr>
            <a:xfrm>
              <a:off x="8345520" y="4695840"/>
              <a:ext cx="196920" cy="196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Oval 36"/>
            <p:cNvSpPr/>
            <p:nvPr/>
          </p:nvSpPr>
          <p:spPr>
            <a:xfrm>
              <a:off x="7777080" y="4979880"/>
              <a:ext cx="196920" cy="196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8345520" y="4979880"/>
              <a:ext cx="196920" cy="196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Line 38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1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846" name="Freeform 2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Freeform 3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Freeform 4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Freeform 5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6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7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Freeform 8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Freeform 9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Freeform 10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Freeform 13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Freeform 14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Freeform 15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Freeform 16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Freeform 17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Freeform 18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Freeform 19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BC1A6C-BC51-47AF-9C0B-C69E1598ED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1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906" name="Freeform 2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Freeform 3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Freeform 4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Freeform 5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Freeform 6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Freeform 7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Freeform 8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Freeform 9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Freeform 10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Freeform 13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Freeform 14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Freeform 15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Freeform 16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Freeform 17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Freeform 18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Freeform 19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CE3800-157D-44C5-9095-01A4579B42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24994B-DB56-407D-B62D-AB66E25BD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49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023B83-E4D8-4607-9717-5313DB9F7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99080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5E5691-5EDA-4B20-AB3F-C66E72E9B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3016A5-D795-44E4-8A21-1DA94EA21F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7"/>
          <p:cNvSpPr/>
          <p:nvPr/>
        </p:nvSpPr>
        <p:spPr>
          <a:xfrm rot="18420000">
            <a:off x="7862040" y="2592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8"/>
          <p:cNvSpPr/>
          <p:nvPr/>
        </p:nvSpPr>
        <p:spPr>
          <a:xfrm rot="18420000">
            <a:off x="782748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7920" y="5540400"/>
            <a:ext cx="1779480" cy="1241280"/>
            <a:chOff x="7920" y="5540400"/>
            <a:chExt cx="1779480" cy="1241280"/>
          </a:xfrm>
        </p:grpSpPr>
        <p:sp>
          <p:nvSpPr>
            <p:cNvPr id="174" name="Freeform 10"/>
            <p:cNvSpPr/>
            <p:nvPr/>
          </p:nvSpPr>
          <p:spPr>
            <a:xfrm>
              <a:off x="38160" y="5564160"/>
              <a:ext cx="1724040" cy="102564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1622520" y="5686560"/>
              <a:ext cx="108000" cy="1998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31680" y="5991120"/>
              <a:ext cx="1252440" cy="64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04840" y="6045120"/>
              <a:ext cx="828720" cy="5889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770040" y="5607000"/>
              <a:ext cx="209520" cy="187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1017720" y="6608880"/>
              <a:ext cx="115920" cy="1728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00280" y="5726160"/>
              <a:ext cx="301320" cy="603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1060560" y="5699160"/>
              <a:ext cx="573120" cy="271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550800" y="5862600"/>
              <a:ext cx="243000" cy="1015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Group 19"/>
            <p:cNvGrpSpPr/>
            <p:nvPr/>
          </p:nvGrpSpPr>
          <p:grpSpPr>
            <a:xfrm>
              <a:off x="7920" y="5540400"/>
              <a:ext cx="1779480" cy="1233360"/>
              <a:chOff x="7920" y="5540400"/>
              <a:chExt cx="1779480" cy="123336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792000" y="5654520"/>
                <a:ext cx="865440" cy="1119240"/>
                <a:chOff x="792000" y="5654520"/>
                <a:chExt cx="865440" cy="1119240"/>
              </a:xfrm>
            </p:grpSpPr>
            <p:sp>
              <p:nvSpPr>
                <p:cNvPr id="185" name="Freeform 21"/>
                <p:cNvSpPr/>
                <p:nvPr/>
              </p:nvSpPr>
              <p:spPr>
                <a:xfrm>
                  <a:off x="792000" y="5694480"/>
                  <a:ext cx="244800" cy="1332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22"/>
                <p:cNvSpPr/>
                <p:nvPr/>
              </p:nvSpPr>
              <p:spPr>
                <a:xfrm>
                  <a:off x="1009800" y="6567480"/>
                  <a:ext cx="177480" cy="2062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23"/>
                <p:cNvSpPr/>
                <p:nvPr/>
              </p:nvSpPr>
              <p:spPr>
                <a:xfrm>
                  <a:off x="1593720" y="5654520"/>
                  <a:ext cx="63720" cy="1810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Freeform 24"/>
              <p:cNvSpPr/>
              <p:nvPr/>
            </p:nvSpPr>
            <p:spPr>
              <a:xfrm>
                <a:off x="120600" y="5924520"/>
                <a:ext cx="939960" cy="392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25"/>
              <p:cNvSpPr/>
              <p:nvPr/>
            </p:nvSpPr>
            <p:spPr>
              <a:xfrm>
                <a:off x="412920" y="6168960"/>
                <a:ext cx="382320" cy="23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>
                <a:off x="896760" y="5842080"/>
                <a:ext cx="165240" cy="3729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1" name="Group 27"/>
              <p:cNvGrpSpPr/>
              <p:nvPr/>
            </p:nvGrpSpPr>
            <p:grpSpPr>
              <a:xfrm>
                <a:off x="7920" y="5540400"/>
                <a:ext cx="1779480" cy="1071360"/>
                <a:chOff x="7920" y="5540400"/>
                <a:chExt cx="1779480" cy="1071360"/>
              </a:xfrm>
            </p:grpSpPr>
            <p:sp>
              <p:nvSpPr>
                <p:cNvPr id="192" name="Freeform 28"/>
                <p:cNvSpPr/>
                <p:nvPr/>
              </p:nvSpPr>
              <p:spPr>
                <a:xfrm>
                  <a:off x="1062000" y="6426360"/>
                  <a:ext cx="114480" cy="1332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9"/>
                <p:cNvSpPr/>
                <p:nvPr/>
              </p:nvSpPr>
              <p:spPr>
                <a:xfrm>
                  <a:off x="7920" y="5918040"/>
                  <a:ext cx="1332000" cy="6937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30"/>
                <p:cNvSpPr/>
                <p:nvPr/>
              </p:nvSpPr>
              <p:spPr>
                <a:xfrm>
                  <a:off x="168120" y="598500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31"/>
                <p:cNvSpPr/>
                <p:nvPr/>
              </p:nvSpPr>
              <p:spPr>
                <a:xfrm>
                  <a:off x="712800" y="5540400"/>
                  <a:ext cx="506520" cy="9381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32"/>
                <p:cNvSpPr/>
                <p:nvPr/>
              </p:nvSpPr>
              <p:spPr>
                <a:xfrm>
                  <a:off x="917640" y="5794200"/>
                  <a:ext cx="147600" cy="3956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33"/>
                <p:cNvSpPr/>
                <p:nvPr/>
              </p:nvSpPr>
              <p:spPr>
                <a:xfrm>
                  <a:off x="520560" y="5762520"/>
                  <a:ext cx="304920" cy="2095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34"/>
                <p:cNvSpPr/>
                <p:nvPr/>
              </p:nvSpPr>
              <p:spPr>
                <a:xfrm>
                  <a:off x="1044720" y="5616720"/>
                  <a:ext cx="742680" cy="3315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35"/>
                <p:cNvSpPr/>
                <p:nvPr/>
              </p:nvSpPr>
              <p:spPr>
                <a:xfrm>
                  <a:off x="1138320" y="5724360"/>
                  <a:ext cx="384120" cy="1317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0" name="Group 36"/>
          <p:cNvGrpSpPr/>
          <p:nvPr/>
        </p:nvGrpSpPr>
        <p:grpSpPr>
          <a:xfrm>
            <a:off x="8679960" y="2116080"/>
            <a:ext cx="381240" cy="4303800"/>
            <a:chOff x="8679960" y="2116080"/>
            <a:chExt cx="381240" cy="4303800"/>
          </a:xfrm>
        </p:grpSpPr>
        <p:sp>
          <p:nvSpPr>
            <p:cNvPr id="201" name="Freeform 37"/>
            <p:cNvSpPr/>
            <p:nvPr/>
          </p:nvSpPr>
          <p:spPr>
            <a:xfrm flipH="1">
              <a:off x="8679600" y="4159080"/>
              <a:ext cx="320760" cy="22608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 flipH="1">
              <a:off x="8740080" y="2116080"/>
              <a:ext cx="320760" cy="258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6096960" y="-255600"/>
            <a:ext cx="4571640" cy="4379760"/>
            <a:chOff x="6096960" y="-255600"/>
            <a:chExt cx="4571640" cy="4379760"/>
          </a:xfrm>
        </p:grpSpPr>
        <p:grpSp>
          <p:nvGrpSpPr>
            <p:cNvPr id="204" name="Group 40"/>
            <p:cNvGrpSpPr/>
            <p:nvPr/>
          </p:nvGrpSpPr>
          <p:grpSpPr>
            <a:xfrm>
              <a:off x="6096960" y="-255600"/>
              <a:ext cx="4571640" cy="4379760"/>
              <a:chOff x="6096960" y="-255600"/>
              <a:chExt cx="4571640" cy="4379760"/>
            </a:xfrm>
          </p:grpSpPr>
          <p:sp>
            <p:nvSpPr>
              <p:cNvPr id="205" name="Freeform 41"/>
              <p:cNvSpPr/>
              <p:nvPr/>
            </p:nvSpPr>
            <p:spPr>
              <a:xfrm rot="18420000">
                <a:off x="8618040" y="1728360"/>
                <a:ext cx="93960" cy="4525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42"/>
              <p:cNvGrpSpPr/>
              <p:nvPr/>
            </p:nvGrpSpPr>
            <p:grpSpPr>
              <a:xfrm>
                <a:off x="6096960" y="-255600"/>
                <a:ext cx="4571640" cy="4379760"/>
                <a:chOff x="6096960" y="-255600"/>
                <a:chExt cx="4571640" cy="4379760"/>
              </a:xfrm>
            </p:grpSpPr>
            <p:sp>
              <p:nvSpPr>
                <p:cNvPr id="207" name="Freeform 43"/>
                <p:cNvSpPr/>
                <p:nvPr/>
              </p:nvSpPr>
              <p:spPr>
                <a:xfrm rot="18420000">
                  <a:off x="7456680" y="-97200"/>
                  <a:ext cx="538560" cy="3362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44"/>
                <p:cNvSpPr/>
                <p:nvPr/>
              </p:nvSpPr>
              <p:spPr>
                <a:xfrm rot="18420000">
                  <a:off x="7632000" y="966600"/>
                  <a:ext cx="957240" cy="11962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45"/>
                <p:cNvSpPr/>
                <p:nvPr/>
              </p:nvSpPr>
              <p:spPr>
                <a:xfrm rot="18420000">
                  <a:off x="7014960" y="624960"/>
                  <a:ext cx="1801800" cy="24598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46"/>
                <p:cNvSpPr/>
                <p:nvPr/>
              </p:nvSpPr>
              <p:spPr>
                <a:xfrm rot="18420000">
                  <a:off x="7029000" y="92160"/>
                  <a:ext cx="2707560" cy="368424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47"/>
                <p:cNvSpPr/>
                <p:nvPr/>
              </p:nvSpPr>
              <p:spPr>
                <a:xfrm rot="18420000">
                  <a:off x="8356680" y="2867400"/>
                  <a:ext cx="595800" cy="3247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48"/>
                <p:cNvSpPr/>
                <p:nvPr/>
              </p:nvSpPr>
              <p:spPr>
                <a:xfrm rot="18420000">
                  <a:off x="8229240" y="2548080"/>
                  <a:ext cx="641160" cy="3855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49"/>
                <p:cNvSpPr/>
                <p:nvPr/>
              </p:nvSpPr>
              <p:spPr>
                <a:xfrm rot="18420000">
                  <a:off x="7492680" y="412920"/>
                  <a:ext cx="641160" cy="3970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50"/>
                <p:cNvSpPr/>
                <p:nvPr/>
              </p:nvSpPr>
              <p:spPr>
                <a:xfrm rot="18420000">
                  <a:off x="7392960" y="163080"/>
                  <a:ext cx="633600" cy="371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Line 51"/>
            <p:cNvSpPr/>
            <p:nvPr/>
          </p:nvSpPr>
          <p:spPr>
            <a:xfrm>
              <a:off x="7731000" y="133200"/>
              <a:ext cx="61920" cy="147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61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4A0485-291D-479F-A3A0-36644442560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195120" y="235080"/>
            <a:ext cx="3783240" cy="1773000"/>
            <a:chOff x="195120" y="235080"/>
            <a:chExt cx="3783240" cy="1773000"/>
          </a:xfrm>
        </p:grpSpPr>
        <p:sp>
          <p:nvSpPr>
            <p:cNvPr id="258" name="Freeform 7"/>
            <p:cNvSpPr/>
            <p:nvPr/>
          </p:nvSpPr>
          <p:spPr>
            <a:xfrm>
              <a:off x="281160" y="281160"/>
              <a:ext cx="3566880" cy="16095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263520" y="414360"/>
              <a:ext cx="3557520" cy="15937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752400" y="546120"/>
              <a:ext cx="2357640" cy="145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10"/>
            <p:cNvGrpSpPr/>
            <p:nvPr/>
          </p:nvGrpSpPr>
          <p:grpSpPr>
            <a:xfrm>
              <a:off x="195120" y="235080"/>
              <a:ext cx="3783240" cy="1711080"/>
              <a:chOff x="195120" y="235080"/>
              <a:chExt cx="3783240" cy="1711080"/>
            </a:xfrm>
          </p:grpSpPr>
          <p:sp>
            <p:nvSpPr>
              <p:cNvPr id="262" name="Freeform 11"/>
              <p:cNvSpPr/>
              <p:nvPr/>
            </p:nvSpPr>
            <p:spPr>
              <a:xfrm>
                <a:off x="3182760" y="1482840"/>
                <a:ext cx="331920" cy="334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195120" y="235080"/>
                <a:ext cx="3783240" cy="1711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514440" y="250920"/>
                <a:ext cx="2671560" cy="969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649440" y="398520"/>
                <a:ext cx="355320" cy="646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5"/>
              <p:cNvSpPr/>
              <p:nvPr/>
            </p:nvSpPr>
            <p:spPr>
              <a:xfrm>
                <a:off x="1343160" y="851040"/>
                <a:ext cx="1092240" cy="57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Group 16"/>
          <p:cNvGrpSpPr/>
          <p:nvPr/>
        </p:nvGrpSpPr>
        <p:grpSpPr>
          <a:xfrm>
            <a:off x="7502040" y="4005360"/>
            <a:ext cx="1580760" cy="1779480"/>
            <a:chOff x="7502040" y="4005360"/>
            <a:chExt cx="1580760" cy="1779480"/>
          </a:xfrm>
        </p:grpSpPr>
        <p:sp>
          <p:nvSpPr>
            <p:cNvPr id="268" name="Freeform 17"/>
            <p:cNvSpPr/>
            <p:nvPr/>
          </p:nvSpPr>
          <p:spPr>
            <a:xfrm rot="7320000">
              <a:off x="7796880" y="4657320"/>
              <a:ext cx="993960" cy="4604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 rot="7320000">
              <a:off x="7774200" y="4637880"/>
              <a:ext cx="990720" cy="4554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 rot="7320000">
              <a:off x="7942680" y="4626360"/>
              <a:ext cx="655560" cy="4158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Group 20"/>
            <p:cNvGrpSpPr/>
            <p:nvPr/>
          </p:nvGrpSpPr>
          <p:grpSpPr>
            <a:xfrm>
              <a:off x="7502040" y="4005360"/>
              <a:ext cx="1580760" cy="1779480"/>
              <a:chOff x="7502040" y="4005360"/>
              <a:chExt cx="1580760" cy="1779480"/>
            </a:xfrm>
          </p:grpSpPr>
          <p:sp>
            <p:nvSpPr>
              <p:cNvPr id="272" name="Freeform 21"/>
              <p:cNvSpPr/>
              <p:nvPr/>
            </p:nvSpPr>
            <p:spPr>
              <a:xfrm rot="7320000">
                <a:off x="7630920" y="5121000"/>
                <a:ext cx="128520" cy="170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22"/>
              <p:cNvSpPr/>
              <p:nvPr/>
            </p:nvSpPr>
            <p:spPr>
              <a:xfrm rot="7320000">
                <a:off x="7526520" y="4441320"/>
                <a:ext cx="1531440" cy="9072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23"/>
              <p:cNvSpPr/>
              <p:nvPr/>
            </p:nvSpPr>
            <p:spPr>
              <a:xfrm rot="7320000">
                <a:off x="7977600" y="4630680"/>
                <a:ext cx="1082880" cy="509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24"/>
              <p:cNvSpPr/>
              <p:nvPr/>
            </p:nvSpPr>
            <p:spPr>
              <a:xfrm rot="7320000">
                <a:off x="8730000" y="4375440"/>
                <a:ext cx="139680" cy="338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 rot="7320000">
                <a:off x="8103600" y="4660920"/>
                <a:ext cx="437760" cy="2991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Freeform 26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27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"/>
          <p:cNvGrpSpPr/>
          <p:nvPr/>
        </p:nvGrpSpPr>
        <p:grpSpPr>
          <a:xfrm>
            <a:off x="0" y="0"/>
            <a:ext cx="7615080" cy="6853320"/>
            <a:chOff x="0" y="0"/>
            <a:chExt cx="7615080" cy="6853320"/>
          </a:xfrm>
        </p:grpSpPr>
        <p:grpSp>
          <p:nvGrpSpPr>
            <p:cNvPr id="316" name="Group 2"/>
            <p:cNvGrpSpPr/>
            <p:nvPr/>
          </p:nvGrpSpPr>
          <p:grpSpPr>
            <a:xfrm>
              <a:off x="0" y="0"/>
              <a:ext cx="3195720" cy="6853320"/>
              <a:chOff x="0" y="0"/>
              <a:chExt cx="3195720" cy="6853320"/>
            </a:xfrm>
          </p:grpSpPr>
          <p:sp>
            <p:nvSpPr>
              <p:cNvPr id="317" name="Rectangle 3"/>
              <p:cNvSpPr/>
              <p:nvPr/>
            </p:nvSpPr>
            <p:spPr>
              <a:xfrm>
                <a:off x="0" y="0"/>
                <a:ext cx="757080" cy="685332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Freeform 4"/>
              <p:cNvSpPr/>
              <p:nvPr/>
            </p:nvSpPr>
            <p:spPr>
              <a:xfrm>
                <a:off x="457200" y="0"/>
                <a:ext cx="2738520" cy="116208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5"/>
            <p:cNvGrpSpPr/>
            <p:nvPr/>
          </p:nvGrpSpPr>
          <p:grpSpPr>
            <a:xfrm>
              <a:off x="228600" y="1981080"/>
              <a:ext cx="7386480" cy="314280"/>
              <a:chOff x="228600" y="1981080"/>
              <a:chExt cx="7386480" cy="314280"/>
            </a:xfrm>
          </p:grpSpPr>
          <p:sp>
            <p:nvSpPr>
              <p:cNvPr id="320" name="AutoShape 6"/>
              <p:cNvSpPr/>
              <p:nvPr/>
            </p:nvSpPr>
            <p:spPr>
              <a:xfrm>
                <a:off x="609480" y="1981080"/>
                <a:ext cx="7005600" cy="31284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7"/>
              <p:cNvSpPr/>
              <p:nvPr/>
            </p:nvSpPr>
            <p:spPr>
              <a:xfrm flipH="1">
                <a:off x="228600" y="1981080"/>
                <a:ext cx="388800" cy="3142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3040" y="747360"/>
            <a:ext cx="777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84240" y="6237360"/>
            <a:ext cx="582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375645-500A-408B-AEF4-7502CB2ECE7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1"/>
          <p:cNvGrpSpPr/>
          <p:nvPr/>
        </p:nvGrpSpPr>
        <p:grpSpPr>
          <a:xfrm>
            <a:off x="0" y="0"/>
            <a:ext cx="5862600" cy="6853320"/>
            <a:chOff x="0" y="0"/>
            <a:chExt cx="5862600" cy="6853320"/>
          </a:xfrm>
        </p:grpSpPr>
        <p:sp>
          <p:nvSpPr>
            <p:cNvPr id="364" name="Rectangle 2"/>
            <p:cNvSpPr/>
            <p:nvPr/>
          </p:nvSpPr>
          <p:spPr>
            <a:xfrm>
              <a:off x="0" y="0"/>
              <a:ext cx="4567320" cy="68533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3"/>
            <p:cNvSpPr/>
            <p:nvPr/>
          </p:nvSpPr>
          <p:spPr>
            <a:xfrm>
              <a:off x="685800" y="990720"/>
              <a:ext cx="5176800" cy="1900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Group 4"/>
          <p:cNvGrpSpPr/>
          <p:nvPr/>
        </p:nvGrpSpPr>
        <p:grpSpPr>
          <a:xfrm>
            <a:off x="3631680" y="4889520"/>
            <a:ext cx="4872600" cy="314280"/>
            <a:chOff x="3631680" y="4889520"/>
            <a:chExt cx="4872600" cy="314280"/>
          </a:xfrm>
        </p:grpSpPr>
        <p:sp>
          <p:nvSpPr>
            <p:cNvPr id="367" name="AutoShape 5"/>
            <p:cNvSpPr/>
            <p:nvPr/>
          </p:nvSpPr>
          <p:spPr>
            <a:xfrm flipH="1">
              <a:off x="3631320" y="4889520"/>
              <a:ext cx="4621320" cy="31284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AutoShape 6"/>
            <p:cNvSpPr/>
            <p:nvPr/>
          </p:nvSpPr>
          <p:spPr>
            <a:xfrm>
              <a:off x="8248680" y="4889520"/>
              <a:ext cx="255600" cy="3142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dt" idx="22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3"/>
          </p:nvPr>
        </p:nvSpPr>
        <p:spPr>
          <a:xfrm>
            <a:off x="5791320" y="6248160"/>
            <a:ext cx="2892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4"/>
          </p:nvPr>
        </p:nvSpPr>
        <p:spPr>
          <a:xfrm>
            <a:off x="76320" y="6243120"/>
            <a:ext cx="582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0C90A5-613D-4728-A1C8-03EBA4E0E0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764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7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9952F2-0E3B-4DDA-8230-13AB0B321BF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Дети Солнца в гостях у Деда мороза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19120" y="170496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едущая в костюме Снегурочки (психолог занимается с детьми индивидуально) встречает детей  словами: Идите ко мне, посмотрите какая я нарядная, потрогайте косу,  шапочку, шубку. Вот какая я Снегурочка! Здравствуйте солнышки! (на ребятах головные уборы в виде короны с Солнышком — совместные поделки родителей с детьми, для подготовки встрече Нового года)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осмотрите к нам в гости елочка из леса пришла! Давайте потрогаем елочку. Какая она? Пушистая, колючая, зелена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Скоро Новый год. Нужно елочку нарядить!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месте с родителями дети наряжают елку: большими шарами красного цвета, маленькими шариками желтого цвета; кубиками зеленого цвета и синими фигурками дедов морозов (дети занимались с похожими предметами сортировкой).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Хоровод вокруг елочки с Хрюшей и Степашкой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2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едущий: посмотрите кто к нам пришел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Специалист (логопед занимающийся детьми индивидуально)  с 2 куклами бимбобо Хрюшей и Степашкой (герои передачи «Спокойной ночи малыши» используются специалистами в индивидуальной развивающей работе) здоровается с ребятами за ручку и просит поздороваться как Хрюша «ХРЮ-ХРЮ» и Степашка «ГАВ-ГАВ»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Хрюша и Степашка: посмотрите, что мы вам принесли (в корзинке музыкальные инструменты маракасы разной величины и звучания). Музыкальные инструменты раздаются всем и детя и родителям. Ведущий: Давайте потанцуем с Хрюшей и Степашкой (ритмичная музыка «Новогодние игрушки»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</a:rPr>
              <a:t>Знакомство с Дедом морозом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 rot="21540000">
            <a:off x="428040" y="1418400"/>
            <a:ext cx="8243640" cy="70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Снегурочка: а теперь давайте все вместе позовем дедушку Мороза! Ребята к нам пришел Дед Мороз (заводная музыкальная игрушка в руках у дефектолога)! : Давайте поздороваемся с Дедушкой Морозом! (дети рассматривают новую игрушку, дают ручку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ослушайте, дети какую песенку нам поет Дед Мороз (включает песенку Деда Мороза: «В лесу родилась елочка»). Родители с детьми и специалистами водят хоровод и поют, обращая внимание детей на действия происходящие в сюжете песенки и мотивируя детей повторять движения за родителями (подобные занятия проводятся с детьми на индивидуальных и групповых занятиях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</a:rPr>
              <a:t>«Снегопад» - игра со Снегурочкой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негурочка: Дедушка Мороз посмотри какой танец ребята для тебя приготовили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анец-игра (музыка «Снежинки») (снежинки разного размера родители с детьми делали на индивидуальных занятиях) — ребята с родителями, Хрюша, Снегурочка, кружатся со снежинками на ладошках и сдувают их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Игра разложи снежинки:  вместе с родителями собирают снежинки в разные сугробы под елочкой - большие снежинки к большим,  маленькие к маленьки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Подарки деда Мороза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3680" y="1655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негурочка: Ребята посмотрите Дедушка Мороз нам новогодние подарки принес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се участники помогают деду Морозу вручать подарки (развивающие игрушки,приобретенные родителями, подобранные специалистами для каждого ребенка по результатам коррекционно - развивающих занятий с учетом зоны ближайшего развития). Также детям и родителям вручаются именные дипломы (для развития мотивации сотрудничества с родителями (см. ниже)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плом для ребенка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4" name="Freeform 2"/>
          <p:cNvSpPr/>
          <p:nvPr/>
        </p:nvSpPr>
        <p:spPr>
          <a:xfrm>
            <a:off x="514440" y="1295280"/>
            <a:ext cx="7692840" cy="5616720"/>
          </a:xfrm>
          <a:prstGeom prst="pie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ипл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истер улыб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етро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ше 2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9.12.2013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5" name="Picture 3" descr=""/>
          <p:cNvPicPr/>
          <p:nvPr/>
        </p:nvPicPr>
        <p:blipFill>
          <a:blip r:embed="rId1"/>
          <a:stretch/>
        </p:blipFill>
        <p:spPr>
          <a:xfrm>
            <a:off x="0" y="1584360"/>
            <a:ext cx="1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Названия дипломов для детей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Мистер обояние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Мисс обояние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Мистер улыбка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Мисс улыбка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Мастер умелые ручки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плом для родителя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9" name="AutoShape 2"/>
          <p:cNvSpPr/>
          <p:nvPr/>
        </p:nvSpPr>
        <p:spPr>
          <a:xfrm>
            <a:off x="431640" y="1417680"/>
            <a:ext cx="7775640" cy="4722840"/>
          </a:xfrm>
          <a:prstGeom prst="pi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ипл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 помощь в организации мероприятий для детей раннего возраста в Службе ранней помощ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ерновой Т.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-687600"/>
            <a:ext cx="7543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Игра: «Снеж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54040" y="1387440"/>
            <a:ext cx="82296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За театральной ширмой раздается стук голос «Хрюши»: хрю,хрю в снег провалился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Дети слышите Хрюша, где он спрятался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Давайте его найдем! (родители и участники помогают детям найти Хрюшу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Хрюша выглядывает из-за ширмы и начинает кидать во всех блестящие шарики: А ну ка давайте играть в снежки. Я вас сейчас снежками закидаю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негурочка предлагает всем</a:t>
            </a:r>
            <a:r>
              <a:rPr b="0" lang="ru-RU" sz="2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участвовать в сражении. Заканчивается сражение когда все снежки оказываются за ширмой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9-12-05T18:18:09Z</dcterms:modified>
  <cp:revision>43</cp:revision>
  <dc:subject/>
  <dc:title>PowerPoint Presentation</dc:title>
</cp:coreProperties>
</file>