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7.gif" ContentType="image/gif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8.jpeg" ContentType="image/jpeg"/>
  <Override PartName="/ppt/media/image31.png" ContentType="image/png"/>
  <Override PartName="/ppt/media/image32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29.png" ContentType="image/png"/>
  <Override PartName="/ppt/media/chimes.wav" ContentType="audio/x-wav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67F-F96A-4A57-8517-F81DD44A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2DD-B257-4842-ABCC-F07344DE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FD4-BF9B-4536-8F2A-BA48710C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06C-B896-4187-8D57-B252E246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15E5-A9BC-46FA-A02E-DFD9AF2D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45C3-E67F-4006-BC2A-0D08E22F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0222-57D6-429E-9A49-0AB540B2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FCC7-28A8-412F-B359-DDC428EE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1CD1-83A8-43FA-834F-1F48B1F4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F5D-B499-4B0A-A7B2-D35484B4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E985-536B-4FFB-BE5A-D824BB5D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427-6E99-49A1-8607-BE8E6C4B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290C-84A1-4C57-A664-CCA93BC0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AB11-DF43-42E2-B0F9-BD6026C0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78A3-A9A6-4ABB-A04C-624FF63D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9329-FD48-45F4-8BAB-59E4CCEE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CAF7-90AC-4E2C-BD91-5BDB3E8A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1E86-4DD4-41D9-B04D-928DA141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FE0C-BBDF-4449-BE17-4CDC21C1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16ECC-1148-4AA2-9BA3-D4DA64C7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26E6-ABA1-4FA9-B924-4705F82D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578E-5FB8-4855-9E06-4C97EA8A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617-3910-4E85-8C80-58D44E99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FDB90-A9B8-4C48-BB96-0B3E518F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CD53-FEF5-43F7-84F7-8C976956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C2E7-BFB7-4268-9C7D-7018DF1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D3FA3-B731-4B20-948A-89AE4F16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2F65-8014-4507-A8AE-0DA60E5A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548E-7FA9-40F7-8DC3-D0782542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17BE-5EF1-4753-AB1F-47068A7D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554F-7295-4B6A-B074-86A0F2D2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77D2D-8B3F-47D6-844A-951B32DD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E7045-0881-490A-970E-58DCA103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E14-73DB-4770-BB24-ED50319F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E3A5-27D0-4A1A-9D15-71D976D6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3F8D-4A89-4822-A239-39180861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DA02-9727-41A6-9FA9-ECDA8449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6C5BA-4A66-48C2-AD8F-FC124894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B619A-5296-4470-A994-1FABABDF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BA4B4-9FFB-4DD9-9453-3C32C461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7CF60-20E4-43C9-BF10-C39F16FA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4842-D4EE-415F-976A-38429759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C9B06-F85F-44A4-A16D-C72057D7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7D7-B9B6-4434-B878-ADF050D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D03-F874-45CC-92DE-E926B870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31F-0FE6-417D-8F9E-CDDF2F5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744-B638-4745-B044-2ACE9A35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C11-35A0-4A25-B396-F5DCFBDB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9FAA-6B9F-42B9-AE97-D991B42776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D4E8-887F-466B-A980-0F725260EE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F153-3327-4A13-B6A0-EAD86E3597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0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0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0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2E84-4762-4743-A884-3153A93225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18.jpeg"/><Relationship Id="rId4" Type="http://schemas.openxmlformats.org/officeDocument/2006/relationships/image" Target="../media/image3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50000">
              <a:srgbClr val="ffccff"/>
            </a:gs>
            <a:gs pos="100000">
              <a:srgbClr val="75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2549520"/>
            <a:ext cx="874872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08360" y="1052640"/>
            <a:ext cx="198108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клад на  тему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890720" y="1860480"/>
            <a:ext cx="536256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пыт  использова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блемно-диалогической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хнолог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  работе  с  тексто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  урока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уманитарного  цикла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66920" y="4302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11280" y="2764440"/>
            <a:ext cx="874872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924360" y="1268280"/>
            <a:ext cx="19810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клад на  тему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106720" y="2076480"/>
            <a:ext cx="536256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пыт  использова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блемно-диалогической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хнолог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  работе  с  текстом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  урока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уманитарного  цикла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5e"/>
            </a:gs>
            <a:gs pos="5000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СТАНОВКА  ПРОБЛЕМ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езнайка  накормил  животных  та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ИСК  РЕШЕНИ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 ходе  диалога учащиеся  выясняют,  кто  что  ес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ЫРАЖЕНИЕ  РЕШЕНИ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ереставь   карточки  и  убедись,  что  ответил  правиль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АЛИЗАЦИЯ  ПРОДУКТ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изнеси  предложения.  Назови  слова, в  которых  спрятались  звуки  С  и  С*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708360" y="692280"/>
            <a:ext cx="40672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гра  "Кто  что  ест"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564000" y="4919760"/>
            <a:ext cx="2730600" cy="1938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1432080" cy="1792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268360" y="3860640"/>
            <a:ext cx="1432080" cy="1567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203640" y="2708280"/>
            <a:ext cx="1438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ме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859280" y="4221000"/>
            <a:ext cx="288144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мета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732720" y="5589720"/>
            <a:ext cx="113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ст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WordArt 4"/>
          <p:cNvSpPr txBox="1"/>
          <p:nvPr/>
        </p:nvSpPr>
        <p:spPr>
          <a:xfrm>
            <a:off x="928800" y="260280"/>
            <a:ext cx="5786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Impact"/>
              </a:rPr>
              <a:t>Эдуард Аса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Impact"/>
              <a:ea typeface="Impact"/>
            </a:endParaRPr>
          </a:p>
        </p:txBody>
      </p:sp>
      <p:sp>
        <p:nvSpPr>
          <p:cNvPr id="296" name="WordArt 5"/>
          <p:cNvSpPr txBox="1"/>
          <p:nvPr/>
        </p:nvSpPr>
        <p:spPr>
          <a:xfrm>
            <a:off x="3348000" y="2492280"/>
            <a:ext cx="253368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7" name="WordArt 6"/>
          <p:cNvSpPr txBox="1"/>
          <p:nvPr/>
        </p:nvSpPr>
        <p:spPr>
          <a:xfrm>
            <a:off x="642960" y="2714760"/>
            <a:ext cx="778680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Impact"/>
              </a:rPr>
              <a:t>Стихотворение « Дачники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Impact"/>
              <a:ea typeface="Impact"/>
            </a:endParaRPr>
          </a:p>
        </p:txBody>
      </p:sp>
      <p:pic>
        <p:nvPicPr>
          <p:cNvPr id="298" name="Picture 7" descr="j0293828"/>
          <p:cNvPicPr/>
          <p:nvPr/>
        </p:nvPicPr>
        <p:blipFill>
          <a:blip r:embed="rId1"/>
          <a:stretch/>
        </p:blipFill>
        <p:spPr>
          <a:xfrm>
            <a:off x="6877080" y="503280"/>
            <a:ext cx="2266920" cy="238608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8"/>
          <p:cNvSpPr/>
          <p:nvPr/>
        </p:nvSpPr>
        <p:spPr>
          <a:xfrm>
            <a:off x="4643280" y="4869000"/>
            <a:ext cx="1944720" cy="1989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8000" spc="-1" strike="noStrike">
                <a:solidFill>
                  <a:srgbClr val="3366ff"/>
                </a:solidFill>
                <a:latin typeface="Monotype Corsiva"/>
              </a:rPr>
              <a:t>Кто такие дачники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WordArt 4"/>
          <p:cNvSpPr txBox="1"/>
          <p:nvPr/>
        </p:nvSpPr>
        <p:spPr>
          <a:xfrm>
            <a:off x="684360" y="1700280"/>
            <a:ext cx="6316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дача?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2" name="Picture 6" descr="j0090386"/>
          <p:cNvPicPr/>
          <p:nvPr/>
        </p:nvPicPr>
        <p:blipFill>
          <a:blip r:embed="rId1"/>
          <a:stretch/>
        </p:blipFill>
        <p:spPr>
          <a:xfrm>
            <a:off x="3924360" y="2997360"/>
            <a:ext cx="4680000" cy="3462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5"/>
          <p:cNvSpPr txBox="1"/>
          <p:nvPr/>
        </p:nvSpPr>
        <p:spPr>
          <a:xfrm>
            <a:off x="262080" y="2500200"/>
            <a:ext cx="8619840" cy="14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 каким  приметам  вы  узнаёте,  что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030a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йствие  происходит  летом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030a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4" name="Picture 6" descr="18"/>
          <p:cNvPicPr/>
          <p:nvPr/>
        </p:nvPicPr>
        <p:blipFill>
          <a:blip r:embed="rId1"/>
          <a:stretch/>
        </p:blipFill>
        <p:spPr>
          <a:xfrm>
            <a:off x="6227640" y="404640"/>
            <a:ext cx="2665440" cy="1944720"/>
          </a:xfrm>
          <a:prstGeom prst="rect">
            <a:avLst/>
          </a:prstGeom>
          <a:ln w="0">
            <a:noFill/>
          </a:ln>
        </p:spPr>
      </p:pic>
      <p:sp>
        <p:nvSpPr>
          <p:cNvPr id="305" name="Line 8"/>
          <p:cNvSpPr/>
          <p:nvPr/>
        </p:nvSpPr>
        <p:spPr>
          <a:xfrm>
            <a:off x="324000" y="476280"/>
            <a:ext cx="856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324000" y="476280"/>
            <a:ext cx="0" cy="604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 flipV="1">
            <a:off x="324000" y="6453360"/>
            <a:ext cx="842472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 flipH="1">
            <a:off x="8748360" y="476280"/>
            <a:ext cx="144360" cy="597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4"/>
          <p:cNvSpPr txBox="1"/>
          <p:nvPr/>
        </p:nvSpPr>
        <p:spPr>
          <a:xfrm>
            <a:off x="285840" y="214200"/>
            <a:ext cx="742932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ие  слова  и  выраж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могают  понять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 здесь  говорится 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  радости,о  весёлой  жизни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0" name="Picture 5" descr="22"/>
          <p:cNvPicPr/>
          <p:nvPr/>
        </p:nvPicPr>
        <p:blipFill>
          <a:blip r:embed="rId1"/>
          <a:stretch/>
        </p:blipFill>
        <p:spPr>
          <a:xfrm>
            <a:off x="4357800" y="3000240"/>
            <a:ext cx="4187880" cy="3681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4"/>
          <p:cNvSpPr txBox="1"/>
          <p:nvPr/>
        </p:nvSpPr>
        <p:spPr>
          <a:xfrm>
            <a:off x="611280" y="2565360"/>
            <a:ext cx="531792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 доставля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тя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ибольшую  радость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2" name="Picture 5" descr="23"/>
          <p:cNvPicPr/>
          <p:nvPr/>
        </p:nvPicPr>
        <p:blipFill>
          <a:blip r:embed="rId1"/>
          <a:stretch/>
        </p:blipFill>
        <p:spPr>
          <a:xfrm>
            <a:off x="3143160" y="571680"/>
            <a:ext cx="1432080" cy="1566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21"/>
          <p:cNvPicPr/>
          <p:nvPr/>
        </p:nvPicPr>
        <p:blipFill>
          <a:blip r:embed="rId2"/>
          <a:stretch/>
        </p:blipFill>
        <p:spPr>
          <a:xfrm>
            <a:off x="6786720" y="2357280"/>
            <a:ext cx="1706400" cy="1432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24"/>
          <p:cNvPicPr/>
          <p:nvPr/>
        </p:nvPicPr>
        <p:blipFill>
          <a:blip r:embed="rId3"/>
          <a:stretch/>
        </p:blipFill>
        <p:spPr>
          <a:xfrm>
            <a:off x="4000680" y="4919760"/>
            <a:ext cx="2232000" cy="1938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5"/>
          <p:cNvSpPr txBox="1"/>
          <p:nvPr/>
        </p:nvSpPr>
        <p:spPr>
          <a:xfrm>
            <a:off x="1042920" y="2421000"/>
            <a:ext cx="28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др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6"/>
          <p:cNvSpPr txBox="1"/>
          <p:nvPr/>
        </p:nvSpPr>
        <p:spPr>
          <a:xfrm>
            <a:off x="3357720" y="571680"/>
            <a:ext cx="32191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ел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7" name="WordArt 7"/>
          <p:cNvSpPr txBox="1"/>
          <p:nvPr/>
        </p:nvSpPr>
        <p:spPr>
          <a:xfrm>
            <a:off x="500040" y="5072040"/>
            <a:ext cx="3100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ленно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8"/>
          <p:cNvSpPr txBox="1"/>
          <p:nvPr/>
        </p:nvSpPr>
        <p:spPr>
          <a:xfrm>
            <a:off x="6516720" y="2214720"/>
            <a:ext cx="22701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ст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9" name="WordArt 9"/>
          <p:cNvSpPr txBox="1"/>
          <p:nvPr/>
        </p:nvSpPr>
        <p:spPr>
          <a:xfrm>
            <a:off x="4071960" y="5715000"/>
            <a:ext cx="47181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тоской в голос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0" name="WordArt 10"/>
          <p:cNvSpPr txBox="1"/>
          <p:nvPr/>
        </p:nvSpPr>
        <p:spPr>
          <a:xfrm rot="5400000">
            <a:off x="3693600" y="3666960"/>
            <a:ext cx="30002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адостн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4"/>
          <p:cNvSpPr txBox="1"/>
          <p:nvPr/>
        </p:nvSpPr>
        <p:spPr>
          <a:xfrm>
            <a:off x="357120" y="285840"/>
            <a:ext cx="574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др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5"/>
          <p:cNvSpPr txBox="1"/>
          <p:nvPr/>
        </p:nvSpPr>
        <p:spPr>
          <a:xfrm rot="5400000">
            <a:off x="4726080" y="3488400"/>
            <a:ext cx="55008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есел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3" name="WordArt 6"/>
          <p:cNvSpPr txBox="1"/>
          <p:nvPr/>
        </p:nvSpPr>
        <p:spPr>
          <a:xfrm>
            <a:off x="571680" y="4857840"/>
            <a:ext cx="474156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адост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24" name="Солнце 8"/>
          <p:cNvSpPr/>
          <p:nvPr/>
        </p:nvSpPr>
        <p:spPr>
          <a:xfrm>
            <a:off x="1928880" y="1785960"/>
            <a:ext cx="4214880" cy="28573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4"/>
          <p:cNvSpPr txBox="1"/>
          <p:nvPr/>
        </p:nvSpPr>
        <p:spPr>
          <a:xfrm>
            <a:off x="500040" y="857160"/>
            <a:ext cx="83581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шины чихаю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6" name="Picture 5" descr="j0212957"/>
          <p:cNvPicPr/>
          <p:nvPr/>
        </p:nvPicPr>
        <p:blipFill>
          <a:blip r:embed="rId3"/>
          <a:stretch/>
        </p:blipFill>
        <p:spPr>
          <a:xfrm>
            <a:off x="428760" y="3143160"/>
            <a:ext cx="6100560" cy="3424320"/>
          </a:xfrm>
          <a:prstGeom prst="rect">
            <a:avLst/>
          </a:prstGeom>
          <a:ln w="0">
            <a:noFill/>
          </a:ln>
        </p:spPr>
      </p:pic>
      <p:sp>
        <p:nvSpPr>
          <p:cNvPr id="327" name="Овальная выноска 7"/>
          <p:cNvSpPr/>
          <p:nvPr/>
        </p:nvSpPr>
        <p:spPr>
          <a:xfrm>
            <a:off x="4214880" y="2714760"/>
            <a:ext cx="4643280" cy="1071360"/>
          </a:xfrm>
          <a:prstGeom prst="wedgeEllipseCallout">
            <a:avLst>
              <a:gd name="adj1" fmla="val -60217"/>
              <a:gd name="adj2" fmla="val 81462"/>
            </a:avLst>
          </a:prstGeom>
          <a:solidFill>
            <a:srgbClr val="ffe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АП-П-ЧХИ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БЛЕМНО-ДИАЛОГИЧЕСКОЕ ОБУЧЕНИЕ – это  тип  обучения,  обеспечивающий   творческое  усвоение  знаний  учащимися  посредством  специально  организованного  учителем  диалог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9966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Monotype Corsiva"/>
              </a:rPr>
              <a:t>Брошенное зверьё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Дарят детя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Бесстыдно лгат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Monotype Corsiva"/>
              </a:rPr>
              <a:t>Блестят глаз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b8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800"/>
                </a:solidFill>
                <a:latin typeface="Monotype Corsiva"/>
              </a:rPr>
              <a:t>Кинутые животные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66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Monotype Corsiva"/>
              </a:rPr>
              <a:t>Добрые люд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85840" y="356760"/>
            <a:ext cx="8229600" cy="559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2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omic Sans MS"/>
              </a:rPr>
              <a:t>Брошенное зверьё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 algn="ctr">
              <a:lnSpc>
                <a:spcPct val="2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Дарят детя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 algn="ctr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есстыдно лг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 algn="ctr">
              <a:lnSpc>
                <a:spcPct val="200000"/>
              </a:lnSpc>
              <a:spcBef>
                <a:spcPts val="799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Блестят глаз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 algn="ctr">
              <a:lnSpc>
                <a:spcPct val="200000"/>
              </a:lnSpc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Кинутые животны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 algn="ctr">
              <a:lnSpc>
                <a:spcPct val="200000"/>
              </a:lnSpc>
              <a:spcBef>
                <a:spcPts val="7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Добрые люд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4"/>
          <p:cNvSpPr/>
          <p:nvPr/>
        </p:nvSpPr>
        <p:spPr>
          <a:xfrm flipH="1">
            <a:off x="2785680" y="571680"/>
            <a:ext cx="3529080" cy="86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"/>
          <p:cNvSpPr/>
          <p:nvPr/>
        </p:nvSpPr>
        <p:spPr>
          <a:xfrm flipH="1">
            <a:off x="3071880" y="2786040"/>
            <a:ext cx="345600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 flipH="1">
            <a:off x="2642760" y="4857840"/>
            <a:ext cx="3745080" cy="86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6500880" y="1714680"/>
            <a:ext cx="718920" cy="4316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2000160" y="3929040"/>
            <a:ext cx="647640" cy="43344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6786720" y="6072120"/>
            <a:ext cx="647640" cy="50472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WordArt 5" descr=""/>
          <p:cNvPicPr/>
          <p:nvPr/>
        </p:nvPicPr>
        <p:blipFill>
          <a:blip r:embed="rId1"/>
          <a:stretch/>
        </p:blipFill>
        <p:spPr>
          <a:xfrm>
            <a:off x="0" y="2852640"/>
            <a:ext cx="9236160" cy="1629000"/>
          </a:xfrm>
          <a:prstGeom prst="rect">
            <a:avLst/>
          </a:prstGeom>
          <a:ln w="0">
            <a:noFill/>
          </a:ln>
        </p:spPr>
      </p:pic>
      <p:sp>
        <p:nvSpPr>
          <p:cNvPr id="337" name="WordArt 6"/>
          <p:cNvSpPr txBox="1"/>
          <p:nvPr/>
        </p:nvSpPr>
        <p:spPr>
          <a:xfrm>
            <a:off x="1692360" y="5877000"/>
            <a:ext cx="31050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рят подар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8" name="WordArt 8"/>
          <p:cNvSpPr txBox="1"/>
          <p:nvPr/>
        </p:nvSpPr>
        <p:spPr>
          <a:xfrm>
            <a:off x="5651640" y="4508640"/>
            <a:ext cx="280980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юбят звер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WordArt 9"/>
          <p:cNvSpPr txBox="1"/>
          <p:nvPr/>
        </p:nvSpPr>
        <p:spPr>
          <a:xfrm>
            <a:off x="4500720" y="1268280"/>
            <a:ext cx="33811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ботятся о ни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8"/>
          <p:cNvSpPr txBox="1"/>
          <p:nvPr/>
        </p:nvSpPr>
        <p:spPr>
          <a:xfrm>
            <a:off x="285840" y="285840"/>
            <a:ext cx="4286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ЮТ С ЖИВОТНЫ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5"/>
          <p:cNvSpPr txBox="1"/>
          <p:nvPr/>
        </p:nvSpPr>
        <p:spPr>
          <a:xfrm>
            <a:off x="571680" y="2906640"/>
            <a:ext cx="800100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ечно же, что там ни говори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«добрых» людей на земле немал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2" name="WordArt 6"/>
          <p:cNvSpPr txBox="1"/>
          <p:nvPr/>
        </p:nvSpPr>
        <p:spPr>
          <a:xfrm>
            <a:off x="684360" y="907920"/>
            <a:ext cx="367344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3" name="WordArt 7"/>
          <p:cNvSpPr txBox="1"/>
          <p:nvPr/>
        </p:nvSpPr>
        <p:spPr>
          <a:xfrm>
            <a:off x="6659640" y="4508640"/>
            <a:ext cx="172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осаю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WordArt 8"/>
          <p:cNvSpPr txBox="1"/>
          <p:nvPr/>
        </p:nvSpPr>
        <p:spPr>
          <a:xfrm>
            <a:off x="971640" y="4292640"/>
            <a:ext cx="21812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не жалею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45" name="WordArt 9"/>
          <p:cNvSpPr txBox="1"/>
          <p:nvPr/>
        </p:nvSpPr>
        <p:spPr>
          <a:xfrm>
            <a:off x="5500800" y="64296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Не заботят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46" name="Picture 5" descr="23"/>
          <p:cNvPicPr/>
          <p:nvPr/>
        </p:nvPicPr>
        <p:blipFill>
          <a:blip r:embed="rId5"/>
          <a:stretch/>
        </p:blipFill>
        <p:spPr>
          <a:xfrm>
            <a:off x="3635280" y="3500280"/>
            <a:ext cx="2643120" cy="28926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7"/>
          <p:cNvSpPr/>
          <p:nvPr/>
        </p:nvSpPr>
        <p:spPr>
          <a:xfrm>
            <a:off x="642960" y="714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Arial"/>
              </a:rPr>
              <a:t>ОСТАВЛЯ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b800"/>
                </a:solidFill>
                <a:latin typeface="Comic Sans MS"/>
              </a:rPr>
              <a:t>Урок русского языка в 6 классе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Comic Sans MS"/>
              </a:rPr>
              <a:t>Учитель: Вакиш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Comic Sans MS"/>
              </a:rPr>
              <a:t>Валентина Георгиевн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radley Hand ITC"/>
              </a:rPr>
              <a:t>Мужской и женский ро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radley Hand ITC"/>
              </a:rPr>
              <a:t>существитель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radley Hand ITC"/>
              </a:rPr>
              <a:t>с шипящей на конц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 rot="279600">
            <a:off x="179280" y="954720"/>
            <a:ext cx="6683400" cy="590220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87280" y="301608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19280" y="1844640"/>
            <a:ext cx="446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800"/>
                </a:solidFill>
                <a:latin typeface="Arial Black"/>
              </a:rPr>
              <a:t>К какой части речи относится слово чиж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1477600">
            <a:off x="5795640" y="333360"/>
            <a:ext cx="3025800" cy="489600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27640" y="1035000"/>
            <a:ext cx="23050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61b04"/>
                </a:solidFill>
                <a:latin typeface="Bradley Hand ITC"/>
              </a:rPr>
              <a:t>Запишите в тетради</a:t>
            </a:r>
            <a:r>
              <a:rPr b="0" lang="en-US" sz="4000" spc="-1" strike="noStrike">
                <a:solidFill>
                  <a:srgbClr val="580e96"/>
                </a:solidFill>
                <a:latin typeface="Arial Black"/>
              </a:rPr>
              <a:t> Чиж</a:t>
            </a:r>
            <a:r>
              <a:rPr b="0" lang="en-US" sz="1800" spc="-1" strike="noStrike">
                <a:solidFill>
                  <a:srgbClr val="580e9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580e96"/>
                </a:solidFill>
                <a:latin typeface="Arial Black"/>
              </a:rPr>
              <a:t>– сущ.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 flipV="1" rot="279600">
            <a:off x="-23400" y="1051920"/>
            <a:ext cx="6683400" cy="605952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e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9640" y="1827360"/>
            <a:ext cx="554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Определите р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число и паде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существитель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чи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21477600">
            <a:off x="6117840" y="404640"/>
            <a:ext cx="3025800" cy="489600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963720"/>
            <a:ext cx="277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61b04"/>
                </a:solidFill>
                <a:latin typeface="Bradley Hand ITC"/>
              </a:rPr>
              <a:t>Продолжи запись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0e9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580e96"/>
                </a:solidFill>
                <a:latin typeface="Arial Black"/>
              </a:rPr>
              <a:t>м.р., ед.ч.,       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 rot="279600">
            <a:off x="-23400" y="1051920"/>
            <a:ext cx="6683400" cy="605952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e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1827360"/>
            <a:ext cx="554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Определите р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число и паде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существитель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чи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1477600">
            <a:off x="6117840" y="404640"/>
            <a:ext cx="3025800" cy="489600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72360" y="963720"/>
            <a:ext cx="277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61b04"/>
                </a:solidFill>
                <a:latin typeface="Bradley Hand ITC"/>
              </a:rPr>
              <a:t>Продолжи запись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0e9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580e96"/>
                </a:solidFill>
                <a:latin typeface="Arial Black"/>
              </a:rPr>
              <a:t>м.р., ед.ч.,       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 rot="1039200">
            <a:off x="395280" y="1988280"/>
            <a:ext cx="4105440" cy="468000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263700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Какие ещё шипящие буквы вы зн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 rot="1023000">
            <a:off x="4643280" y="-720"/>
            <a:ext cx="4075200" cy="469584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08720" y="1492200"/>
            <a:ext cx="30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80e96"/>
                </a:solidFill>
                <a:latin typeface="Arial Black"/>
              </a:rPr>
              <a:t>Щ, 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АДИЦИОННОЕ  ОБУЧЕНИЕ – это  тип  обучения,  обеспечивающий  репродуктивное  усвоение знаний,  умений  и  навы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V="1" rot="279600">
            <a:off x="1258920" y="548280"/>
            <a:ext cx="6683400" cy="590220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08000" y="1216080"/>
            <a:ext cx="583272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80e96"/>
                </a:solidFill>
                <a:latin typeface="Arial Black"/>
              </a:rPr>
              <a:t>Чиж – существительное мужского ро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80e96"/>
                </a:solidFill>
                <a:latin typeface="Arial Black"/>
              </a:rPr>
              <a:t>с шипящей на кон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14"/>
            </a:solidFill>
            <a:miter/>
          </a:ln>
        </p:spPr>
      </p:pic>
      <p:sp>
        <p:nvSpPr>
          <p:cNvPr id="388" name=""/>
          <p:cNvSpPr/>
          <p:nvPr/>
        </p:nvSpPr>
        <p:spPr>
          <a:xfrm flipV="1" rot="279600">
            <a:off x="0" y="954720"/>
            <a:ext cx="6683400" cy="590220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0920" y="890640"/>
            <a:ext cx="61214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Что вы знае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о правописа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существите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мужского р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с шипящей на конц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21477600">
            <a:off x="6300360" y="549360"/>
            <a:ext cx="2455920" cy="172548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04000" y="62064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e96"/>
                </a:solidFill>
                <a:latin typeface="Arial Black"/>
              </a:rPr>
              <a:t>м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e96"/>
                </a:solidFill>
                <a:latin typeface="Arial Black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36000" y="1197000"/>
            <a:ext cx="649080" cy="576360"/>
          </a:xfrm>
          <a:prstGeom prst="line">
            <a:avLst/>
          </a:prstGeom>
          <a:ln w="9360">
            <a:solidFill>
              <a:srgbClr val="00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236000" y="1197000"/>
            <a:ext cx="504720" cy="647640"/>
          </a:xfrm>
          <a:prstGeom prst="line">
            <a:avLst/>
          </a:prstGeom>
          <a:ln w="9360">
            <a:solidFill>
              <a:srgbClr val="00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 flipV="1" rot="279600">
            <a:off x="-28080" y="1209240"/>
            <a:ext cx="6683400" cy="590256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9640" y="2205000"/>
            <a:ext cx="58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Что вы знае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о правописа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существите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женского р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с шипящей на конц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1477600">
            <a:off x="6687720" y="404640"/>
            <a:ext cx="2455920" cy="172584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093080" y="5065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e96"/>
                </a:solidFill>
                <a:latin typeface="Arial Black"/>
              </a:rPr>
              <a:t>ж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0e96"/>
                </a:solidFill>
                <a:latin typeface="Arial Black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 flipV="1" rot="279600">
            <a:off x="1332000" y="954720"/>
            <a:ext cx="6683400" cy="590220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340000" y="1504800"/>
            <a:ext cx="55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1b04"/>
                </a:solidFill>
                <a:latin typeface="Arial Black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Определить р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м.р. Ь 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ж.р. Ь е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43280" y="162864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14"/>
                </a:solidFill>
                <a:latin typeface="Arial Black"/>
              </a:rPr>
              <a:t>В цирк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468360" y="1197000"/>
            <a:ext cx="820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0920" y="1413000"/>
            <a:ext cx="842472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14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14"/>
                </a:solidFill>
                <a:latin typeface="Arial"/>
              </a:rPr>
              <a:t>В полночь       на манеж       вышел циркач    и его дочь   . На нём был плащ    . В руках он держал мяч    . Скрипач     играл марш    . Вот морж поймал мяч   . В зале сидела молодёжь    . Стояла тишь 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14"/>
                </a:solidFill>
                <a:latin typeface="Arial"/>
              </a:rPr>
              <a:t>Запишите текст, вставьте Ь знак, над существительными со звёздочками</a:t>
            </a:r>
            <a:r>
              <a:rPr b="0" lang="en-US" sz="3200" spc="-1" strike="noStrike">
                <a:solidFill>
                  <a:srgbClr val="000014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14"/>
                </a:solidFill>
                <a:latin typeface="Arial"/>
              </a:rPr>
              <a:t>поставьте 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574560" cy="647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5940360" y="1484280"/>
            <a:ext cx="574920" cy="647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1692360" y="2060640"/>
            <a:ext cx="574560" cy="6476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4140360" y="1989000"/>
            <a:ext cx="574560" cy="648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1403280" y="2565360"/>
            <a:ext cx="574920" cy="6476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7093080" y="2565360"/>
            <a:ext cx="574560" cy="6476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7"/>
          <a:stretch/>
        </p:blipFill>
        <p:spPr>
          <a:xfrm>
            <a:off x="2050920" y="3068640"/>
            <a:ext cx="574920" cy="647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8"/>
          <a:stretch/>
        </p:blipFill>
        <p:spPr>
          <a:xfrm>
            <a:off x="5148360" y="3068640"/>
            <a:ext cx="574560" cy="6476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9"/>
          <a:stretch/>
        </p:blipFill>
        <p:spPr>
          <a:xfrm>
            <a:off x="7956720" y="3068640"/>
            <a:ext cx="574560" cy="647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0"/>
          <a:stretch/>
        </p:blipFill>
        <p:spPr>
          <a:xfrm>
            <a:off x="2771640" y="3645000"/>
            <a:ext cx="574920" cy="6476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1"/>
          <a:stretch/>
        </p:blipFill>
        <p:spPr>
          <a:xfrm>
            <a:off x="2124000" y="4221000"/>
            <a:ext cx="574920" cy="648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2"/>
          <a:stretch/>
        </p:blipFill>
        <p:spPr>
          <a:xfrm>
            <a:off x="5651640" y="4221000"/>
            <a:ext cx="720720" cy="64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-1.38889E-006 3.14524E-007 L 0.00781 0.82447 E">
                                      <p:cBhvr>
                                        <p:cTn id="55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0.00798 0.00532 L 0.00798 0.84185 E">
                                      <p:cBhvr>
                                        <p:cTn id="560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Motion origin="layout" path="M -3.05556E-006 4.21965E-006 L -3.05556E-006 0.80231 E">
                                      <p:cBhvr>
                                        <p:cTn id="564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1.38889E-006 -1.15607E-006 L -1.38889E-006 0.81272 E">
                                      <p:cBhvr>
                                        <p:cTn id="568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-3.33333E-006 4.04624E-006 L -3.33333E-006 0.6504 E">
                                      <p:cBhvr>
                                        <p:cTn id="572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1.94444E-006 -1.32948E-006 L 1.94444E-006 0.68948 E">
                                      <p:cBhvr>
                                        <p:cTn id="576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0017 -0.00508 L 0.00017 0.60047 E">
                                      <p:cBhvr>
                                        <p:cTn id="580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4.44444E-006 2.65896E-006 L -4.44444E-006 0.61595 E">
                                      <p:cBhvr>
                                        <p:cTn id="584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1.38889E-006 2.65896E-006 L -0.00799 0.59514 E">
                                      <p:cBhvr>
                                        <p:cTn id="588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4.72222E-006 2.02312E-006 L -0.00798 0.55306 E">
                                      <p:cBhvr>
                                        <p:cTn id="592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4.72222E-006 2.60116E-006 L 4.72222E-006 0.41688 E">
                                      <p:cBhvr>
                                        <p:cTn id="596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-1.38889E-006 2.60116E-006 L -1.38889E-006 0.42751 E">
                                      <p:cBhvr>
                                        <p:cTn id="600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flipV="1" rot="127200">
            <a:off x="0" y="0"/>
            <a:ext cx="7345440" cy="142704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18900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Она бы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устной и письменн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5864000">
            <a:off x="7054560" y="-431640"/>
            <a:ext cx="1657440" cy="252108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bbb9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93080" y="3333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1b04"/>
                </a:solidFill>
                <a:latin typeface="Arial Black"/>
              </a:rPr>
              <a:t>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 rot="209400">
            <a:off x="0" y="1125000"/>
            <a:ext cx="8280360" cy="164952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9280" y="112536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Он бывает тупой или остры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5864000">
            <a:off x="7054560" y="693360"/>
            <a:ext cx="1657440" cy="252108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bbb9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3080" y="162864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1b04"/>
                </a:solidFill>
                <a:latin typeface="Arial Black"/>
              </a:rPr>
              <a:t>но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 rot="102000">
            <a:off x="0" y="2348640"/>
            <a:ext cx="7956720" cy="148320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e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263700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Морской, речной бывает о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5864000">
            <a:off x="7054560" y="1773000"/>
            <a:ext cx="1657440" cy="252108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bbb9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703920" y="2637000"/>
            <a:ext cx="24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3600" spc="-1" strike="noStrike">
                <a:solidFill>
                  <a:srgbClr val="f61b04"/>
                </a:solidFill>
                <a:latin typeface="Arial Black"/>
              </a:rPr>
              <a:t>пля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3240000" y="-63360"/>
            <a:ext cx="1008000" cy="799308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9760" y="348156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Верный, преданны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5864000">
            <a:off x="7054560" y="2852280"/>
            <a:ext cx="1657080" cy="252108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bbb9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516720" y="364500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1b04"/>
                </a:solidFill>
                <a:latin typeface="Arial Black"/>
              </a:rPr>
              <a:t>товари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 rot="127200">
            <a:off x="-252000" y="4220280"/>
            <a:ext cx="7345440" cy="142740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4000" y="465300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Она наступает после вече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5864000">
            <a:off x="7054560" y="3789000"/>
            <a:ext cx="1657440" cy="252108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bbb9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16520" y="446724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1b04"/>
                </a:solidFill>
                <a:latin typeface="Arial Black"/>
              </a:rPr>
              <a:t>    </a:t>
            </a:r>
            <a:r>
              <a:rPr b="1" lang="en-US" sz="3600" spc="-1" strike="noStrike">
                <a:solidFill>
                  <a:srgbClr val="f61b04"/>
                </a:solidFill>
                <a:latin typeface="Arial Black"/>
              </a:rPr>
              <a:t>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 rot="209400">
            <a:off x="-252000" y="5208120"/>
            <a:ext cx="8280360" cy="164952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6480" y="549756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Правда лучше, ч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5864000">
            <a:off x="7054560" y="4768560"/>
            <a:ext cx="1657440" cy="252108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bbbb9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64360" y="5661000"/>
            <a:ext cx="15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1b04"/>
                </a:solidFill>
                <a:latin typeface="Arial Black"/>
              </a:rPr>
              <a:t>лож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 flipV="1" rot="279600">
            <a:off x="0" y="1267920"/>
            <a:ext cx="6683400" cy="590256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2492280"/>
            <a:ext cx="60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Эта маленькая кр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Рада даже хлебной крош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Потому что до те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В норке прячется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1477600">
            <a:off x="6117840" y="0"/>
            <a:ext cx="3025800" cy="489600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1454040" cy="2334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 flipV="1" rot="279600">
            <a:off x="0" y="1195920"/>
            <a:ext cx="6683400" cy="5902200"/>
          </a:xfrm>
          <a:custGeom>
            <a:avLst/>
            <a:gdLst/>
            <a:ahLst/>
            <a:rect l="l" t="t" r="r" b="b"/>
            <a:pathLst>
              <a:path w="1707" h="727">
                <a:moveTo>
                  <a:pt x="179" y="102"/>
                </a:moveTo>
                <a:cubicBezTo>
                  <a:pt x="185" y="92"/>
                  <a:pt x="189" y="80"/>
                  <a:pt x="198" y="73"/>
                </a:cubicBezTo>
                <a:cubicBezTo>
                  <a:pt x="233" y="45"/>
                  <a:pt x="259" y="93"/>
                  <a:pt x="286" y="112"/>
                </a:cubicBezTo>
                <a:cubicBezTo>
                  <a:pt x="306" y="105"/>
                  <a:pt x="325" y="85"/>
                  <a:pt x="345" y="92"/>
                </a:cubicBezTo>
                <a:cubicBezTo>
                  <a:pt x="365" y="99"/>
                  <a:pt x="404" y="112"/>
                  <a:pt x="404" y="112"/>
                </a:cubicBezTo>
                <a:cubicBezTo>
                  <a:pt x="414" y="109"/>
                  <a:pt x="423" y="101"/>
                  <a:pt x="433" y="102"/>
                </a:cubicBezTo>
                <a:cubicBezTo>
                  <a:pt x="453" y="104"/>
                  <a:pt x="491" y="122"/>
                  <a:pt x="491" y="122"/>
                </a:cubicBezTo>
                <a:cubicBezTo>
                  <a:pt x="501" y="119"/>
                  <a:pt x="511" y="110"/>
                  <a:pt x="521" y="112"/>
                </a:cubicBezTo>
                <a:cubicBezTo>
                  <a:pt x="532" y="114"/>
                  <a:pt x="538" y="131"/>
                  <a:pt x="550" y="131"/>
                </a:cubicBezTo>
                <a:cubicBezTo>
                  <a:pt x="562" y="131"/>
                  <a:pt x="569" y="118"/>
                  <a:pt x="579" y="112"/>
                </a:cubicBezTo>
                <a:cubicBezTo>
                  <a:pt x="641" y="151"/>
                  <a:pt x="655" y="101"/>
                  <a:pt x="716" y="141"/>
                </a:cubicBezTo>
                <a:cubicBezTo>
                  <a:pt x="732" y="138"/>
                  <a:pt x="748" y="129"/>
                  <a:pt x="765" y="131"/>
                </a:cubicBezTo>
                <a:cubicBezTo>
                  <a:pt x="777" y="132"/>
                  <a:pt x="782" y="150"/>
                  <a:pt x="794" y="151"/>
                </a:cubicBezTo>
                <a:cubicBezTo>
                  <a:pt x="812" y="153"/>
                  <a:pt x="853" y="138"/>
                  <a:pt x="872" y="131"/>
                </a:cubicBezTo>
                <a:cubicBezTo>
                  <a:pt x="885" y="138"/>
                  <a:pt x="897" y="149"/>
                  <a:pt x="911" y="151"/>
                </a:cubicBezTo>
                <a:cubicBezTo>
                  <a:pt x="924" y="153"/>
                  <a:pt x="937" y="141"/>
                  <a:pt x="950" y="141"/>
                </a:cubicBezTo>
                <a:cubicBezTo>
                  <a:pt x="961" y="141"/>
                  <a:pt x="970" y="148"/>
                  <a:pt x="980" y="151"/>
                </a:cubicBezTo>
                <a:cubicBezTo>
                  <a:pt x="996" y="148"/>
                  <a:pt x="1012" y="139"/>
                  <a:pt x="1028" y="141"/>
                </a:cubicBezTo>
                <a:cubicBezTo>
                  <a:pt x="1040" y="143"/>
                  <a:pt x="1046" y="161"/>
                  <a:pt x="1058" y="161"/>
                </a:cubicBezTo>
                <a:cubicBezTo>
                  <a:pt x="1110" y="161"/>
                  <a:pt x="1214" y="141"/>
                  <a:pt x="1214" y="141"/>
                </a:cubicBezTo>
                <a:cubicBezTo>
                  <a:pt x="1266" y="154"/>
                  <a:pt x="1275" y="135"/>
                  <a:pt x="1321" y="151"/>
                </a:cubicBezTo>
                <a:cubicBezTo>
                  <a:pt x="1341" y="148"/>
                  <a:pt x="1360" y="139"/>
                  <a:pt x="1380" y="141"/>
                </a:cubicBezTo>
                <a:cubicBezTo>
                  <a:pt x="1400" y="143"/>
                  <a:pt x="1438" y="161"/>
                  <a:pt x="1438" y="161"/>
                </a:cubicBezTo>
                <a:cubicBezTo>
                  <a:pt x="1523" y="133"/>
                  <a:pt x="1411" y="161"/>
                  <a:pt x="1497" y="171"/>
                </a:cubicBezTo>
                <a:cubicBezTo>
                  <a:pt x="1506" y="172"/>
                  <a:pt x="1591" y="154"/>
                  <a:pt x="1604" y="151"/>
                </a:cubicBezTo>
                <a:cubicBezTo>
                  <a:pt x="1625" y="212"/>
                  <a:pt x="1595" y="151"/>
                  <a:pt x="1663" y="190"/>
                </a:cubicBezTo>
                <a:cubicBezTo>
                  <a:pt x="1673" y="196"/>
                  <a:pt x="1676" y="209"/>
                  <a:pt x="1682" y="219"/>
                </a:cubicBezTo>
                <a:cubicBezTo>
                  <a:pt x="1685" y="261"/>
                  <a:pt x="1687" y="304"/>
                  <a:pt x="1692" y="346"/>
                </a:cubicBezTo>
                <a:cubicBezTo>
                  <a:pt x="1693" y="356"/>
                  <a:pt x="1704" y="366"/>
                  <a:pt x="1702" y="376"/>
                </a:cubicBezTo>
                <a:cubicBezTo>
                  <a:pt x="1700" y="388"/>
                  <a:pt x="1689" y="395"/>
                  <a:pt x="1682" y="405"/>
                </a:cubicBezTo>
                <a:cubicBezTo>
                  <a:pt x="1679" y="415"/>
                  <a:pt x="1681" y="428"/>
                  <a:pt x="1673" y="434"/>
                </a:cubicBezTo>
                <a:cubicBezTo>
                  <a:pt x="1663" y="442"/>
                  <a:pt x="1634" y="431"/>
                  <a:pt x="1634" y="444"/>
                </a:cubicBezTo>
                <a:cubicBezTo>
                  <a:pt x="1634" y="451"/>
                  <a:pt x="1693" y="470"/>
                  <a:pt x="1702" y="473"/>
                </a:cubicBezTo>
                <a:cubicBezTo>
                  <a:pt x="1692" y="480"/>
                  <a:pt x="1673" y="481"/>
                  <a:pt x="1673" y="493"/>
                </a:cubicBezTo>
                <a:cubicBezTo>
                  <a:pt x="1673" y="507"/>
                  <a:pt x="1707" y="509"/>
                  <a:pt x="1702" y="522"/>
                </a:cubicBezTo>
                <a:cubicBezTo>
                  <a:pt x="1695" y="538"/>
                  <a:pt x="1669" y="535"/>
                  <a:pt x="1653" y="541"/>
                </a:cubicBezTo>
                <a:cubicBezTo>
                  <a:pt x="1647" y="551"/>
                  <a:pt x="1630" y="560"/>
                  <a:pt x="1634" y="571"/>
                </a:cubicBezTo>
                <a:cubicBezTo>
                  <a:pt x="1639" y="584"/>
                  <a:pt x="1667" y="577"/>
                  <a:pt x="1673" y="590"/>
                </a:cubicBezTo>
                <a:cubicBezTo>
                  <a:pt x="1692" y="628"/>
                  <a:pt x="1652" y="633"/>
                  <a:pt x="1634" y="639"/>
                </a:cubicBezTo>
                <a:cubicBezTo>
                  <a:pt x="1619" y="727"/>
                  <a:pt x="1629" y="692"/>
                  <a:pt x="1556" y="717"/>
                </a:cubicBezTo>
                <a:cubicBezTo>
                  <a:pt x="1514" y="714"/>
                  <a:pt x="1470" y="719"/>
                  <a:pt x="1429" y="707"/>
                </a:cubicBezTo>
                <a:cubicBezTo>
                  <a:pt x="1419" y="704"/>
                  <a:pt x="1428" y="682"/>
                  <a:pt x="1419" y="678"/>
                </a:cubicBezTo>
                <a:cubicBezTo>
                  <a:pt x="1407" y="672"/>
                  <a:pt x="1334" y="718"/>
                  <a:pt x="1321" y="727"/>
                </a:cubicBezTo>
                <a:cubicBezTo>
                  <a:pt x="1274" y="711"/>
                  <a:pt x="1228" y="716"/>
                  <a:pt x="1185" y="688"/>
                </a:cubicBezTo>
                <a:cubicBezTo>
                  <a:pt x="1138" y="704"/>
                  <a:pt x="1141" y="683"/>
                  <a:pt x="1097" y="668"/>
                </a:cubicBezTo>
                <a:cubicBezTo>
                  <a:pt x="1084" y="675"/>
                  <a:pt x="1073" y="688"/>
                  <a:pt x="1058" y="688"/>
                </a:cubicBezTo>
                <a:cubicBezTo>
                  <a:pt x="1037" y="688"/>
                  <a:pt x="999" y="668"/>
                  <a:pt x="999" y="668"/>
                </a:cubicBezTo>
                <a:cubicBezTo>
                  <a:pt x="910" y="698"/>
                  <a:pt x="968" y="696"/>
                  <a:pt x="911" y="668"/>
                </a:cubicBezTo>
                <a:cubicBezTo>
                  <a:pt x="902" y="663"/>
                  <a:pt x="892" y="662"/>
                  <a:pt x="882" y="659"/>
                </a:cubicBezTo>
                <a:cubicBezTo>
                  <a:pt x="819" y="700"/>
                  <a:pt x="887" y="668"/>
                  <a:pt x="823" y="659"/>
                </a:cubicBezTo>
                <a:cubicBezTo>
                  <a:pt x="812" y="657"/>
                  <a:pt x="768" y="674"/>
                  <a:pt x="755" y="678"/>
                </a:cubicBezTo>
                <a:cubicBezTo>
                  <a:pt x="711" y="649"/>
                  <a:pt x="703" y="639"/>
                  <a:pt x="657" y="668"/>
                </a:cubicBezTo>
                <a:cubicBezTo>
                  <a:pt x="607" y="635"/>
                  <a:pt x="579" y="664"/>
                  <a:pt x="521" y="649"/>
                </a:cubicBezTo>
                <a:cubicBezTo>
                  <a:pt x="502" y="594"/>
                  <a:pt x="525" y="629"/>
                  <a:pt x="443" y="629"/>
                </a:cubicBezTo>
                <a:cubicBezTo>
                  <a:pt x="426" y="629"/>
                  <a:pt x="410" y="623"/>
                  <a:pt x="394" y="620"/>
                </a:cubicBezTo>
                <a:cubicBezTo>
                  <a:pt x="381" y="613"/>
                  <a:pt x="370" y="600"/>
                  <a:pt x="355" y="600"/>
                </a:cubicBezTo>
                <a:cubicBezTo>
                  <a:pt x="298" y="600"/>
                  <a:pt x="348" y="656"/>
                  <a:pt x="306" y="590"/>
                </a:cubicBezTo>
                <a:cubicBezTo>
                  <a:pt x="259" y="606"/>
                  <a:pt x="227" y="616"/>
                  <a:pt x="208" y="561"/>
                </a:cubicBezTo>
                <a:cubicBezTo>
                  <a:pt x="151" y="576"/>
                  <a:pt x="114" y="564"/>
                  <a:pt x="72" y="522"/>
                </a:cubicBezTo>
                <a:cubicBezTo>
                  <a:pt x="65" y="506"/>
                  <a:pt x="62" y="487"/>
                  <a:pt x="52" y="473"/>
                </a:cubicBezTo>
                <a:cubicBezTo>
                  <a:pt x="27" y="438"/>
                  <a:pt x="0" y="470"/>
                  <a:pt x="52" y="434"/>
                </a:cubicBezTo>
                <a:cubicBezTo>
                  <a:pt x="55" y="415"/>
                  <a:pt x="62" y="396"/>
                  <a:pt x="62" y="376"/>
                </a:cubicBezTo>
                <a:cubicBezTo>
                  <a:pt x="62" y="359"/>
                  <a:pt x="48" y="343"/>
                  <a:pt x="52" y="327"/>
                </a:cubicBezTo>
                <a:cubicBezTo>
                  <a:pt x="55" y="316"/>
                  <a:pt x="71" y="314"/>
                  <a:pt x="81" y="307"/>
                </a:cubicBezTo>
                <a:cubicBezTo>
                  <a:pt x="105" y="236"/>
                  <a:pt x="81" y="254"/>
                  <a:pt x="140" y="239"/>
                </a:cubicBezTo>
                <a:cubicBezTo>
                  <a:pt x="137" y="226"/>
                  <a:pt x="135" y="212"/>
                  <a:pt x="130" y="200"/>
                </a:cubicBezTo>
                <a:cubicBezTo>
                  <a:pt x="125" y="189"/>
                  <a:pt x="113" y="182"/>
                  <a:pt x="111" y="171"/>
                </a:cubicBezTo>
                <a:cubicBezTo>
                  <a:pt x="107" y="147"/>
                  <a:pt x="124" y="125"/>
                  <a:pt x="130" y="102"/>
                </a:cubicBezTo>
                <a:cubicBezTo>
                  <a:pt x="109" y="22"/>
                  <a:pt x="134" y="100"/>
                  <a:pt x="101" y="34"/>
                </a:cubicBezTo>
                <a:cubicBezTo>
                  <a:pt x="96" y="25"/>
                  <a:pt x="82" y="10"/>
                  <a:pt x="91" y="5"/>
                </a:cubicBezTo>
                <a:cubicBezTo>
                  <a:pt x="101" y="0"/>
                  <a:pt x="110" y="18"/>
                  <a:pt x="120" y="24"/>
                </a:cubicBezTo>
                <a:cubicBezTo>
                  <a:pt x="127" y="34"/>
                  <a:pt x="131" y="46"/>
                  <a:pt x="140" y="53"/>
                </a:cubicBezTo>
                <a:cubicBezTo>
                  <a:pt x="152" y="63"/>
                  <a:pt x="203" y="65"/>
                  <a:pt x="208" y="83"/>
                </a:cubicBezTo>
                <a:cubicBezTo>
                  <a:pt x="211" y="94"/>
                  <a:pt x="189" y="96"/>
                  <a:pt x="179" y="1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8360" y="2492280"/>
            <a:ext cx="61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Полежала между ел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Подушечка с игол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Тихонечко леж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А потом вдруг убеж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21477600">
            <a:off x="5508720" y="0"/>
            <a:ext cx="3322440" cy="4611600"/>
          </a:xfrm>
          <a:custGeom>
            <a:avLst/>
            <a:gdLst/>
            <a:ahLst/>
            <a:rect l="l" t="t" r="r" b="b"/>
            <a:pathLst>
              <a:path w="800" h="1353">
                <a:moveTo>
                  <a:pt x="175" y="49"/>
                </a:moveTo>
                <a:cubicBezTo>
                  <a:pt x="185" y="46"/>
                  <a:pt x="198" y="46"/>
                  <a:pt x="205" y="39"/>
                </a:cubicBezTo>
                <a:cubicBezTo>
                  <a:pt x="241" y="3"/>
                  <a:pt x="174" y="0"/>
                  <a:pt x="253" y="20"/>
                </a:cubicBezTo>
                <a:cubicBezTo>
                  <a:pt x="339" y="74"/>
                  <a:pt x="231" y="17"/>
                  <a:pt x="312" y="29"/>
                </a:cubicBezTo>
                <a:cubicBezTo>
                  <a:pt x="337" y="33"/>
                  <a:pt x="357" y="51"/>
                  <a:pt x="380" y="59"/>
                </a:cubicBezTo>
                <a:cubicBezTo>
                  <a:pt x="390" y="52"/>
                  <a:pt x="398" y="41"/>
                  <a:pt x="410" y="39"/>
                </a:cubicBezTo>
                <a:cubicBezTo>
                  <a:pt x="420" y="37"/>
                  <a:pt x="429" y="49"/>
                  <a:pt x="439" y="49"/>
                </a:cubicBezTo>
                <a:cubicBezTo>
                  <a:pt x="449" y="49"/>
                  <a:pt x="458" y="42"/>
                  <a:pt x="468" y="39"/>
                </a:cubicBezTo>
                <a:cubicBezTo>
                  <a:pt x="547" y="55"/>
                  <a:pt x="519" y="72"/>
                  <a:pt x="605" y="59"/>
                </a:cubicBezTo>
                <a:cubicBezTo>
                  <a:pt x="611" y="69"/>
                  <a:pt x="615" y="81"/>
                  <a:pt x="624" y="88"/>
                </a:cubicBezTo>
                <a:cubicBezTo>
                  <a:pt x="632" y="95"/>
                  <a:pt x="647" y="91"/>
                  <a:pt x="654" y="98"/>
                </a:cubicBezTo>
                <a:cubicBezTo>
                  <a:pt x="661" y="105"/>
                  <a:pt x="656" y="120"/>
                  <a:pt x="663" y="127"/>
                </a:cubicBezTo>
                <a:cubicBezTo>
                  <a:pt x="684" y="148"/>
                  <a:pt x="721" y="142"/>
                  <a:pt x="751" y="147"/>
                </a:cubicBezTo>
                <a:cubicBezTo>
                  <a:pt x="754" y="166"/>
                  <a:pt x="747" y="191"/>
                  <a:pt x="761" y="205"/>
                </a:cubicBezTo>
                <a:cubicBezTo>
                  <a:pt x="769" y="213"/>
                  <a:pt x="780" y="181"/>
                  <a:pt x="790" y="186"/>
                </a:cubicBezTo>
                <a:cubicBezTo>
                  <a:pt x="799" y="191"/>
                  <a:pt x="787" y="207"/>
                  <a:pt x="781" y="215"/>
                </a:cubicBezTo>
                <a:cubicBezTo>
                  <a:pt x="771" y="227"/>
                  <a:pt x="755" y="234"/>
                  <a:pt x="742" y="244"/>
                </a:cubicBezTo>
                <a:cubicBezTo>
                  <a:pt x="752" y="251"/>
                  <a:pt x="766" y="253"/>
                  <a:pt x="771" y="264"/>
                </a:cubicBezTo>
                <a:cubicBezTo>
                  <a:pt x="783" y="291"/>
                  <a:pt x="790" y="352"/>
                  <a:pt x="790" y="352"/>
                </a:cubicBezTo>
                <a:cubicBezTo>
                  <a:pt x="787" y="375"/>
                  <a:pt x="785" y="397"/>
                  <a:pt x="781" y="420"/>
                </a:cubicBezTo>
                <a:cubicBezTo>
                  <a:pt x="779" y="433"/>
                  <a:pt x="767" y="446"/>
                  <a:pt x="771" y="459"/>
                </a:cubicBezTo>
                <a:cubicBezTo>
                  <a:pt x="775" y="470"/>
                  <a:pt x="790" y="472"/>
                  <a:pt x="800" y="478"/>
                </a:cubicBezTo>
                <a:cubicBezTo>
                  <a:pt x="783" y="543"/>
                  <a:pt x="782" y="611"/>
                  <a:pt x="761" y="674"/>
                </a:cubicBezTo>
                <a:cubicBezTo>
                  <a:pt x="771" y="680"/>
                  <a:pt x="788" y="682"/>
                  <a:pt x="790" y="693"/>
                </a:cubicBezTo>
                <a:cubicBezTo>
                  <a:pt x="792" y="705"/>
                  <a:pt x="776" y="712"/>
                  <a:pt x="771" y="723"/>
                </a:cubicBezTo>
                <a:cubicBezTo>
                  <a:pt x="766" y="732"/>
                  <a:pt x="764" y="742"/>
                  <a:pt x="761" y="752"/>
                </a:cubicBezTo>
                <a:cubicBezTo>
                  <a:pt x="764" y="762"/>
                  <a:pt x="766" y="772"/>
                  <a:pt x="771" y="781"/>
                </a:cubicBezTo>
                <a:cubicBezTo>
                  <a:pt x="776" y="791"/>
                  <a:pt x="792" y="799"/>
                  <a:pt x="790" y="810"/>
                </a:cubicBezTo>
                <a:cubicBezTo>
                  <a:pt x="788" y="824"/>
                  <a:pt x="771" y="830"/>
                  <a:pt x="761" y="840"/>
                </a:cubicBezTo>
                <a:cubicBezTo>
                  <a:pt x="788" y="919"/>
                  <a:pt x="781" y="889"/>
                  <a:pt x="761" y="967"/>
                </a:cubicBezTo>
                <a:cubicBezTo>
                  <a:pt x="772" y="998"/>
                  <a:pt x="789" y="1023"/>
                  <a:pt x="800" y="1054"/>
                </a:cubicBezTo>
                <a:cubicBezTo>
                  <a:pt x="698" y="1089"/>
                  <a:pt x="785" y="1219"/>
                  <a:pt x="712" y="1279"/>
                </a:cubicBezTo>
                <a:cubicBezTo>
                  <a:pt x="702" y="1288"/>
                  <a:pt x="686" y="1286"/>
                  <a:pt x="673" y="1289"/>
                </a:cubicBezTo>
                <a:cubicBezTo>
                  <a:pt x="631" y="1353"/>
                  <a:pt x="649" y="1343"/>
                  <a:pt x="507" y="1308"/>
                </a:cubicBezTo>
                <a:cubicBezTo>
                  <a:pt x="497" y="1306"/>
                  <a:pt x="504" y="1286"/>
                  <a:pt x="497" y="1279"/>
                </a:cubicBezTo>
                <a:cubicBezTo>
                  <a:pt x="490" y="1272"/>
                  <a:pt x="478" y="1272"/>
                  <a:pt x="468" y="1269"/>
                </a:cubicBezTo>
                <a:cubicBezTo>
                  <a:pt x="397" y="1293"/>
                  <a:pt x="430" y="1284"/>
                  <a:pt x="371" y="1299"/>
                </a:cubicBezTo>
                <a:cubicBezTo>
                  <a:pt x="299" y="1275"/>
                  <a:pt x="279" y="1340"/>
                  <a:pt x="234" y="1269"/>
                </a:cubicBezTo>
                <a:cubicBezTo>
                  <a:pt x="165" y="1317"/>
                  <a:pt x="237" y="1281"/>
                  <a:pt x="195" y="1259"/>
                </a:cubicBezTo>
                <a:cubicBezTo>
                  <a:pt x="186" y="1254"/>
                  <a:pt x="176" y="1266"/>
                  <a:pt x="166" y="1269"/>
                </a:cubicBezTo>
                <a:cubicBezTo>
                  <a:pt x="156" y="1263"/>
                  <a:pt x="148" y="1250"/>
                  <a:pt x="136" y="1250"/>
                </a:cubicBezTo>
                <a:cubicBezTo>
                  <a:pt x="122" y="1250"/>
                  <a:pt x="110" y="1275"/>
                  <a:pt x="97" y="1269"/>
                </a:cubicBezTo>
                <a:cubicBezTo>
                  <a:pt x="76" y="1259"/>
                  <a:pt x="58" y="1211"/>
                  <a:pt x="58" y="1211"/>
                </a:cubicBezTo>
                <a:cubicBezTo>
                  <a:pt x="52" y="1185"/>
                  <a:pt x="49" y="1158"/>
                  <a:pt x="39" y="1133"/>
                </a:cubicBezTo>
                <a:cubicBezTo>
                  <a:pt x="33" y="1118"/>
                  <a:pt x="17" y="1108"/>
                  <a:pt x="9" y="1093"/>
                </a:cubicBezTo>
                <a:cubicBezTo>
                  <a:pt x="4" y="1084"/>
                  <a:pt x="3" y="1074"/>
                  <a:pt x="0" y="1064"/>
                </a:cubicBezTo>
                <a:cubicBezTo>
                  <a:pt x="19" y="1004"/>
                  <a:pt x="29" y="1056"/>
                  <a:pt x="48" y="996"/>
                </a:cubicBezTo>
                <a:cubicBezTo>
                  <a:pt x="39" y="944"/>
                  <a:pt x="18" y="908"/>
                  <a:pt x="78" y="888"/>
                </a:cubicBezTo>
                <a:cubicBezTo>
                  <a:pt x="75" y="878"/>
                  <a:pt x="68" y="869"/>
                  <a:pt x="68" y="859"/>
                </a:cubicBezTo>
                <a:cubicBezTo>
                  <a:pt x="68" y="849"/>
                  <a:pt x="82" y="839"/>
                  <a:pt x="78" y="830"/>
                </a:cubicBezTo>
                <a:cubicBezTo>
                  <a:pt x="73" y="819"/>
                  <a:pt x="58" y="817"/>
                  <a:pt x="48" y="810"/>
                </a:cubicBezTo>
                <a:cubicBezTo>
                  <a:pt x="112" y="769"/>
                  <a:pt x="60" y="816"/>
                  <a:pt x="68" y="762"/>
                </a:cubicBezTo>
                <a:cubicBezTo>
                  <a:pt x="71" y="740"/>
                  <a:pt x="90" y="724"/>
                  <a:pt x="97" y="703"/>
                </a:cubicBezTo>
                <a:cubicBezTo>
                  <a:pt x="64" y="653"/>
                  <a:pt x="94" y="659"/>
                  <a:pt x="78" y="605"/>
                </a:cubicBezTo>
                <a:cubicBezTo>
                  <a:pt x="81" y="592"/>
                  <a:pt x="91" y="579"/>
                  <a:pt x="87" y="566"/>
                </a:cubicBezTo>
                <a:cubicBezTo>
                  <a:pt x="83" y="553"/>
                  <a:pt x="66" y="548"/>
                  <a:pt x="58" y="537"/>
                </a:cubicBezTo>
                <a:cubicBezTo>
                  <a:pt x="52" y="529"/>
                  <a:pt x="51" y="518"/>
                  <a:pt x="48" y="508"/>
                </a:cubicBezTo>
                <a:cubicBezTo>
                  <a:pt x="63" y="462"/>
                  <a:pt x="77" y="475"/>
                  <a:pt x="117" y="449"/>
                </a:cubicBezTo>
                <a:cubicBezTo>
                  <a:pt x="67" y="432"/>
                  <a:pt x="69" y="423"/>
                  <a:pt x="97" y="381"/>
                </a:cubicBezTo>
                <a:cubicBezTo>
                  <a:pt x="87" y="365"/>
                  <a:pt x="78" y="348"/>
                  <a:pt x="68" y="332"/>
                </a:cubicBezTo>
                <a:cubicBezTo>
                  <a:pt x="62" y="322"/>
                  <a:pt x="45" y="314"/>
                  <a:pt x="48" y="303"/>
                </a:cubicBezTo>
                <a:cubicBezTo>
                  <a:pt x="51" y="293"/>
                  <a:pt x="68" y="296"/>
                  <a:pt x="78" y="293"/>
                </a:cubicBezTo>
                <a:cubicBezTo>
                  <a:pt x="120" y="264"/>
                  <a:pt x="109" y="246"/>
                  <a:pt x="136" y="205"/>
                </a:cubicBezTo>
                <a:cubicBezTo>
                  <a:pt x="123" y="195"/>
                  <a:pt x="108" y="187"/>
                  <a:pt x="97" y="176"/>
                </a:cubicBezTo>
                <a:cubicBezTo>
                  <a:pt x="89" y="168"/>
                  <a:pt x="71" y="156"/>
                  <a:pt x="78" y="147"/>
                </a:cubicBezTo>
                <a:cubicBezTo>
                  <a:pt x="91" y="131"/>
                  <a:pt x="117" y="134"/>
                  <a:pt x="136" y="127"/>
                </a:cubicBezTo>
                <a:cubicBezTo>
                  <a:pt x="147" y="123"/>
                  <a:pt x="156" y="114"/>
                  <a:pt x="166" y="107"/>
                </a:cubicBezTo>
                <a:cubicBezTo>
                  <a:pt x="189" y="38"/>
                  <a:pt x="168" y="38"/>
                  <a:pt x="214" y="68"/>
                </a:cubicBezTo>
                <a:cubicBezTo>
                  <a:pt x="236" y="36"/>
                  <a:pt x="234" y="51"/>
                  <a:pt x="234" y="29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4"/>
          <a:srcRect l="32971" t="66305" r="22489" b="0"/>
          <a:stretch/>
        </p:blipFill>
        <p:spPr>
          <a:xfrm>
            <a:off x="6084720" y="1268280"/>
            <a:ext cx="2449800" cy="2381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1828800"/>
          <a:ext cx="7696080" cy="361620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6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БЛЕМНО-ДИАЛОГИЧЕСКОЕ  ОБУ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Основные  этапы  урока  и  деятельность  детей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ИРУЕМЫЕ  КОММУНИКАТИВНЫЕ   УМ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46"/>
            </a:gs>
            <a:gs pos="50000">
              <a:srgbClr val="ff9999"/>
            </a:gs>
            <a:gs pos="100000">
              <a:srgbClr val="75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5800" y="1828800"/>
          <a:ext cx="7696080" cy="46180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50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ПОСТАНОВКА  ПРОБЛЕ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ушание,  наблюдение,  ответы  на  вопосы учителя,  выполнение  данного  зад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НИМ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ушать  других,  понимать  поставленную  задач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НОСИТЬ  СВОЮ  ПОЗИ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формлять  свою  мысль,  высказывать  свою  точку  зр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675"/>
            </a:gs>
            <a:gs pos="50000">
              <a:srgbClr val="cc99ff"/>
            </a:gs>
            <a:gs pos="100000">
              <a:srgbClr val="5e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ПОИСК  РЕШ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движение  и  проверка  гипоте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НИМ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нимать  позицию  другого,  различать  в  его  речи  мнения,  доказательства,  гипотез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2f"/>
            </a:gs>
            <a:gs pos="5000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5800" y="1828800"/>
          <a:ext cx="7695720" cy="3657600"/>
        </p:xfrm>
        <a:graphic>
          <a:graphicData uri="http://schemas.openxmlformats.org/drawingml/2006/table">
            <a:tbl>
              <a:tblPr/>
              <a:tblGrid>
                <a:gridCol w="3847680"/>
                <a:gridCol w="384804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ВЫРАЖЕНИЕ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Ш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ражение  нового  знания  в  доступной  форм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НИМ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меть  выделять  главное,  составлять  пла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5e"/>
            </a:gs>
            <a:gs pos="5000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85800" y="1828800"/>
          <a:ext cx="7696080" cy="44467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44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РЕАЛИЗАЦИЯ  ПРОДУКТ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убличное  представление  продукта  учителю  и  класс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НОСИТЬ  СВОЮ  ПОЗИ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ражать  собственное  мнение,  отстаивать  свою  точку  зрения.  Приводить  примеры,  подтверждая  их  факт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67280" y="476280"/>
            <a:ext cx="3114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Кто   что   ест"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432080" cy="1792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340000" y="3213000"/>
            <a:ext cx="1432080" cy="1567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924360" y="4508640"/>
            <a:ext cx="2730600" cy="19382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3492360" y="2060640"/>
            <a:ext cx="163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мета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76720" y="3429000"/>
            <a:ext cx="113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ст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732720" y="479736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мечк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8:21:24Z</dcterms:created>
  <dc:creator>www</dc:creator>
  <dc:description/>
  <dc:language>en-US</dc:language>
  <cp:lastModifiedBy>www</cp:lastModifiedBy>
  <dcterms:modified xsi:type="dcterms:W3CDTF">2009-01-26T11:18:14Z</dcterms:modified>
  <cp:revision>15</cp:revision>
  <dc:subject/>
  <dc:title>Слайд 1</dc:title>
</cp:coreProperties>
</file>