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9B0-1C4C-4A0D-B99E-6FA2C1A3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7C1-B60C-4D05-A890-9B2981E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AF50E-D28A-4ED0-A325-EFF15B2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3308-174E-42DB-838F-3E0F215C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93AFE-029E-41D2-AE6D-E3DEA9A8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6C85-4E47-4EBC-98DB-5F7B215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A077-D5B8-4598-B248-F58B8E92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6E887-DE22-4916-9C29-3366FE4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A4577-4910-43C8-BB3B-34871143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AA1AC-812B-4E6E-9594-817D9602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14A58-6F9B-470B-8FB8-C499D074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00657-7ED1-4D6C-81A9-6EACEB8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A93-9E29-41E7-AED5-7CC2F8D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B60C8-3B18-45C4-A0AA-137F01DD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1B9D-BE01-4536-8A9E-CC5A86D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57E4-0A2A-43FF-911F-4C87870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4212D-E553-4E4C-AF99-F8CB382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86F36-4BD6-455C-A420-699CA0A9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02E58-14FA-4367-8FDF-750724C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BB7A9-9577-41FE-8593-2496D93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649ED-A50F-4E75-96A5-3999A8C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8FF6A-7878-426C-BA4B-837CD93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FAB24-D00B-408B-AD75-683E10F2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B7B-3EF1-4591-AC93-ED0DFB38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9ECA0-3D3E-47CB-9180-D0B2FBA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F439C-1DAA-476B-A2CA-FFA1B3FF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F666-9974-4AFE-A526-803CC5BB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5350E-2699-47A9-8996-FC7DA5A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925F-4C2A-48A3-854E-E69B8FB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28F7-CF61-40BE-B308-47DBF29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D287A-2B2A-4590-A228-D6566BF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679C-5F13-49DF-925B-3D5CFB2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C169-DDF5-4184-B378-19F93CB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1D710-935A-4D43-B1C0-A9D46F4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F6A-0BBA-425E-9BA5-4C24B88C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BC567-4A70-45B7-BA9D-AB75B442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5E64E-ADEC-4CF5-AE6F-F5B95D71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FDA3-F331-472E-BAC5-E7C7454F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3300-07B3-42B0-8781-4C3097A3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37D9-F2B0-4198-8C35-1E50705E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59DFC-5B77-424F-84BF-C7105AD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DF3CE-4988-4E93-8F99-6000FB1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050B0-B2F6-4652-ADF0-8152D4F9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846AF-EDED-46CB-96AC-298B738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6167D-5392-486E-8C36-900555A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459-D4FC-45D9-8E4A-C798585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EE60-3C84-4081-B5A4-D6708B5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08FCB-F101-4C60-BE8C-8D0F21C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9EE9-7EA7-4A22-9323-30D73A56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35500-2CCA-46CD-9872-6876125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CE183-37F0-4946-859B-D961EE00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04BD1-E9FB-4906-9C1B-F446EB16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C5EFC-4E3B-489A-827B-A7C51ABC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785C0-36B1-44B4-BBA8-CB2D64A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F3935-02D0-4D40-8BD8-134456B6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BDF30-6EDB-4C1F-AD67-8EE0CF9A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758-E86E-4962-AFC2-521499A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AA97F-859E-4B31-BE03-4646C29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C80AE-40A8-4EFA-9454-20D4ADD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6BD7A-242F-4DB2-8F84-2ECC9B2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7BF22-EAD0-4170-973A-6F21E1D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AAA50-53F2-4322-BD34-D73F8A63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7EE3A-5A0B-4135-B337-D1559F18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08DB4-4345-4A29-8D1B-6AC072A5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A0824-2ADA-4EC3-8328-40C98D71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6583A-E42D-46E0-9F0C-608E34DD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7CEE3-2B2E-42BC-A539-1FF6922A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55BB-D6A5-4381-9176-4E4ED58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0862B-25FA-4E08-8D90-1D952E7A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2BC45-85F8-4ACE-9F3A-169FE85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73BF9-5ED7-4F21-AB24-F667788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E6582-DBD0-4EE4-96B8-ABC4CA6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34FC3-B73D-4993-96DB-8C2FAAA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277A9-FD8C-4092-A551-8591A6D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861F1-F001-46AF-8C05-E3E0A1AA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4AE2A-AE05-47CE-9BE2-03186F6E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6F109-2136-443D-870E-C979D5FB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B20A8-EFAF-4378-9B28-C089C7B7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8F5-3421-4BB3-839A-A519770F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8790B-DA36-4269-B8E7-A7B01B30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150A5-80F4-47F4-928B-06116D84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FD089-7FF3-43B0-B2A5-64483FA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DD996-B0E7-4F06-BA64-BF948445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ADD83-3597-4DB1-8E88-7FDEE60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6E851-09DD-4F6E-918E-A105D5D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49A2B-FFDF-4E1B-A282-81BA224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A3D83-C1E9-4AF5-A35C-C10A9C1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7464E-94B0-4D38-BC00-FE76F11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93CCC-2510-4B1D-87F5-1C071237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66B-95B0-4466-B061-5EEB9AF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2DCFC-602D-42DC-8B5D-7D39A58C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72DDA-C31F-4AED-A58D-DB4668E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0AB59-E629-4D64-87BE-6BE537C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00722-B514-482B-85C5-9F87E379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7D366-EC69-4CE8-A825-49890D1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70B7F-24C9-43EE-AAAF-90670BB0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67767-A666-44F9-8578-97EAB70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294B5-1BFC-468F-AFAE-5A9485E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98EB4-D678-49DE-A5E2-4C9A91D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FE774-D745-4047-B9D6-721DB7D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501-DD53-49BE-812D-EDFC685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40FA6-7E16-46D4-962A-A13BADD1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911FA-5BFB-4C12-90C0-E940D80C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5436A-102A-4555-B4A1-06FEE898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AA65F-A30C-4143-930B-365D835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C8A6B-B30D-4CB9-92EE-85835DD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9AF83-3A3A-4BF5-A408-A6C4D9E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C5DEB-3A6E-430F-8DA0-DC6A305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A152A-8FCF-4D26-B2F1-D79C2BB7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6C456-5843-4A35-ABFA-C2B214F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F4DD5-786B-4114-90AD-4940CEB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6F2-C734-400B-9D91-49DC7F5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40F-B15F-4A2E-AE8F-5FAFC4C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9E5A3-1C98-4D36-9FD7-081A6A5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33472-1C00-4241-93AE-C709500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0813B-D030-4E23-9021-5C63BA4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5CF19-F58E-4313-9414-DD2007FD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AC1D7-6845-4F7C-A642-5B6914BD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6778-58BB-417D-8063-AF4BC92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A9D52-6315-437C-A713-7861D04C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844C1-D707-4798-A56C-7AC5681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E1378-02FB-4EF2-A0C2-07B041C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93DE-8E71-4496-A334-B26B0221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44BF4-B654-49C4-B856-5D40A7E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A0561-84CE-4522-BCD8-39C5E4C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DE703-C9B8-44C8-8CD7-ACAE7E0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D4C81-2E99-49E4-8328-A166AA0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C80138-E40C-444B-B59E-AF3CCF6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21084-A66D-4D8D-8E02-37E67BA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4E291-BCE0-47DC-A9E2-BE39F36C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AB00E-8616-4487-8B06-4A23569E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FA3AF-7C20-405F-A852-E6365F7D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41A35-65CE-4A21-8F51-C757C311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B3FE-0587-471E-A284-16AC2869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E93CC-323E-43CA-B481-D07CE12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D08C4-A281-4094-8F25-85725832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1B634-8625-48BE-87D7-E96B820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318B7-6BEA-4A17-9973-F1759CF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B58CC-15C3-4C4B-99A2-D07C99B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30078-0048-4E46-B986-DDB6C22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9669B-735B-44AF-93B3-E7E8638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C805C-218C-41EE-9A34-CBB5F85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E2D2B-3691-414E-B471-61CCEE42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7113B-4848-4B89-AAA8-A9BF8DED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F54E-F951-4716-9430-884DDF7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8E154-F24A-4EC4-8EF6-507CC456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3A7F6-57AE-4B95-AD22-FB330CBA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858A7-40E7-4B5E-AFA6-5F66D86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32DA5-65D0-42B3-9419-D1627A4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BA38C-2341-4F60-BAA2-CD187B32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49015C-1B3C-4CE3-B4A9-171D510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1BD00-8883-4163-B978-C1CE981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1EACF-FBB8-4BCD-B70D-24522E4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6788E-E3E7-497D-BD60-B95A49A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93B53-F55E-40D9-B8B4-C7592E1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18E2-2BFE-4640-982B-40D5F221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69C55-3771-44CA-9103-42E38FDA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38365-D9BF-43D0-A132-6931D757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D872D0-4B99-4058-892A-F76B3298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1315F-A75A-44DB-847D-A3ED7AC3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CB5AC-AC5E-43CC-8F36-2F71CCE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628A7-0462-458E-884B-666BE9A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B0833-B12A-40E9-93FC-2656C928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F9E7A-CB10-45E6-9C13-827C766A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A64AA-EE04-44B1-BC40-EFAD7725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CE956-1BC6-4F33-97BD-991E839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E120-E417-40E9-AB7C-B17C9B7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429F3-1936-478B-BADA-7224726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27D2C-B313-4CD7-95D8-B60080B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75327-A5CA-4067-954E-8BC07484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C6583-358D-4B56-B1F1-47FF8304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F9B32-DE30-4BB1-9B3F-6E321A7A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CA9E7-DFBF-4DEB-AE45-D580ABBC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5DB55-E830-4006-91EE-A3DCC39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AABCF-9D5A-425A-83F5-2151A45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20128C-C385-43FD-8489-DFE707A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25317-0706-4830-BF04-483147FD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3721-4F5F-4D91-9247-E3366D6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6BF347-3117-46D5-A219-6B20453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6FAA12-215D-4BE6-80E5-828B412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3457C-F110-46F6-8393-4395E9F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8B158-8D69-44DA-A11F-EE0E775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22D912-A77A-447E-9B90-C8A12E1A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4A921F-E1A8-4C3F-A519-938FDFDC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269FD-01BA-42FE-9F55-F8D92612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AE7BF7-DE83-4B9B-BC6A-D8421C4B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91BF2-BC4A-40BA-8B7E-C9E41ED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F109E-9597-4AB2-B8C0-E893F33B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0976-7780-440B-9A92-49823F39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A5C7B-7A36-49A8-8638-802FBC8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2D4D2-0E82-410E-92AC-A2D9D04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6F0A8-7DE6-4F96-B824-00AD005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E139D-9DE5-42A8-B2D8-2B852F5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1F7EDC-4129-427A-B9D9-16AE840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2D3D5A-2CE5-4132-A9AA-6838067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19D66-4159-45B1-A73B-5A49675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BAC444-2898-4F60-998D-3BF99CC7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741E71-7752-42AA-88E9-D4E6F6A5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616D05-684A-48DD-A6CC-EAE22F46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7BAC-68B6-4D68-AB7B-F26C8AB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A01D6-CEDC-410C-BCB7-46E95C4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5C96C0-EEFC-4A8A-98DD-B05A286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D2DC56-6508-4667-A38B-3C0ACB62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8288A-2910-409B-B933-AA7E1B5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3C12A1-BF15-4608-A544-3DBC27D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B5899A-CB59-4607-B698-250342B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3D764-AFE4-4C77-A0BB-5DBF43D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94701E-211D-4377-A0A5-0D87259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59DB5-EB03-41CC-B65B-F2D28D8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DDF57-B3E1-4C05-963B-872359A3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906-1C8E-4D10-9B5B-835D7C4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55CD-DB43-407C-958E-3D3A8E7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644481-A380-4138-81BB-C01CE136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168B04-5D25-49AC-BC1A-D51CEB07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FD521D-87D2-48CD-9142-9DD62A8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7CE3BB-06D1-4871-9400-F6B2A42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CD2438-2F65-4B02-9792-14107A3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91D359-8F9A-41CC-AAC6-BB992A0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F475F4-B1BB-49BC-87F0-6453EB7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5CF3F6-3E49-4FC1-8F15-EDEB4EB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B9EB52-C1EB-490C-9814-CACC3BB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3CF91-763D-4CBF-90C3-7E55F3E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7417-9B17-452F-906B-41ED9C7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252F64-A42D-4296-9409-DB1343B1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04D574-75DC-4F96-A90B-2FDAEA8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62751E-37A5-4134-8073-407A7B6D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62730-6EBE-4F59-BA00-771E0157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0C4D39-33EF-4FE8-98B5-F736631F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864DF1-DA93-45D5-9DA4-FFADAF9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90847-281C-4EE4-A84D-0A7AA827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720A6A-F1AE-4833-9AE4-A832AF7F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7F79DE-1ACC-4A33-8CAC-13022E49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C8665D-BF2D-44D9-A12E-9B4231F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D5F6-7597-4325-AC2B-2D4DC1D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0EB918-BCA4-4172-B55D-16B4F26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D6F99-464B-4487-B828-898AE1B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5000AB-54EC-461A-8DE4-1DAD5BB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0BA505-A338-4775-87FD-36D715D5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23416D-160C-410F-B8BA-0CF06632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2E592D-2FDF-4677-B7A4-EF45B9B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AB07CC-63BE-4A02-9E9C-7CE7590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435984-7922-422C-A0E1-08C8E8F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D668B-DF70-464C-A742-3CAEC7D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41040B-F703-4421-8AEC-C33E7F2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8966-1F50-4292-A20A-3ABDD82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3F2AC9-55A8-4F03-B119-7C1CDF2C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F46C4C-984B-4F02-BFAD-236FE0B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E7AB37-CE36-46CC-932F-D381AAD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91E791-7EF8-4705-86E0-1387B83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AC7F5-4EF2-4701-8DC0-DD065434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171504-95DA-410F-AE64-92B16BC4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EAE69-134C-4796-AC5C-A58CAAD4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E053D-EACE-423B-A9A7-404C70D4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AE2B38-DDDE-45E4-BE49-2D35D553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084179-6A6C-46B1-9201-9EA1E8F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6A71-00D5-44BA-BC4D-9AFB75C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4BA361-CD3D-4E4C-B0DA-C08F234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4ECBC-69F9-45FF-AE69-1DC512C7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E4C033-5E08-4DEC-8D3C-F1CE091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9154C4-04BF-41A8-9FFA-7CCB91F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E66728-686C-4173-8357-1FDF784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C7E837-3501-4AB3-AC98-AC7D087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3633A-59AF-459F-A50E-D02AFDD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B09F61-CBA9-45A8-A479-91C50244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DBD6BB-1A43-43FA-8C7B-76AE9B45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40268C-76E8-4C41-B49F-B3199E7A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FADA-6999-43FB-9071-D17C3C6B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565299-1250-40CF-8D63-514119D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EC7931-9A31-4BDB-BC8C-7F521D9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562D8B-7F88-440A-92E5-BAA0583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C017D6-73EC-4CB4-A575-60D21D5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31053B-20A3-4347-A81D-1D5410FE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4EDB7A-334A-43A4-B075-320EF6C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6DDDF7-A6B3-4155-A33B-4A49804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A542BA-C382-415E-94A0-97DD0F8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E1B6A1-6F1C-402C-8B8C-009D2C84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0AB075-5D5C-48AE-95A0-5743EE34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DA14-2ACD-4027-AC72-9A28AEED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CC3762-BEB9-41DE-AD3C-2A2F441C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A0A692-8A49-47D9-BC95-35CEF361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60A28A-0AE4-4B27-8B17-2215881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B78953-BCA0-44C8-8B37-EA144B67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B46D37-084F-4B77-92EB-6A08FFE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8CA78D-E0C4-4F49-9153-9EF2A47D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6198EB-FA25-4AD7-A547-8E09929A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5EA72B-F70E-44F3-9470-07EF550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64B6D1-1309-4162-8F01-AEEE6AE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8EDF2F-5F13-4838-A994-E3D81966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0938-20F2-46AD-AD32-29977FFF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77FD8A-C5A5-486F-BF59-59D1372B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801F6-7076-4C5A-8591-4C3D8A33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C9F86B-2664-479A-965A-496E6176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B1E2A9-08CE-45AE-B8C5-EE2675F4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876012-7F01-4985-84BC-65BCAF7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6A82CB-BE76-4D4C-9440-FDF93A5B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BE945E-8765-4E25-9FF8-9DD4862F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436E09-AB11-4A64-9B91-EF00AC7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00FE1A-556D-4A74-9E72-94F2BAC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DCE4DA-4ED2-4A1B-85F9-C0610EE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F278-BDF0-4BF2-AB82-7EDED372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774C1-22BA-4F40-8874-430386C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6AD857-2A19-4656-AA02-3116A498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A1AF1A-3C37-44D7-A388-30BE409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517A0F-B776-4AAB-A167-222A96CC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590A79-CF8F-4D27-900D-F50CF1F8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73503D-171C-4E47-A851-B504EC72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9E0E13-DB3C-4210-B751-519F482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4FCC14-793D-48B1-A4B5-C74EFFC1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858C24-B150-413E-9263-FB42AF23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3F8F20-85F0-4027-A81F-220471F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89D4-0843-4311-B5E8-F73A3ED6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2AA033-4780-4464-AE37-F35AE6A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3419DE-3090-434A-862E-9682785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29A188-0A0C-4C4C-A79C-BB48108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4025A8-F370-47D8-A62A-C412174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16EB88-ED64-4331-8370-1CB9EA1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C5D3BF-825D-414A-90F2-F70DDBFC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3ED729-20F2-440B-A708-F01C1D85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50E3D8-6E05-4079-A7F3-F4889236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BAEB12-216D-4669-A13D-5335191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831B0D-E3E8-495C-A461-BAFE3B80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6E0-B969-4F7E-A846-CA0AD15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B189-028A-4072-A708-41831AE5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85C0B7-67DF-4691-92C9-A45FDF2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5C3044-A4C2-4110-ACD1-9425D7D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16BE11-9C52-44B9-918D-6813B42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CF166A-38D9-4497-B864-DB462B07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DD8E80-056A-4B0D-AA31-9268FD6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12E6E0-78A4-46C0-9FF4-E2BC162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CBAC6C-7A5C-4ADA-815E-5257A108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209D6F-A3FD-496C-9961-FC07765F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04579A-F213-47D2-9489-53FEABD7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40CDF7-3295-4657-8782-CE0F0D0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325D-53E7-4867-B96F-1EB1700F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2963C0-53F5-49BE-ABD8-9A11CE4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AE7128-8F6E-4287-B111-92ACEA6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F530C6-4EB4-4BCB-B5C1-19688658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75A320-E98F-4138-B338-65B66C9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F86DB-457E-4296-B464-A1FC3FBA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BDDCE4-838B-4A32-8E95-5A588F4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4EE417-1224-4594-9E3D-28E4952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8BE4B3-905F-41BE-B876-4E62E9E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639881-673B-4D74-A850-3B104899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2B2AE1-C5AA-48D3-A1B4-A8168732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7BC8-6BED-4BE0-9F47-560D07D0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6F12F6-D32A-4BA9-8B32-58C55EDD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36057D-DC06-426E-B7D7-6021211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836D0E-208D-4341-BADA-A8384EB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CEFEE0-9BC3-4C43-8828-9237248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499B96-171C-4E95-B49A-5F5B64F3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721336-361D-4CEF-A6B3-4A160C1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257ECA-56CD-438D-9DEA-E046D82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F8E097-85C9-4458-B171-CCC12F4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4B1950-4962-413D-A666-C3379C6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08CDEC-477B-435E-894D-78F9848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E7EE-5247-4643-B68F-9614FB8C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20D7C5-C871-4BCD-9EC0-F7F8F427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44A699-0706-4F9A-96B1-72B3ED9B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CD9D25-0730-4E29-9379-B0D2EC9B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F23B86-5FAC-40A6-BACC-4570E1B3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D18196-CE4C-42C6-9009-A17716EA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0A2E5E-1E9F-4504-9C64-238F5D4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1AEB8A-B15C-4536-AEC7-9190655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B3057-11FF-4AD8-9436-0136D16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86E173-0D84-4006-9EF8-ED952138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0A10ED-0330-4F63-865B-37C2FFB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775D-C174-4A7D-A709-44E20FA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C6D06E-4C61-4AEC-81B1-8A16ADF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7E7F9D-0C38-4F99-8D66-596F173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67370B-286C-4B3A-8350-5BB8D83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854DBC-7FB0-4C93-973C-6674DD4D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FC0951-C36F-400F-9548-B7FE9B9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28E030-3043-4C2D-BB11-0FFD5FF2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3AA740-ED11-48C6-8AE1-C8B23C7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415BE4-17A9-47CE-80AD-B0B6272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E7AB7D-A807-4C7C-B553-01016A7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4EBB28-25B3-4E74-BC1C-A47A0FE8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5201-B6FA-4175-96D8-F5C222A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5AF676-37E5-48E5-A3F7-04CB4BE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3F5219-62A3-4003-9722-957FBAD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67E4C7-6639-4877-B8B3-6E7B5E5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D12B36-6618-435F-BF9F-1A193A6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DD88D7-ED4A-41F1-85D9-E89E52BC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E7920B-4AA7-4C77-8780-37FF099E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A68E16-E222-4EC0-AC9F-9A0590A3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C79C8A-09B3-4F25-A21B-29287D02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C08B8B-A972-4330-B37C-72EE106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E4A038-AD03-4BFB-BC8D-2752CDD5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3111-42EF-4599-9F36-22079AA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FF26F5-7F46-439C-B531-1E451BD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94C6CE-3AB5-48CC-98F6-720F416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1C874C-51B3-4092-A3C7-955A143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24F43-8592-4E4B-BD09-99A28CA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81CA74-0E9E-4F39-8F72-8617F74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964E9A-F645-4A1F-8F9C-9E8A15E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7A1A34-9D5A-42A0-A90D-D2A0D32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6A7D4A-5B86-427C-8354-2A5C900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03C9DB-5F63-4EF7-A2EF-ABE09316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5FD4FB-844C-4BF6-BEB6-AC98FA5F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315D-15DE-44A4-8C1C-1EFAD708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96066C-E260-417C-8B47-DC2E4F8E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F199DE-4D81-428D-AC2A-7EF5D52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DB2E9E-20CA-42A0-9F5D-A7FA1CB3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E6A389-1133-4EF6-A6C4-6842C95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B1A22D-EC23-4BF0-A061-0E9EF2C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9029A4-2BD9-4E5C-822A-E86B886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51C7D5-2972-4B73-9B05-959D9AD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AA053E-3109-46A7-A96C-2CD1D56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4230BD-A29B-4408-8980-018A7B5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66740F-8E6F-4222-90C9-7A141A0A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5A30-3605-4E43-B8E6-E14977E3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E77795-E24A-4214-B158-BA29B030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D102D7-E282-4860-873E-43C364A9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BEE6CD-BC65-422C-95B1-0F0EA49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CF5338-865A-4806-9524-0786E7DE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641ED5-C329-4297-A3B4-2E52036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6043B2-FDB4-42F6-97F0-D4D8E80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E87A96-1770-44A3-9B31-5F8C164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02CACA-9985-4615-AD89-7B0E1E5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9E4722-1587-43A8-89B8-4122822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814604-6854-44FB-9C66-6074322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CBED-DB86-4F79-9DAC-5E2777F7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F5838B-C306-4E4B-8477-7B9B27D8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9ED414-7D95-495C-BBAC-0627670B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69F4D6-538E-438B-AA34-4EAB94C7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67C463-7B67-4A31-AF5A-81B34E9C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10F151-F202-4458-9F61-6FF59D0A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0ABF2A-BD48-490C-AA7A-F919E7F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BCCF18-8D8E-4CDF-9B0C-B8ABFA2F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072CB5-20E6-4730-BBD5-1ECC630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66E531-BE98-4370-BC12-5011521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8EABB2-C486-4F60-9137-8773FB3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AE5-F108-4F19-86AC-1390017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C167-AAA8-4F5C-8F9E-BD036C5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4E03B5-F0A9-49CE-A6F4-33E681B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1E4DAA-0FB1-44BB-B6E2-8B6DED7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2B68BA-4228-414C-BE10-36469040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713EF5-1BE1-4BEA-8B91-D9A51439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64AF38-B349-400F-B7DF-E14E51E6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459888-2E31-4BC6-8F6A-ADED1F20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5846DF-B18B-421B-B0D0-C53EA1E6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940445-96B6-4837-BCDD-6CA10AE8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A1E85C-ADE1-4A5D-B9D3-C8B23817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8A5A23-0891-4857-A609-062E4CF7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751E-48A4-4A6A-A1F7-31ADE92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ECED79-22EE-422D-8EBE-8A9BD6C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15C0A2-F8AC-404C-8DF8-C4C1F0A2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30039D-BE10-4D81-8F39-17157A4E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F9C3DE-93A2-45E5-958D-3FE4E29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C5E086-7F4B-4D88-9DBC-688EFE2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414B85-C81C-44AA-BF01-2EBD0743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DC2F81-4740-4D4C-84B5-1211443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0F82B9-BB20-453D-98F7-5C6B6EE5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91858D-7534-460D-BDD9-1EADF11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FE1507-1550-440C-B6E8-9AD0BCF4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0C25-01EE-4DD3-937E-37833B2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914F53-07F9-4FD8-9FD2-DDDD79C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10A857-FB7E-4030-B8E0-4AD021E4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023C51-D92F-4C0F-A75E-9DF068E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47ED85-887D-4D19-AD67-D77A8C8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B2CC22-FE98-4CBE-AA6A-C5F7C2C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5FEDFE-56F1-4995-87D8-C530847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E6AB2C-7D82-4BC4-9B3B-EAB0410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0FC652-E8B4-42AF-9190-97790A24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5A9E55-F345-4C59-B89B-0528A6DC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337E98-1074-4B40-8BB4-810F7FD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9009A-DD18-4B78-876F-6662F89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93D6FA-98A2-4771-8244-A4D2A7F1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4568D1-F268-4B66-A7A7-57AE1ED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9880BE-EFA6-4624-8E11-534B4A3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2E4C85-FA09-4C37-933A-80E7D27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8A0585-FDF5-4666-A411-B6D3B9A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40A8C8-AE33-4702-85DF-3617042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B6DF86-856F-4885-9F6E-6CD1B49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EAF767-FF5E-4EC5-8CC1-3125C7F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E2502A-4B26-43E7-981F-DC021EA8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4F32E3-C013-4C82-99FE-7CE5E812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C013-F3E7-4B50-985F-DB6FDDD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6FCDC5-7506-4D9A-AD1F-64BB376D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FCF52B-DF95-4EA1-84CC-E94E39C8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FFD719-D39E-4F29-91AA-6E63BB6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FA0AF9-B7D8-4994-8313-7C5A452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D5C182-666B-4CFB-A854-F594281D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2FBE0F-4491-4DAA-83FB-DB0421A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5661A7-9C67-4F0F-A017-BC6EC53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48C716-24F9-41FB-AC41-F38B75A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25A339-8B47-492E-BBBB-CCD107D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3B2CAC-566F-426C-823A-0538912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60650-5557-4BC1-BCDD-88C6870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B612D7-8B9C-420C-BCF4-9859353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0F53B0-1EF8-4FD9-ACEE-5570CC95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08214E-5957-4EB5-958F-B3F1822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0255ED-A49F-4963-AA47-819DB2AC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DB78BA-AA15-43A1-8023-2395006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F5862E-C5D3-441F-BA83-237FED1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C40BC5-D9FE-48B0-9579-ADB62F3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CC6788-AA19-4BF5-BABF-3BF0FB29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9D6947-23D0-4750-AECE-3679F29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0B4D15-E659-45D9-BC1F-8E16D79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D27C-DC3C-479E-BAEC-8528439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59B4B0-7E29-46F4-8D91-6E272BD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DF2262-BB57-4379-8A2E-633E5DA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F921F7-5573-44C3-913F-4F2486D0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4BA9A2-B2DB-4096-BB50-C7B58563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C1936D-6579-4F6D-BB01-1AE469B0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992070-7FD7-4577-B53D-50FCECA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50D17E-D6B5-43A6-A862-BE98A57C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B35BB0-AE2B-4879-8613-3747830F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4107C8-E7E4-49CD-AEA0-E9673B67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6D73CF-8B4F-485C-A2C8-D61FC6F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01F2-FD5F-491E-A6B5-16A9763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5382F1-C624-4C97-B3E2-32C52BD9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C10590-136C-4B3D-8F26-A5D444C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5F788D-3814-472D-99FC-59574899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839423-165E-4F15-9AD6-F460E01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6044B6-9735-4645-996E-72B32C63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5A11E3-293D-47AA-B9D8-28AC5C39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AEA365-5EE9-4156-B022-F3262D7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38580C-8838-4D48-9151-F3221B6C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BCDF5E-F10C-4D54-B0EB-2AEB892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040EBE-68DF-4379-990F-EB98438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7523-E94F-449A-A76F-78E1B6E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F14984-E556-4AC4-9267-AF8BAE34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03D82A-2628-4390-ABBE-148CA10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DC75F5-F564-4397-8955-AF0D13A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AC805B-3546-419C-A7B2-0BB6808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E19A28-7152-4681-B5C5-8E8A1A1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3C0DEE-CA43-4B61-B8F7-71E3D14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11C5B6-5043-4775-B86A-AB85806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1B518F-5A0E-4D8D-A3D8-C5E4CBED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A299BB-7EB3-4C2F-ACCD-1E5557F0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DB912D-2EFA-4E36-8395-A43AFAC1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294C-DCE0-4C04-A280-9D662A71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29545B-2D18-4A90-9435-9D03DE5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8CF7E2-CD71-4488-8BE6-FE6A318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16EC51-F76C-4D08-A129-3BDCED01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C32D38-AA5E-4597-9EEA-18058F2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90B256-9EB5-4D5F-A761-ADADF97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E10223-B18E-49C7-AAE2-C59A649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82C32F-7CBD-4A2E-B610-C0EAFE7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B559DC-B230-4FE0-9158-978086D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266095-CA03-43F3-AB12-46A63FCC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54D48B-CB58-4A24-A5F4-576C31E6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E31-D0A0-41E1-BF61-6505C32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E818-E94C-4044-94E4-0C773B0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4C9DA8-A009-4313-A826-85125791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8EBFEC-4150-4970-9F7B-3D8CABEF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A86DC2-0DCE-46CB-ACAE-E21CC064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765767-FADC-4541-A2F9-BEDFEF4D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F6E6B9-EE03-4E8E-9E41-D13A9D35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A7AFCD-F5B7-4239-B4C2-E36B315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01BA4AB-5E36-41DD-84F5-A8DC4311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C390E7-E94A-4170-BEEC-FCCC59E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943F979-6874-4DB9-9949-4A551B0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0A4ED3-8293-4D1F-8D49-C1F7B81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6E55-8405-4D7C-A8CD-3B009F72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656542-E2F4-4899-9A98-FA3DD2D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A5573B-65D1-4C22-804E-246249F6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426B83-2CAD-4A39-8D4E-BBA33CEA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5423BCA-9C2E-4BB9-A08A-77C0876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11BF8C1-470B-440A-B589-DE35C49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B581A1-2ADA-47D9-9315-F505C070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C4A9A7-594B-4994-B1CA-9B26F2E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B794C52-7121-43DC-BD0C-F8D2049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14460B-A534-42AF-AEFC-53AE1631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BF4A60-6297-4060-95AA-43A2521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3549-F47E-4018-82A3-0D1482AD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CC1FD67-2FA9-46C5-A59A-4388016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9E75EF-99CB-4E8B-8294-6CCCC31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CC6E57-6B5B-489C-9B8E-59A637CB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360873-82AB-4227-9519-33A59A5A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EF7E983-970C-4F52-8839-A5A133E7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6AF7BA-6650-440A-A1F7-9AE24DC3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538F44-D486-4527-BCD9-C1B31137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002AAD-F4BB-4682-A932-2247200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05BF5A-A9BA-4503-94E2-B3ED90A4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77EE47-05AE-4D0F-A9EC-7AA57B26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542A1-0A4D-4544-825C-AA29784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C00A7E-2D47-4AA4-B4B8-BCE4340A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788633-503B-4F67-A405-CFCB4F5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B2A6CA-DC74-4F77-9CF7-E9F8A55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AA524D-9053-458B-ACF1-08A0822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0D1034-D0D0-4AC4-9DF1-6BC3E669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700E2D-C39C-4494-BB9F-725D362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E9B704-0AF3-4D8A-AAAD-56DC2D99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3AB219-56CA-41E7-AA6D-1122F79F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658D0B-B02F-4592-9607-2E9B6DB4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CEABDB-0317-4513-A030-D2E8468D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6653-E36E-4668-A8DB-21AEE62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EAFCB7C-592E-4860-A02B-65EAE5D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B54D40-873F-4FD9-9A5C-F695AEC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68F5EE-F9A9-478A-9AD5-AD7A359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D2212D2-8DB1-4804-9874-7903C1D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58C19D-F09F-45C9-8D4A-46F7608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FF2B461-625E-470A-A6ED-2421B3B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887CA4-25EB-42D4-8117-E68CC09E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59A262-F214-421F-9C85-7E10253A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9B3D87-839F-40C8-AB74-F0A6FA6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DF6C8B-17DA-4E06-85B0-3F29388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86B19-F331-4AA8-AFD3-47D7299B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3FFCBEA-DEAA-4494-8AD7-1811C92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8F0F5A-A120-46DA-A406-2F96908C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3752005-5D75-44F7-A2A9-148C658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6F6FDCF-6330-49B6-A0E8-2A116C3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FC6C94-15D6-4FF3-87A5-980C3ED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B80DAF-C329-40DE-A38F-FB70873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A60D79-63F3-45BB-AA4E-EFCD07B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99A336-900C-4AFB-8D19-F6A1DBA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7760BB-2C4B-4DF0-B8F7-815D35E8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E325DC-845C-4B3E-A009-454D8FC6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DEA3-6D74-4606-A109-546302D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C6F726-BE4D-4D21-AC38-E27B508A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95763D-2CFF-4D25-AD0F-33CFC5C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D9DF7E-A4F1-4DDE-BCFF-AB020583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86978E-F07A-497B-9C89-E2114BD4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2E26136-09BF-40B9-B276-C2D31E69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AC0C28-5BB3-4643-A468-DE651E9E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26F5297-DC86-40AC-93C1-F94500B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1AAB93-AA57-45FF-9042-7DCBF19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04FD0BD-8520-46DA-BC1D-3DEF704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8A585B-926B-4256-BE50-6A5AA65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E546-F730-45F6-9DBA-29A17EE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AA66CD-A5CE-4AF9-BF32-39E55C0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30B5AA-EDCC-4D52-B6F4-1BD2271F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68BC06-7795-4BA9-B78D-7743ED2B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233E9D-A0CD-4149-BDCB-5B1A0766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AFE9C2-53E0-4B45-BDDE-B5DD9D68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14C8E6-287D-47B0-A8F9-32C19D0D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F72026-B734-4277-B194-B01AEA88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ED93D6E-2A59-4366-ABD3-B914F3B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ACB348-149D-4220-8279-ED8230A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5B5196-D8D7-41FD-81CA-83F7844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0035-C8F0-4171-820D-2015F9E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3BC9D4-4208-48E6-A781-9362710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091F7F-E5B1-49AA-81BC-4B0DA8B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845196-9524-4DA3-AE2C-74EC4177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802F6A-41A0-4E88-A805-E7E12E7D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15B0FE-D3D2-4B48-8903-BC785434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B0419E8-4BB7-473C-A2D7-CC6CE8FF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F584E0-E899-4EC7-8DFB-93DB527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888EC1-128A-4901-8952-CADFC80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252A8CE-F108-422A-BCB3-69B3799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D3B253E-70A2-4E31-B142-8A7412BA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3411-F136-42A0-ACA3-E10C4CC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DF0CEF-73AC-44B6-B2D6-9E40D20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8282FC-7268-4151-B8DF-F4A47E6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A9FA15-82D8-4BEB-93EF-A9B3A24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41C797-A635-4E11-A847-6A3C2425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061D67-E33E-4DA1-8384-F9FE0C8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1D95A1-06E5-4D1A-9999-887B2EAA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61AEC3C-BE16-4C84-9964-1902C99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2C55197-0813-411D-B166-88569F39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C1E6D86-E2EA-4363-B645-36B9E7D2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7C9AC76-820C-4762-8F33-416B5C99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7AD-00CA-4A01-99C5-021D2EC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0A80-D4E3-4AE6-987B-7CE7A26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CDD8AD7-375B-40DF-A820-C6F43694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56CFF8-B35B-469D-A695-558E2241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77444F-EBBC-4157-8E82-80B8D9D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0B28C7-8270-4552-B617-5A1B489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38E345-EE35-4DBC-AA8B-310D003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37CF4E-C0E8-4FD5-B5FA-5A3A2D4F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D68181C-5B57-4CD2-BB6E-931464ED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BDA90AE-5BB4-4BB5-836C-A11E720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845B2A-21D5-4119-B91B-9E7462B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A7C817A-9332-4143-8A86-DDC4B4F4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270E-46C9-4013-B9F8-A4E241F6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B4015F-BA42-4890-884A-DF6E855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F24093D-9667-4359-A52B-0A268F9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06E2B2E-D9C7-4171-B6CA-CDB2E29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932B8C1-F1D0-41FE-A346-5288079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5D0980-DE5B-4CD2-9DFB-41712A6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3405974-B7D3-4957-B394-785D6B3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7835B8-36F6-44FA-84F5-80E47CF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6C149F-7EA7-4A9D-BC80-F574571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1082F4-CA0E-4E48-929F-FD1FA49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ED77CF-629A-4986-929D-B13FDF41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1F5A-7B61-427F-9991-88A16472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8768621-3394-4A4A-91B1-CA9A5757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B965CCA-6C4C-4B0D-BC70-0FA5C600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7098B0-71FB-4C06-A5B8-E2948033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3103396-6B07-4507-82E5-6DA6D3C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80D66C-F915-4D69-8EA3-665FDB34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0C859F4-1630-4DBD-85C3-223625B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86D1BC2-AC41-4BA6-8CBC-B648BB2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FA440C7-5EE9-4D72-88E5-3F2EEA1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2975ED0-9FD3-4722-A3DF-B496C0B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7721082-CE7A-431B-ABB8-B70CEB9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F276-675A-4977-A650-502D56D0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5341719-3F0D-48B3-831D-12BBA3B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56A92D-1CC9-437F-812D-E3BC70E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EA6AEB-661A-487D-A79B-0B46A605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41675CC-0FAE-4521-80A3-4334A3D2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5BB6FC8-EC8E-4E52-AAC7-42DCB78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FB9397-9DAC-4A5F-BA48-0062734C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AD7E7F-FE12-4B41-BDD6-9D97DD7D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FC4F889-DE9D-47ED-AC5A-DD1DDC0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227F032-1B31-4481-B725-B41CF29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E9AA05-0C29-4C75-B6A7-B230ECB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572DA-2D9D-4DCF-8761-4F7D4B6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1C60C11-A5AD-4B9F-80A1-DE24AA4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294F53A-98F3-409C-A381-52C8460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8E5633-14D2-4E65-B603-E128235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E0E734-7550-4DA6-ADD6-F32A77AB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58576F8-30CA-46D1-83E4-99A53D04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82CB-B522-4EA6-AE90-C3603B4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DA1C-DBFC-46C6-B6E0-15D9F41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D16F-3F24-40A1-8935-F171C05E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69E7-96C9-4F7D-93B8-5795F5F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5A96-D7D1-430B-B1A1-3816FA4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F49-CDEF-4EA2-A202-EB8E087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B403-B0E1-4A55-ABEF-E196576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1DA3-135D-46CB-AB5D-7BA0C3F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C306-3FAD-4442-9BD9-7E0E8C0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529F6-6FA5-4220-BE69-88F6C6BC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F860-64FC-4CC2-877A-68BA7B2F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53A4-D656-47D6-8A24-BC4F9CA6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64658-597B-4C55-87F9-B8CD9D77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E904D-656D-4E03-A4E7-27B9554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6AB10-7713-4474-B3E9-E2458DAE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4D444-936F-4087-A7FC-C813759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E25-6070-4BC4-A2EF-3F9E00C2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5B70-AC1A-4608-A034-5627163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007C-D6BF-4CDB-A45F-1EAC1A4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18C28-A7D9-4656-848D-5183CC07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674D-184E-41EC-9735-F7CC9CB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10EC-EFEC-4A15-928B-ADD31248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A9415-57DB-4B1F-AB6B-3C3092FB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8A826-0628-41CB-82EA-AA28688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9484C-8D43-4624-8AB7-32A4E16F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AC0AA-B93B-43F3-AD6B-D9A66BA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314FB-F41A-4473-AE3F-DAC2C6E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A3E-68B1-42FC-BC10-214F23D10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41D-3E58-4957-869C-2EFC00111F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ECFB-897E-4242-ACE2-08A508575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60D1-998C-482D-A86B-3C5201712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C5F-DA2F-46EF-BF7B-C5770D38A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587-09F7-46B9-BB95-F576AD9F8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05A-ACE6-470C-9E3C-113DC130B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081-6301-4A51-9C96-47C528BBA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78C-99BE-4B3B-BA4B-54534A2B0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6" descr="sewing11a.jpg"/>
          <p:cNvPicPr/>
          <p:nvPr/>
        </p:nvPicPr>
        <p:blipFill>
          <a:blip r:embed="rId3"/>
          <a:stretch/>
        </p:blipFill>
        <p:spPr>
          <a:xfrm>
            <a:off x="2142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8" name="Рисунок 7" descr="sewing11a.jpg"/>
          <p:cNvPicPr/>
          <p:nvPr/>
        </p:nvPicPr>
        <p:blipFill>
          <a:blip r:embed="rId4"/>
          <a:stretch/>
        </p:blipFill>
        <p:spPr>
          <a:xfrm>
            <a:off x="21420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9" name="Рисунок 8" descr="sewing11a.jpg"/>
          <p:cNvPicPr/>
          <p:nvPr/>
        </p:nvPicPr>
        <p:blipFill>
          <a:blip r:embed="rId5"/>
          <a:stretch/>
        </p:blipFill>
        <p:spPr>
          <a:xfrm>
            <a:off x="214200" y="1143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9" descr="sewing11a.jpg"/>
          <p:cNvPicPr/>
          <p:nvPr/>
        </p:nvPicPr>
        <p:blipFill>
          <a:blip r:embed="rId6"/>
          <a:stretch/>
        </p:blipFill>
        <p:spPr>
          <a:xfrm>
            <a:off x="2142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10" descr="sewing11a.jpg"/>
          <p:cNvPicPr/>
          <p:nvPr/>
        </p:nvPicPr>
        <p:blipFill>
          <a:blip r:embed="rId7"/>
          <a:stretch/>
        </p:blipFill>
        <p:spPr>
          <a:xfrm>
            <a:off x="2142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2" name="Рисунок 11" descr="sewing11a.jpg"/>
          <p:cNvPicPr/>
          <p:nvPr/>
        </p:nvPicPr>
        <p:blipFill>
          <a:blip r:embed="rId8"/>
          <a:stretch/>
        </p:blipFill>
        <p:spPr>
          <a:xfrm>
            <a:off x="214200" y="3429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03" name="Прямая соединительная линия 12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9805-3180-4CFB-B952-313FDE514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38BA-66D8-45EC-8320-DA105DA37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6D2-9F54-416E-BB52-1403B3BE5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D22-9CC7-4B30-8B8A-66AC0725A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321-319C-45D2-95F3-8DCD0797D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172-C1E6-4E57-8231-38EDFC0EB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BB4-DB2C-44EF-82D3-E81FF2263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597-8171-4ADC-9744-718B3ABD9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12AD-EF85-477A-B43B-8C72CCFD5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E9E-F46D-4108-955C-5B0AE7B5B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4E9-9A46-42E6-B343-67CDFF301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5E4-127B-43E0-AEB7-567E1C235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E0C9-EF2F-43C8-BAA6-F1CB8E4E4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F82-0449-4D2F-A251-C004FEDE8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865F-3508-4349-8FD6-7C1DCD25F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F23-CD85-4CA6-9B8D-E03FA81EE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912-955F-4A06-9264-B29B6F036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999-BB08-4F3C-AAF3-703A0A9E5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CB2-18F2-4920-941F-CE87ADE67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9DEC-533E-48C3-A314-F72F6D055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BDA3-F6C1-4193-8B15-38E2F3A10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6B1-AAB1-4C3D-936E-61D411002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090-DC0D-4DE8-935D-1B2F6C865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045-38B0-42A7-B1D3-548B707A0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C99-B0CF-43D5-851B-5A0DF56B2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F77-9256-4DAC-BA82-4C8D07EEA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9410-23D5-44AA-8656-1C6E2DC68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31FA-C15C-45A4-9F2A-D970D6707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00D-90AF-4409-92AA-A2F2C3F03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1077-79EC-4B09-B2E9-030940899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5221-CE79-41B9-A7D3-4E10ED24A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5BC-18E2-4347-B419-4B6EA3FB0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B0B7-9BAD-414B-A182-4A0CBD0FC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6C2-51EF-41D9-898B-172AF5B07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D7BD-A6AC-4BF3-8439-B01A6D19A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8262-1A26-471D-8579-D5B7345A4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5753-8FB0-45E7-8DA0-FF3D99AF4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A83-FA9B-473F-895E-F6FC02177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445-2B75-4C54-8CB7-756F49207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1FE2-2631-4D92-B269-63D003D32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7E9-A4E3-4DC8-AFFB-A71CA82BC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9D61-B250-4F71-8919-F5CCE48BF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45E-6CB5-4013-9A44-81F4D1D07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773-7D65-4FFB-89C3-7E207A280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FAF4-85AE-4964-9F92-7BA1893C7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5B5-E72A-4DBC-A825-E0CC53C87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2BE5-7B77-4952-A1FC-52E92D10A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22E4-BCC5-4FCE-A662-1B9833C25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5AD6-B6DD-433D-9C52-3999EFD0C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CF8-0E00-47E8-A845-2E4934E61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FEB-C93A-48CB-AF58-AB2203326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0F0-A3B7-45D6-9104-0C260D91E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371600" y="-1429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1547280" y="3860280"/>
            <a:ext cx="741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еская разработка раздела программы специальной (коррекционной) общеобразовательной шко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редакцией В.В.Воронковой, изд. «Владос», 2001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това Любовь Алекс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швейного д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Text Box 6"/>
          <p:cNvSpPr/>
          <p:nvPr/>
        </p:nvSpPr>
        <p:spPr>
          <a:xfrm>
            <a:off x="1476360" y="1484280"/>
            <a:ext cx="72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готовление плечевых изделий на уроках швейного дела в Специальной коррекцион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ий учебно-тематический план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готовления плечевых издел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1499760" y="1412640"/>
            <a:ext cx="7643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орочка с круглым вырезом  (35 ч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1" name=""/>
          <p:cNvGraphicFramePr/>
          <p:nvPr/>
        </p:nvGraphicFramePr>
        <p:xfrm>
          <a:off x="1285920" y="2357280"/>
          <a:ext cx="7416720" cy="2737080"/>
        </p:xfrm>
        <a:graphic>
          <a:graphicData uri="http://schemas.openxmlformats.org/drawingml/2006/table">
            <a:tbl>
              <a:tblPr/>
              <a:tblGrid>
                <a:gridCol w="576360"/>
                <a:gridCol w="5832360"/>
                <a:gridCol w="10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и последовательность снятия мерок. Обозначение ме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чертежа изделия в масштабе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 в натуральную велич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крой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 по пошиву сор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488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рочка без плечевого шва с фигурным вырезом горловины, обработанным подкройной обтачкой (30 ч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3" name=""/>
          <p:cNvGraphicFramePr/>
          <p:nvPr/>
        </p:nvGraphicFramePr>
        <p:xfrm>
          <a:off x="1547640" y="2205000"/>
          <a:ext cx="7417080" cy="3533760"/>
        </p:xfrm>
        <a:graphic>
          <a:graphicData uri="http://schemas.openxmlformats.org/drawingml/2006/table">
            <a:tbl>
              <a:tblPr/>
              <a:tblGrid>
                <a:gridCol w="576360"/>
                <a:gridCol w="5904000"/>
                <a:gridCol w="93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мерок. Построение черте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выкройки в натуральную велич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раскладки выкройки на ткани. Производственный способ раскро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выкройки подкройной обтач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сор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1571760" y="214200"/>
            <a:ext cx="757224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узка без воротника и рукавов или с короткими цельнокроеными рукавам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32 час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Text Box 7"/>
          <p:cNvSpPr/>
          <p:nvPr/>
        </p:nvSpPr>
        <p:spPr>
          <a:xfrm>
            <a:off x="1500120" y="19288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нокроеное платье (37 ча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1476360" y="2643120"/>
          <a:ext cx="7416720" cy="2933640"/>
        </p:xfrm>
        <a:graphic>
          <a:graphicData uri="http://schemas.openxmlformats.org/drawingml/2006/table">
            <a:tbl>
              <a:tblPr/>
              <a:tblGrid>
                <a:gridCol w="684360"/>
                <a:gridCol w="5248080"/>
                <a:gridCol w="148428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выт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выреза горло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обработки нижнего среза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цельнокроеного пла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пла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Блузка с застежкой доверху (42 ча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1692000" y="566064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готовление халата (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9" name=""/>
          <p:cNvGraphicFramePr/>
          <p:nvPr/>
        </p:nvGraphicFramePr>
        <p:xfrm>
          <a:off x="2000160" y="1428840"/>
          <a:ext cx="6357960" cy="3373200"/>
        </p:xfrm>
        <a:graphic>
          <a:graphicData uri="http://schemas.openxmlformats.org/drawingml/2006/table">
            <a:tbl>
              <a:tblPr/>
              <a:tblGrid>
                <a:gridCol w="736560"/>
                <a:gridCol w="4332240"/>
                <a:gridCol w="1289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воротника, соединение с вырезом  горло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укавов и их обработка. Соединение рукавов с пройм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, подб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засте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бл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глядно-методическое сопровождение раздела «Изготовление плечевых издел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476360" y="177300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ы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Т.К. (предметно-технологическая кар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онные к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и с индивидуальными заданиями (по уровням развит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е сх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с правилами и инструктаж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ссворды, ребу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адки, пословицы, поговорки о тру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рофессиональных терми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зготовление плечевых издел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774072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Rectangle 11"/>
          <p:cNvSpPr/>
          <p:nvPr/>
        </p:nvSpPr>
        <p:spPr>
          <a:xfrm>
            <a:off x="1908000" y="1268280"/>
            <a:ext cx="6624720" cy="576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изготовления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13"/>
          <p:cNvSpPr/>
          <p:nvPr/>
        </p:nvSpPr>
        <p:spPr>
          <a:xfrm>
            <a:off x="1476360" y="2349360"/>
            <a:ext cx="129528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с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16"/>
          <p:cNvSpPr/>
          <p:nvPr/>
        </p:nvSpPr>
        <p:spPr>
          <a:xfrm>
            <a:off x="1547640" y="3860640"/>
            <a:ext cx="1224000" cy="11527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18"/>
          <p:cNvSpPr/>
          <p:nvPr/>
        </p:nvSpPr>
        <p:spPr>
          <a:xfrm>
            <a:off x="1547640" y="5300640"/>
            <a:ext cx="1295640" cy="1008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22"/>
          <p:cNvSpPr/>
          <p:nvPr/>
        </p:nvSpPr>
        <p:spPr>
          <a:xfrm>
            <a:off x="2987640" y="2997360"/>
            <a:ext cx="1297080" cy="936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нят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Rectangle 24"/>
          <p:cNvSpPr/>
          <p:nvPr/>
        </p:nvSpPr>
        <p:spPr>
          <a:xfrm>
            <a:off x="2843280" y="4292640"/>
            <a:ext cx="1439640" cy="7207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Rectangle 26"/>
          <p:cNvSpPr/>
          <p:nvPr/>
        </p:nvSpPr>
        <p:spPr>
          <a:xfrm>
            <a:off x="2916360" y="5300640"/>
            <a:ext cx="1439640" cy="12970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н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28"/>
          <p:cNvSpPr/>
          <p:nvPr/>
        </p:nvSpPr>
        <p:spPr>
          <a:xfrm>
            <a:off x="4427640" y="2637000"/>
            <a:ext cx="1296720" cy="11509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ртеж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Line 29"/>
          <p:cNvSpPr/>
          <p:nvPr/>
        </p:nvSpPr>
        <p:spPr>
          <a:xfrm>
            <a:off x="2124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30"/>
          <p:cNvSpPr/>
          <p:nvPr/>
        </p:nvSpPr>
        <p:spPr>
          <a:xfrm>
            <a:off x="4427640" y="4292640"/>
            <a:ext cx="136836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крой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32"/>
          <p:cNvSpPr/>
          <p:nvPr/>
        </p:nvSpPr>
        <p:spPr>
          <a:xfrm>
            <a:off x="5940360" y="3429000"/>
            <a:ext cx="1297080" cy="12952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у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33"/>
          <p:cNvSpPr/>
          <p:nvPr/>
        </p:nvSpPr>
        <p:spPr>
          <a:xfrm>
            <a:off x="7451640" y="2349360"/>
            <a:ext cx="1297080" cy="9352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ш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34"/>
          <p:cNvSpPr/>
          <p:nvPr/>
        </p:nvSpPr>
        <p:spPr>
          <a:xfrm>
            <a:off x="6012000" y="5013360"/>
            <a:ext cx="1296720" cy="1440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ка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екат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35"/>
          <p:cNvSpPr/>
          <p:nvPr/>
        </p:nvSpPr>
        <p:spPr>
          <a:xfrm>
            <a:off x="7451640" y="3573360"/>
            <a:ext cx="1476360" cy="1368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бра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36"/>
          <p:cNvSpPr/>
          <p:nvPr/>
        </p:nvSpPr>
        <p:spPr>
          <a:xfrm>
            <a:off x="7451640" y="5229360"/>
            <a:ext cx="147636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.Т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37"/>
          <p:cNvSpPr/>
          <p:nvPr/>
        </p:nvSpPr>
        <p:spPr>
          <a:xfrm flipH="1">
            <a:off x="2195280" y="1844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Line 39"/>
          <p:cNvSpPr/>
          <p:nvPr/>
        </p:nvSpPr>
        <p:spPr>
          <a:xfrm flipH="1">
            <a:off x="2700360" y="1844640"/>
            <a:ext cx="503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40"/>
          <p:cNvSpPr/>
          <p:nvPr/>
        </p:nvSpPr>
        <p:spPr>
          <a:xfrm>
            <a:off x="363528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Line 41"/>
          <p:cNvSpPr/>
          <p:nvPr/>
        </p:nvSpPr>
        <p:spPr>
          <a:xfrm>
            <a:off x="363528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43"/>
          <p:cNvSpPr/>
          <p:nvPr/>
        </p:nvSpPr>
        <p:spPr>
          <a:xfrm>
            <a:off x="36352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Line 44"/>
          <p:cNvSpPr/>
          <p:nvPr/>
        </p:nvSpPr>
        <p:spPr>
          <a:xfrm>
            <a:off x="5003640" y="184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Line 45"/>
          <p:cNvSpPr/>
          <p:nvPr/>
        </p:nvSpPr>
        <p:spPr>
          <a:xfrm>
            <a:off x="500364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Line 46"/>
          <p:cNvSpPr/>
          <p:nvPr/>
        </p:nvSpPr>
        <p:spPr>
          <a:xfrm>
            <a:off x="6084720" y="1844640"/>
            <a:ext cx="574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47"/>
          <p:cNvSpPr/>
          <p:nvPr/>
        </p:nvSpPr>
        <p:spPr>
          <a:xfrm>
            <a:off x="665964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48"/>
          <p:cNvSpPr/>
          <p:nvPr/>
        </p:nvSpPr>
        <p:spPr>
          <a:xfrm>
            <a:off x="6804000" y="1844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50"/>
          <p:cNvSpPr/>
          <p:nvPr/>
        </p:nvSpPr>
        <p:spPr>
          <a:xfrm>
            <a:off x="810108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Line 51"/>
          <p:cNvSpPr/>
          <p:nvPr/>
        </p:nvSpPr>
        <p:spPr>
          <a:xfrm>
            <a:off x="81010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5"/>
          <p:cNvSpPr/>
          <p:nvPr/>
        </p:nvSpPr>
        <p:spPr>
          <a:xfrm>
            <a:off x="2627280" y="260280"/>
            <a:ext cx="5184720" cy="72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769dcc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шинные ш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Line 6"/>
          <p:cNvSpPr/>
          <p:nvPr/>
        </p:nvSpPr>
        <p:spPr>
          <a:xfrm flipH="1">
            <a:off x="2340000" y="98100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Line 7"/>
          <p:cNvSpPr/>
          <p:nvPr/>
        </p:nvSpPr>
        <p:spPr>
          <a:xfrm>
            <a:off x="6012000" y="98100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8"/>
          <p:cNvSpPr/>
          <p:nvPr/>
        </p:nvSpPr>
        <p:spPr>
          <a:xfrm>
            <a:off x="1476360" y="1341360"/>
            <a:ext cx="3311640" cy="792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един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9"/>
          <p:cNvSpPr/>
          <p:nvPr/>
        </p:nvSpPr>
        <p:spPr>
          <a:xfrm>
            <a:off x="5364000" y="1341360"/>
            <a:ext cx="3600720" cy="792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11"/>
          <p:cNvSpPr/>
          <p:nvPr/>
        </p:nvSpPr>
        <p:spPr>
          <a:xfrm>
            <a:off x="1476360" y="2492280"/>
            <a:ext cx="1511280" cy="11527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12"/>
          <p:cNvSpPr/>
          <p:nvPr/>
        </p:nvSpPr>
        <p:spPr>
          <a:xfrm>
            <a:off x="3276720" y="2492280"/>
            <a:ext cx="1655640" cy="1150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ла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13"/>
          <p:cNvSpPr/>
          <p:nvPr/>
        </p:nvSpPr>
        <p:spPr>
          <a:xfrm>
            <a:off x="2195640" y="3789360"/>
            <a:ext cx="1944720" cy="1079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ь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4"/>
          <p:cNvSpPr/>
          <p:nvPr/>
        </p:nvSpPr>
        <p:spPr>
          <a:xfrm>
            <a:off x="5148360" y="2565360"/>
            <a:ext cx="1871640" cy="151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одгиб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открыт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5"/>
          <p:cNvSpPr/>
          <p:nvPr/>
        </p:nvSpPr>
        <p:spPr>
          <a:xfrm>
            <a:off x="7164360" y="2565360"/>
            <a:ext cx="1800360" cy="151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одгиб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крыт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16"/>
          <p:cNvSpPr/>
          <p:nvPr/>
        </p:nvSpPr>
        <p:spPr>
          <a:xfrm>
            <a:off x="6300720" y="4292640"/>
            <a:ext cx="1800360" cy="100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а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17"/>
          <p:cNvSpPr/>
          <p:nvPr/>
        </p:nvSpPr>
        <p:spPr>
          <a:xfrm>
            <a:off x="1476360" y="5300640"/>
            <a:ext cx="1440000" cy="1224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й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18"/>
          <p:cNvSpPr/>
          <p:nvPr/>
        </p:nvSpPr>
        <p:spPr>
          <a:xfrm>
            <a:off x="3276720" y="5300640"/>
            <a:ext cx="1511280" cy="1224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ш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9"/>
          <p:cNvSpPr/>
          <p:nvPr/>
        </p:nvSpPr>
        <p:spPr>
          <a:xfrm>
            <a:off x="226836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0"/>
          <p:cNvSpPr/>
          <p:nvPr/>
        </p:nvSpPr>
        <p:spPr>
          <a:xfrm>
            <a:off x="406728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21"/>
          <p:cNvSpPr/>
          <p:nvPr/>
        </p:nvSpPr>
        <p:spPr>
          <a:xfrm>
            <a:off x="615636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22"/>
          <p:cNvSpPr/>
          <p:nvPr/>
        </p:nvSpPr>
        <p:spPr>
          <a:xfrm>
            <a:off x="7956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23"/>
          <p:cNvSpPr/>
          <p:nvPr/>
        </p:nvSpPr>
        <p:spPr>
          <a:xfrm>
            <a:off x="3132000" y="2133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24"/>
          <p:cNvSpPr/>
          <p:nvPr/>
        </p:nvSpPr>
        <p:spPr>
          <a:xfrm>
            <a:off x="7093080" y="2133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Line 25"/>
          <p:cNvSpPr/>
          <p:nvPr/>
        </p:nvSpPr>
        <p:spPr>
          <a:xfrm flipH="1">
            <a:off x="2339640" y="4869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6"/>
          <p:cNvSpPr/>
          <p:nvPr/>
        </p:nvSpPr>
        <p:spPr>
          <a:xfrm>
            <a:off x="3419640" y="486900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6840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596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евская В.Я. «Понимание учебного материала учащимися вспомогательной школы», М. 1960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ронкова В.В. «Воспитание и обучение детей во вспомогательной школе». Под ред. Школа-пресс, М., 1994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готский Л.С. «Проблемы дефектологии». М., Просвещение, 199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нчарова Е.А., Кукушкина О.И. «Реабилитация средствами образования: особые образовательные потребности детей с выраженными нарушениями в развитии». Сборник научных трудов и проектных материалов ИПН РАО «Подходы к реабилитаци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Дульнев Г.М. «Вопросы трудового обучения во вспомогательной школе». М. 196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ети с отклонениями в развитии», М., Аквариум, 1997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ылов А.М. «Учет индивидуальных особенностей учащихся в организации инструктажа на уроках трудового обучения во вспомогательной школе». Ж. Дефектология №5, 1993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ский С.Л. «Индивидуальный подход к учащимся вспомогательной школы в трудовом обучении». М., педагогика, 1990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ский С.Л. «Коррекционная направленность трудового обучения во вспомогательных школах». Ж. Дефектология, 1986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727236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детей с ограниченными возможностями здоровья  познавательные интересы развиты в меньшей степени, чем в норме, поэтому только применение специальных приемов и методов обучения и воспитания позволяет в существенной мере преодолеть недостатки психического развития. Большую  роль в коррекции познавательных интересов играет труд, он побуждает инициативу, заставляет работать мозг, побуждает внимание и желание, и регулирует проявление воли. Таким образом он является  важным орудием для развития интеллекта и для прочного усвоения различных зна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.Я. Рубинштейн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по швейному делу составлена с учетом возрастных и психофизических особенностей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Text Box 5"/>
          <p:cNvSpPr/>
          <p:nvPr/>
        </p:nvSpPr>
        <p:spPr>
          <a:xfrm>
            <a:off x="2124000" y="189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6"/>
          <p:cNvSpPr/>
          <p:nvPr/>
        </p:nvSpPr>
        <p:spPr>
          <a:xfrm>
            <a:off x="1547640" y="1916280"/>
            <a:ext cx="69138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рограммы расположен по принципу у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е изучение тем обеспечивает возможность формировать и совершенствовать у детей с интеллектуальной недостаточностью необходимые им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ем по учебни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6 класс». М., Просвещение, 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7 класс». М., Просвещение,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8 класс». М., Просвещение, 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75247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стве возрастает потребность в людях с высоким уровнем профессиональной грамотности, владеющих определенными трудовыми навыкам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 программы изготовления плечевых изделий готовит детей с ограниченными возможностями здоровья к самостоятельной трудовой жизни и адаптации их в обществе, благотворно сказывается на становлении личности, готовит к работе на предприят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Text Box 5"/>
          <p:cNvSpPr/>
          <p:nvPr/>
        </p:nvSpPr>
        <p:spPr>
          <a:xfrm>
            <a:off x="2268360" y="620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нципы отбора содержания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414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ное изучение индивидуальных особенностей ребенка и выявление его возможностей в трудовом обу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эффективности и подбор адекватных состоянию ребенка педагогически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ое восполнение недостатков усвоения учеб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, развивает креативность, воспитывает умение работать в коллективе, брать ответственность за свой вы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7" name="Group 17"/>
          <p:cNvGrpSpPr/>
          <p:nvPr/>
        </p:nvGrpSpPr>
        <p:grpSpPr>
          <a:xfrm>
            <a:off x="1476360" y="2276640"/>
            <a:ext cx="3527280" cy="3058560"/>
            <a:chOff x="1476360" y="2276640"/>
            <a:chExt cx="3527280" cy="3058560"/>
          </a:xfrm>
        </p:grpSpPr>
        <p:sp>
          <p:nvSpPr>
            <p:cNvPr id="2558" name="AutoShape 18"/>
            <p:cNvSpPr/>
            <p:nvPr/>
          </p:nvSpPr>
          <p:spPr>
            <a:xfrm>
              <a:off x="1476360" y="2276640"/>
              <a:ext cx="3527280" cy="30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9"/>
            <p:cNvSpPr/>
            <p:nvPr/>
          </p:nvSpPr>
          <p:spPr>
            <a:xfrm>
              <a:off x="1476360" y="2276640"/>
              <a:ext cx="542520" cy="292392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20"/>
            <p:cNvSpPr/>
            <p:nvPr/>
          </p:nvSpPr>
          <p:spPr>
            <a:xfrm>
              <a:off x="2833200" y="3180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21"/>
            <p:cNvSpPr/>
            <p:nvPr/>
          </p:nvSpPr>
          <p:spPr>
            <a:xfrm flipH="1">
              <a:off x="2425320" y="2620800"/>
              <a:ext cx="2442240" cy="36504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22"/>
            <p:cNvSpPr/>
            <p:nvPr/>
          </p:nvSpPr>
          <p:spPr>
            <a:xfrm>
              <a:off x="2425320" y="3299400"/>
              <a:ext cx="2442240" cy="40932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разноуровнев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23"/>
            <p:cNvSpPr/>
            <p:nvPr/>
          </p:nvSpPr>
          <p:spPr>
            <a:xfrm>
              <a:off x="2425320" y="3978360"/>
              <a:ext cx="2442240" cy="40716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проблем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24"/>
            <p:cNvSpPr/>
            <p:nvPr/>
          </p:nvSpPr>
          <p:spPr>
            <a:xfrm>
              <a:off x="2425320" y="4656960"/>
              <a:ext cx="2442240" cy="4089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метод проек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Line 25"/>
            <p:cNvSpPr/>
            <p:nvPr/>
          </p:nvSpPr>
          <p:spPr>
            <a:xfrm>
              <a:off x="2018880" y="275544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Line 26"/>
            <p:cNvSpPr/>
            <p:nvPr/>
          </p:nvSpPr>
          <p:spPr>
            <a:xfrm flipV="1">
              <a:off x="2018880" y="343584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27"/>
            <p:cNvSpPr/>
            <p:nvPr/>
          </p:nvSpPr>
          <p:spPr>
            <a:xfrm flipV="1">
              <a:off x="2018880" y="411444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28"/>
            <p:cNvSpPr/>
            <p:nvPr/>
          </p:nvSpPr>
          <p:spPr>
            <a:xfrm>
              <a:off x="2018880" y="479304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200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творческих способностей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1547640" y="1699920"/>
            <a:ext cx="727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ть динамическую структуру личности    обучающегося с целью осуществления коррекционного воздействия на её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познавательные интересы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трудовые навыки и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ить обучающихся к самостоятельной трудовой деятельности и умению контролировать качество рабо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Text Box 7"/>
          <p:cNvSpPr/>
          <p:nvPr/>
        </p:nvSpPr>
        <p:spPr>
          <a:xfrm>
            <a:off x="539640" y="2602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851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1547280" y="981000"/>
            <a:ext cx="7201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требованиям программы обучающий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4" name=""/>
          <p:cNvGraphicFramePr/>
          <p:nvPr/>
        </p:nvGraphicFramePr>
        <p:xfrm>
          <a:off x="1547640" y="1484280"/>
          <a:ext cx="7296480" cy="4865760"/>
        </p:xfrm>
        <a:graphic>
          <a:graphicData uri="http://schemas.openxmlformats.org/drawingml/2006/table">
            <a:tbl>
              <a:tblPr/>
              <a:tblGrid>
                <a:gridCol w="1079640"/>
                <a:gridCol w="2984400"/>
                <a:gridCol w="32324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ум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ю пошива нижнего женского белья (ночная сороч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изготовление изделия по схеме, выполнять машинные ш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остроения чертежа и изготовления обта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мать мерки, знать основные линии фигур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 моделирования горловины, вытачек, свойства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ть на специальных швейных машинах (оверлок, петель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ю пошива женской и детской легкой одеж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процессс пошива, анализировать свои действия и их результа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хнология и формы организации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547280" y="1341360"/>
            <a:ext cx="741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экскурсия («на швейную фабрику», в магазин «ткани», в атель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соревн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моде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е работы, участие в выставках прикладного искусства в Центре Художественны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выставке-ярмарке «Нижегородский край – земля Серафима Саровског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акции «Пасхальные дни милосерд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руктура содержания тематических модулей образовательной програм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с швейного дела состои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ткан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йная м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онт одеж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вое законодательство (9 клас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построению чертежей изделия и их поши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атывается автоматизация навыков работы на швей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-8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тся технологии пошива легкой одежды, свойства ткане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швейных ма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аивают изготовление изделий состоящие из множ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х операций, планирование и анализирование сво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тынова Елена Александровна</dc:creator>
  <dc:description/>
  <dc:language>en-US</dc:language>
  <cp:lastModifiedBy>user</cp:lastModifiedBy>
  <dcterms:modified xsi:type="dcterms:W3CDTF">2019-12-05T17:19:30Z</dcterms:modified>
  <cp:revision>283</cp:revision>
  <dc:subject>Конструирование и моделирование одежды</dc:subject>
  <dc:title>Виды одежды</dc:title>
</cp:coreProperties>
</file>