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1E89-90AA-483C-8C1B-18901EAF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FEE3-A52C-4714-9A56-19ACC01B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2D300-3F97-48BB-A0F1-2A30D472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28EF3-6884-4308-8D13-8698D4BD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39C13-1BF2-4D4A-A7ED-CFE3E980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7A486-EA47-4510-83B7-3EE49373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8C7D0-4B76-4369-B471-FF95ACDF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02D36-C9B9-41E7-B58E-D3319B4E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95FA6-89AF-4C21-82EE-3D3EC791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8D0FE-34A5-4C4E-BAB4-C091FB96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5B44F-798B-438F-8C90-81537F20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A7BB5-3589-4E47-A9D4-B374B9B8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B91-C118-455D-B916-AC222FAB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60C56-0F13-4445-8BCF-DAEF4C63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2BFE9-81A3-4A23-A8B8-567BE942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3BF29-8C01-4A45-92C0-66B150EB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C6137-DD50-40D6-B8A5-E83F31C4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BAB9E-7C51-4EEC-8269-EEECB02A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5B37A-F006-403B-9A7A-64C7653C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8D8D6-BEF9-4F1B-B98A-80BD926A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408B9-A9BC-40F1-8101-553FC369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DF8C7-82F9-4A24-A091-C246B191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80DDA-065F-4CCA-81ED-7E787250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5037-49FC-4E7F-BCE3-46C4E3C8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AF4BA-72A6-49A1-AA2C-2CAC2EDD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8081D-7CFF-42CE-BEAF-87FF91A0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73890-25EC-49A0-A5F1-47CC191A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3BFE9-EB13-4E78-8EBB-07910FC8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44ED3-6E98-4AD4-B409-D2305FCB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BB5FF-5B25-4CD7-85B5-68966C58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7F535-96A1-46CA-8F55-37BD2C0B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FC12D-6D7A-4722-94F2-A0F76165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DB5E5-30EE-496A-99F8-576026AA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FACB3-9AB9-4F22-8A90-42B136CC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FFA8-7B37-4D20-8418-1EAC45A0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4EECD-E9AD-4209-BE7B-F55F6A88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DF136-68D1-4D2B-AA8C-B9FF646B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1B6B0-8EA5-4970-9661-40307905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BB4C1-2FA2-4084-86C7-CB5FCD23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1AA33-7582-4910-95DA-98D8031A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C409C-030E-4747-B4CE-8A25172C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C12F4-605D-41AA-90A7-B2B40BE5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9A0A4-8297-48DA-A154-434BFE16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12770-3A06-4C87-A6F5-F90CD10D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BA70A-3DEE-4C86-B6A7-FA68851C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3C68-9F82-48A8-A679-3DF20ABE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9F933-28B4-4BAE-AEFF-0ED9F2A5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A6244-6942-457F-ADA1-96D2259D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9D3F4-6F07-4B25-BCEF-1D0D8DB6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0FCC8-2F02-4C13-AAA0-CCD80091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B6365-C7A6-49E3-97E5-E464EB0F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8185A-DE9C-4671-8B5A-FD42BEDB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E4DA8-3AAF-46E4-99C1-84B3FA7A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F6004-37CA-4F68-A28F-2136F83D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83F36-0BA1-470F-BAA1-AD72DB05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142A42-938C-4C1C-9FDA-3C3B2607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FCFD-707B-48E7-A3C7-D747AF34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5E1CD-A596-4114-8ADA-BADEBB8E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3F6D5-F6FF-490B-BAA6-4156A8EE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0D5FF7-A3EB-451B-85C1-D84A605C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76A00-2A5B-4EC8-93ED-C253B0D3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240A6-97F9-4A65-A986-262095EB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E217A-7F6D-47D3-B40A-2761E2DE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DF212-AD51-41D9-A025-AEBD1C01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5D4A2D-4395-433C-BC54-7CFE97D2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186F0F-86BD-49F4-AC1C-0421E5F0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24064C-8967-4A64-9CC2-4E32F9CB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8DCB-C277-44ED-83F8-4523AE04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9A2A7-B7E6-4AF5-8BD9-6B544DA6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4BD7FA-6595-44EF-854B-0D3BAFB4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26D469-1E5B-4294-B1E6-E1557435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16A5FC-BD6C-48BA-AA71-2F5026F7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5151EA-6501-418B-9780-9DC043AA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BF5F61-BBF9-4CC3-AAC4-D9192164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78C8DE-F8F6-444B-8AB3-7A411182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06EDA1-527C-4DA0-98DB-0CA28B04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DC5162-3E32-45E0-8568-14B24769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D0392D-B567-4D4B-B75B-08D12E3F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36E8-51F4-40EE-8CA7-849BB3EF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C2EC84-C095-4854-BF76-38DEF45B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EA770D-91F2-45AC-91D0-932145C5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EC4085-65E8-499A-9E27-94686680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131F72-A972-4C54-814E-BA83C8D9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6F6F3B-6557-4387-B97A-44C88A0D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C97DBA-B30C-4CD6-83F3-88644871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518B15-37AE-416C-91A8-BEE8E1A3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03AAFB-A421-427C-9874-FDEE31F5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05A71E-7577-469E-8175-61069B56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DB2BF6-9836-44EF-8FFA-04CFC79F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1081-8072-4FFB-833E-03AD8470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0E1A53-EF54-49B3-A808-B9A8103E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C12086-D13A-4FEA-923D-675E12AD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E7F2B7-E241-45D9-B8C5-6C08C18C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A02A2-B328-4D32-B679-9E7C0331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97077D-2ACE-45EB-8754-338EEFA4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A8E68F-92D0-4874-AFAC-2319EA36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7C4FFC-7BE2-4416-85F9-E67FFCAD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4079AB-97DF-48B8-85D1-C5A75C91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4EF752-681C-45F4-8E5E-FFE4F058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0385F1-A303-4A77-81DB-C09146C3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9033-9F7C-4523-B0DB-79F17532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D15B24-0C81-4A8F-82E9-0FC6A936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89CDC3-99A8-4892-A824-266A676C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A8DD74-0533-4D09-AEC7-1358ADB8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AAD343-1DED-44CC-833C-FD8F42F4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033DC3-931E-43A5-8E4A-11A7953C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A15467-90A5-45EE-9C77-CC8F0DBF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5135A4-81EC-466A-951C-6DDAB903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DEB506-9EAF-4108-84BB-608E8F13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061A20-9FA6-4BDA-804F-75B53DA6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CCD52-EDB9-4C17-A0DC-BD291492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EC40-92D7-44C9-9D0E-12F9C17A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F1B9-76B9-417F-9AA2-965F46BE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66143D-FFFF-4917-99C7-4ED35F33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CEF929-B05A-4F4D-ABF7-00002B0F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7149D7-D821-4C78-9AF2-899B85B1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4F4240-3089-4BEE-9D0B-E46BCA9A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089D29-A062-4750-BBA6-354FBEA1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8582-A3DF-4241-A2D6-FC0131AB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11F01E-3BBD-4125-91DF-36EE722D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F8DAC0-CDB3-48DF-ACE5-813A0897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CC8CAD-D0CA-4292-A7A1-87DF2BAC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93E6-010D-41AB-ADDD-E5D7E6AC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283202-97CC-4B39-9B76-8BA72383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97BE1E-4028-48DE-9E9E-16507EC0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824482-77DE-458D-9E23-173B943A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56C6F5-F37E-4F33-8B08-9038FAEB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B41EC4-E99B-4831-A868-B042E516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D7F3B9-3996-4A1F-B146-6C796697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2A026E-1F9B-45A4-89EA-265A6861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CEB7C8-AC6B-4FDF-84F6-AAACE268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A41C99-BCC0-482F-B826-649A5389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37DC2A-EDD9-4748-B73F-D6E34556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6710-EE0B-49A9-B0D7-81D0B31D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95F7BD-45A4-460D-9D30-F5B8A7AA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967FEE-E6B9-4A8A-963F-626E8DA9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AB989C-3692-4BA9-A06D-126EED07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18609A-490C-439B-8393-185C12A7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426B03-4C0D-42F8-9E29-B7D5BB81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4B16F1-A52C-40FB-B54C-45A26B6B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E6EB05-1A94-47E4-896B-0CEFBFA7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21CE6F-8D1D-40F1-B05D-791E0A67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CE3FF8-FCC3-4EC2-A7BA-2A0AABB6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4519F0-45E9-4113-B0A5-DD9AE4E0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2846-2D29-4261-8129-EF96447E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FB7FB0-EE25-487F-B13C-E0C623B9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6F7618-AFD6-4E1A-910D-EDD8D0C4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D9F9A1-382B-4198-9357-634EFC3F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3A4531-72FE-4C73-B25D-7AF57808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ECD9BA-A450-4AB9-A2D2-90F38DD3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41554C-0E33-4F60-ABE8-9CBF0CB0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5FBD0B-509C-456C-BBCA-9DA2C3E6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D02B83-FD1C-42E7-A259-8948C417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9890B2-15A9-45E5-9AE3-7A649B4C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9EEAC4-7033-4BB2-833A-0FC17E43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1DA07-AA5A-4EDC-BC7D-137F959E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1D2D47-7E6B-4263-827B-5A85DD4F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058362-17B8-452B-B9F8-B9CBDC71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A73CA7-4AA4-4EDF-B0C6-5A53BF42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1E2253-4AB6-478C-8FA9-328ED907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3FBBC0-8AEC-4FFB-8361-C8ECDC21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EBE641-E6FB-41A6-88EE-5AE7CB4A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D4D0B5-44CE-4A25-BCC2-0B3824BC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203AE2-D234-4204-8749-B33863D8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E44F39-CC5C-4C37-8F37-1C38FAA9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DF310D-4A73-4CE2-927B-A5837CD2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4A5D6-2F18-4218-BD3B-A3C78F77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3761F9-1B78-4383-9F27-DB748242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80E757-B324-483D-AD4B-24621461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87A931-3449-4018-BF7C-192FA1F8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1BE149-FAA7-41DA-8A48-FEEFA4D8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9CE94B-9562-4C60-B6B0-00530F22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AE7E34-F8EA-45A6-8B8E-FE0EC8FC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EDE16A-98B7-4ACE-99C2-34DD3CCA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A17F11-568A-44E5-BA74-A4A1657E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C16691-D673-405D-9274-C6314DBA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96DF4A-387F-4153-831D-E3EA87C0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B01AB-0159-442C-98D0-BFE75FCF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FBC5A4-F7C0-4E3A-9B6A-48C77E6E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7F43ED-CC37-4922-BF0D-1934CB04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BDE3A4-338C-4881-AD0C-699A2B66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631397-DE24-4B8D-A58B-14735FA6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E8DB1E-4A47-4EDA-9669-91EE6643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A47F40-F7E9-486D-B955-357A23AF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206A78-64CB-4DBA-950D-BC53C21A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727F38-623E-46DA-84DA-45FE01CD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127D51-DC38-4D64-BE70-89830C4B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44CC26-6D27-4380-BBC5-87642094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925AE-EB4F-4C33-84D7-10FA6563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436D92-8132-4529-8003-0C0FFAE3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AACFE7-6053-4D86-AEEC-5802A5D5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07A934-A6B1-4488-92F2-F4374591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FC024A-9BFC-4D8E-A56C-7042969D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56208C-595E-4E80-BD68-BFC79154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133225-77A6-4B95-BB4A-CB1162AA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319829-2C17-436E-90E6-4E00BC5C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79D968-52ED-49A8-8BF3-39EB2D1F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41685E-586B-4FD2-A333-CE71B7CC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AAB119-9336-4E53-8098-4A73759B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F83D8-C0E9-43BC-8B31-52412FDD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EFEA08-6259-465F-AB63-ED9DA8DA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A0D346-B3EE-40D0-9B60-E3242546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A3483D-34D4-4D71-887B-3555F472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A03B7B-C6A2-47B3-BF61-485F4513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EAAB0F-DEE3-4BC0-8F66-7B3C3F20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EC15B5-39EA-4E1D-9D74-41D7BFA5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E8DF68-1675-412A-8B0D-57DA0145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BFDB9B-A20F-4424-823E-9DC87601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CD445B-0A3E-4A60-B5FC-0D6C8E08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F6C2C3-DFFF-4079-BCCA-52A371A7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CE80-4357-421F-9938-13BF39BE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A9955-4359-4217-80A3-CB5FD888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3C41AC-C929-4A71-AF01-3DB7078A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C20F01-833F-4397-94FF-12885BDD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4DAF82-B692-4B2B-8BDE-7F07FBAF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28FC2B-E975-439B-A420-29D9582B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FA9DAF-C0A7-4DE5-96DD-F43D9ACF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18AF94-F8EF-425B-A2EC-4D4526CB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AF26BB-5EE6-4FCF-8FA7-5C18B733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AD237B-2328-48E0-A57F-0E83C1EF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530231-FC0B-46FD-8801-5D1B67F7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DF5CC1-62CA-4C04-9FAC-88BAA6D0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6F1E1-E086-48F9-A20F-32CD4237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4D9D1D-BF4A-4FF7-9D9A-67CEBF0E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277EB2-25A6-40AE-A5D5-281EBB92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6A70B3-2EF5-4AEC-B2AA-9EAD999A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095DEC-6815-4930-96ED-B19EE564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5C9ED2-C28E-4C95-BF36-4BF4D055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AFAF83-8216-4057-8DA5-E404C3CF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33CF6E-3379-4AC2-9359-CD3D1A1E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172A5E-0C3D-4069-82FB-F9DC2AD6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F7E9B0-45B5-4896-9626-334A9994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77AEA5-A543-4274-A0C3-D3776A48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39B61-FCC8-44BE-9666-BEB6A5AB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BAB1CC-7570-4997-9353-95C3FFE1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8C70AA-72EE-4DAC-A918-A0102D46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540748-C956-4290-A5A7-E8A00A70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006E25-D2D5-45F1-AE0C-F640866B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A98109-5F33-4305-8817-77E7C7E0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6B4232-EDEB-41B2-B765-267EF923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DFC3E5-06F8-4D09-9B4D-E62A49D4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1B8877-8C2B-4B9E-A880-E38F2BA9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BECFD3-960F-40FA-B901-E78EC1EA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B219AA-544A-4FC5-96B7-7AF4E136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5B20D-9E63-489D-88F3-B3B953F8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A7EFAC-6554-4622-9D56-248908CA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CEF508-5AE7-4367-A187-5DB3A268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E5EDD5-54ED-4CE4-BE33-C77FEC01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7BB183-03F7-4CAB-B598-5C22F949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15E043-3813-4BE5-9C31-A0604D1B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7D731F-89FC-46B1-8499-113EC7AD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8B2DD6-7F36-4CFE-9D45-D6742267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2CCBB4-C548-4B45-97EC-C751A380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1C13F9-DD82-4C41-9A4B-B9295323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E31C86-7CFF-46B2-96A3-BE5D1A8B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0F84E-EF40-4C65-BFFD-ABC8F4C4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C56C4F-D68C-4CB3-B7DA-A69B987C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9807EF-7639-496F-A76A-8070198C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187097-35A9-4C79-A1A7-48709A44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B58CF3-306C-40E7-B55A-C88BB679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924C5A-85AE-4D40-80CF-49D1B94E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AB9D68-5930-4EF7-AA74-140FC24F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500FBF-7EDF-4283-BDC8-DC4A654A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7296CD-14CC-4093-889C-2CD78ECC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DA4C50-524A-411B-8657-F5EF7830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085CE3-97C1-4B04-BED8-34E8EEF8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98C69-4C0B-4406-8274-839828D1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564FC7-8851-4EA0-8F92-63B5A4C1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E23EE6-2AB8-4201-8F26-5DE3DB20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C6918B-0E6B-4EEF-A28C-3D934AD9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4CBC95-603F-4538-96B6-71AAD4F2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4F0432-9635-40B8-807B-576D1D04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A74D4A-C048-490C-81F0-D3E62DDD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E1F1E0-32CC-4660-8EB0-FBC0DE98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D3C10D-F9F3-461C-A078-EBAB500A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CB243D-DE69-4AD1-8D78-20EF3821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C454B4-2ABC-4983-B060-B6421935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983BF-A058-4120-81B1-B2C15C42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D32155-09C2-4CD0-82E0-1F4AD63B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1E0FA4-E8AD-4324-BACB-96A089FA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5489AE-A0A7-4C10-8DBA-91C5C084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F5D5D2-5815-49A8-835F-E9A08735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057BA7-2A9A-47A0-ABA0-DA04CB56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651BA6-0AB9-4233-A422-D8E4539C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BE0C4C-71C6-49DB-9306-BE4449A7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591210-ACC6-4D2E-B42F-D0CAF049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9C5F93-D944-4B62-B630-491A30AE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513DF2-72A2-4B33-9A7C-C77001F3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EF6EA-1513-4AF7-A885-07939F50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2777A5-E497-4ABB-B69E-98CE6E79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51C0B6-A5C6-4834-9AF1-8096E59A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DEC4BB-0476-4B5D-BCCC-4A1C9DDE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682E14-9D75-4D21-97BE-83B6AC61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188FDB-0784-4795-9997-7C39FC2C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B58BF0-BE56-45DB-8955-2AC56A6F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4B0698-5122-4071-933F-524A98B6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E85EF9-73D8-423B-A70F-736C8DB0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16F024-3284-4B16-86B2-180A39F5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C66635-865E-4403-A195-4E9EE344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8036F-C7AE-4431-875F-481FDD1D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648FE3-B4F5-498B-9145-16460D6A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773D8A-5B70-4C59-93E2-9DF08D55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9792C4-70CE-4C73-AE33-8E8DCA5B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94C41F-73B2-407D-B15F-63ADB8A2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2D0D71-F77A-455E-921C-F1C5EDCC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ADC55E6-582C-49B7-8D84-3007935D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7856C8-4F7A-4DC9-8FA9-A86A4179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E80BDA-D2DA-4286-A849-CAA06816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CEED28-D3A7-4ADC-84C8-2C927B9E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17A56F-2D77-450C-A250-5655BAF3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EA58B-8E34-4A63-8374-C508BAD7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A91B5D6-AB01-4732-B893-3F8825DC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B24E37E-CD28-4494-847C-D691F580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D36502-A4A9-4628-A20B-D41A6602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EA6C64-9FDD-4CC1-A383-6E13AAAB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6C855A-7550-4F6D-9E4E-94A1C3D5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E33EA9-3891-4DC1-A1E8-B19FA49D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519A7F7-DCC3-4D60-9895-DDDA9899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3E032F-9931-4543-8871-E66485C6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C3548C-930D-4275-884A-E246ADF8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CE8F15C-79E2-4D36-96CD-8320FA27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4D23-15BA-432D-9135-B992E41D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01116-E04E-4DF6-96E5-EC66206B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69A9F0A-6EDF-44CC-8043-CC05FFEA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5A308F8-080C-4901-A8F8-9B81966C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B3534D-B126-49B9-AB07-C2EF9985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C046620-9D93-4F7D-B73A-FB6704D5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047588E-228C-4474-875F-3AA733E0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EAF92E-7C4A-4135-8894-05638222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67CE5C-295C-496D-B061-0A4090FD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678B432-39FF-4685-83E8-528B9CE4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A6F60D-C5DE-4D0C-BE57-84D77675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3AF6CC8-BA43-435C-BA50-54A7F887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3EC48-7DE0-42A6-BF9F-76DC8E41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70466F-E1B1-41BE-92DB-A0D35FA4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36FE193-762E-48D3-8F41-08253D79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DAC3EC-D77E-4187-AF2E-AD8B469F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A2C945-0B34-4E99-AFD3-3E90C498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E48231-1691-467D-9E3F-2B911F1D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49BC4F-5BE5-4B9A-846D-1D98F3C6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732D9E6-320F-4B24-A36B-F0395C0D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E56D637-44CB-4745-920B-64454C4F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1696D1-620B-43A7-ABFB-824377F3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5E20BC5-9F29-4684-B5C4-B9E076C6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85BBB-D42F-4C27-92A3-25EF3BA4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0C6FC5-7F1C-4B9D-9609-8CF987BD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5C8842-5B79-42E4-A007-1016B8F1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3FD2C93-3298-4B42-9E8D-3D62DA54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8F69E3C-A761-40FB-8BCE-83C97B21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7DA2B5-E09C-46B7-B500-6339DFD9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02C36D-5466-41FB-8990-3E7127F1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520C83-43B7-4A80-BA9D-B1EF82B4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ED8667-7232-461B-B48E-97EF277D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8D8E9F6-47D4-4386-A27C-9DD3E80A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D140446-F2A3-4EE3-911F-5CC54B96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B6375-3874-4272-8001-6FDAD72F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5BD664D-5D30-4E69-8D84-90EE9236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445D20B-8A1F-4BEF-8E27-D5706F81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3A6041-0C31-4C90-BDB3-E070FA08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56CD650-4B5E-49B7-96D4-38042E50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1480630-C03D-4E7F-94DE-E718E416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E1F459-91A6-49CB-8B30-6C02838A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D6ED9F-9912-429B-B93B-6A989835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167D55-2E2C-4BC5-BB7F-1A8D626C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B6951EB-E368-47C5-92B5-4472B78F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0796665-DC40-460D-AC5C-B5147F8D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DAA40-B2CE-46C8-A0FA-9A6C9B8F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D4989A6-B43F-4E52-9B93-8448AFC3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D500ACA-DE6C-4BDA-9641-9274B5F0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20B047E-87A7-4118-8F84-A7FDF5BF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87C6DA-8FD6-4110-9660-780454D6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2D0E7A-A9D7-48A5-86AD-877FB0B5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8774651-1D87-4710-97AB-B83A2EE5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CF49FFE-1154-43A8-8DDD-A7A9C2CF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4C61230-70C4-442B-A76A-2A8DD44A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C254880-EB57-4D44-8E49-7D1BA500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F3375EB-2AAA-4964-AD1A-66A92B71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4D9B3-98AD-4ECB-B2E2-E6834011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996C313-D006-45F2-9359-C920D5EB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EAD293-C176-471F-94BA-ACCE68A6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781EC60-90BA-41EA-9836-EAEB8257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596E3A7-DE0B-44A1-8EFF-BC956A1B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19F289A-EE31-431E-8F3A-7E4E26D0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80D5A3E-FA90-4B56-AA20-F9588241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03F6F55-05FF-4DF9-AB2B-230B55A3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6D1FDD1-1D03-4861-AF78-82B8AE9D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6D11160-1C72-4522-ADD6-42865924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FE45A7A-4D12-46C7-8478-A20B54F4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5A6AF-3AAD-4327-A50B-0789D4ED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CF3B8FD-6E3B-4F4B-8B26-F1CFD9F8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27B4EA0-E0A8-4C80-B4D2-91F8BA81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70F23A5-3D7D-4D6B-A44C-F3CD90BE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D59EB03-BE1C-4A67-B9E2-7BBB4D73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1895C59-2AE3-4B0E-9B40-90780586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7FF5035-345D-4A64-909F-97F9BAB2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BF852C0-2A23-42C3-928B-4EA9AA1D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E29EA53-C69F-4CF8-8717-CF26D036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B2B1309-678C-4271-B1C4-01EC741D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2986552-8955-45DD-A548-0B1D1AE2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72246-CC9C-492F-A001-9369BCB9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EF625AA-9659-407F-8A38-03F1C8CA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D7A65F1-AF21-45B2-A678-E7055440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4128A1D-B1C8-4643-A844-35677815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93905EB-3094-4C39-B013-D781A494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EDF2B00-B87B-47F4-AEC4-5EC2E3FB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6EAAFB0-4531-4784-8391-D8120E17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9E162AE-4033-4315-9B22-6E983D37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A12B53A-1630-4F2E-995B-E820CC30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FA3AB3B-F975-4744-9D31-970B0E22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0E7A3A2-12B0-41CF-A4F8-5EC559D9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1306E-387D-4075-A60C-1FED8952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9B2C567-5373-4FC8-9209-BAA3C153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2F4166F-D600-4C4C-863A-7AA7322D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E398D74-837E-487F-A79A-C2FA57C6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01D40C4-61AD-47F2-9343-41DA97BB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3C33B35-22CB-487A-9A55-B7C83762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F58CF57-C37E-4F90-B5AB-CAC6D330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718ED43-F633-4EF9-B27A-44E9F7C6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2F2C5C4-806C-4CE3-AEE3-8F3E14B5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CE761F2-40CD-4F2A-B82E-30F0E7DF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2B8AA39-926B-4A62-A235-D0EA0B3B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4EBE4-EB35-441E-A7D0-AEE97648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CFF178B-ECCA-429A-A761-022AC40E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2418DDC-1336-4523-A86F-BFD78BB1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889292F-FC58-4707-B98B-5C37389E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782CA5C-7549-411C-925B-EF451560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7BC13A7-5A94-469D-A915-19B0A5A8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E9907C1-F030-44E1-A0A4-DB1466F6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34063A5-88CD-4E08-BFBE-94060AE8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DC0C1EE-DF85-4944-85FB-D89BE381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006683B-2AFF-4616-BC55-9B89746E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9D47B0A-E606-41F3-B1C7-88B27B8A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A1C2-FE24-4D4F-A7AE-EAE9AFCF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BADA2-0280-4DF0-BE6E-ACE2202D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D1EB8AD-3BAB-43EB-87B8-8C86F213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4C0C323-5807-474D-90EB-87435585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CF6DBF0-5209-4F92-AEB1-1DE6C286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3E59B03-B522-4525-AA54-527680B4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C7A20D7-41ED-46E7-85C0-AF206365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1563B4E-DE5D-48AB-A920-A549FF00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5211B79-DA1B-406E-A73A-325C7EA9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72B1253-3EDD-44CB-98A2-97026EDD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ED16C97-4006-4458-8A93-36A38426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1E27261-5AFB-4652-B574-1D921C49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2D039-8A63-464D-8259-6C28DB06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BF58F33-21E6-41E8-9A88-E27D6344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0338BFA-909F-49AD-B306-445717AA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6E23B02-FDF7-4F77-8025-ED486606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DF294F9-DB14-4E00-9369-6112864D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7073CF6-12D7-4283-8EB7-9AC4F84A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BC91C6D-32DE-4507-AF57-87A92B33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168747C-8BB6-4862-86DD-E120BE9F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BC8808B-6600-4812-968B-FD571169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1D3E0F1-C3C3-49DD-94D1-3AF259CC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9A2ADB1-B577-4CFA-8375-81FBE8F5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1F781-2504-48DF-B6EA-3B43CF70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2C91A54-361F-47D5-80CE-78B139AC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B296A6C-4BC9-4A7B-BD95-444A4781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8C2AC3C-E1CB-4369-995E-317F68EF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B2811C9-B75E-4EE8-A2E8-1E256630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EFFB199-FF1E-4AD6-8102-9F3FD1E6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709B8C8-135C-41D0-A4A9-92E7DC95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52C0AC0-3835-40F8-AEDB-882C4EE9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56BB36A-2281-4F61-94DF-0345D652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27167D7-E06D-4F52-9B8C-3A588733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3FB06DB-B4BD-4BB3-AE6D-58A30F9B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7EE5E-9E61-475E-945C-3DB76881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684A1B8-9209-4B47-ACE0-5B63CEBC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598F822-E986-415F-8CE4-814D5C20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6517FE8-FA5E-417C-A99D-144668D5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75EEA90-125A-4540-8CCA-97EDAFAE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8FFF364-EB5C-48AE-8920-321E34B3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554C2F6-042D-431D-BF30-B82DE8DF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AC10C77-C270-49A6-B35E-1D7491E8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E79809B-B145-42FF-84CF-F72FE62C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A740FB2-0A39-4388-8377-DA9B3CF7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1790DCE-892E-4D29-88AE-C711EDCA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F9A4D-21B9-4CF8-9EE5-CDC40C0A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66A5B8E-33CF-497B-9606-8957A845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861ECE3-2863-42C8-A0FA-A4F343EE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0DD98C8-F491-4912-A7CC-38AC6E40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592BDC7-AC31-462B-85D3-6349EF00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2D4F858-1DE0-4379-AE10-6BFC2883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907205F-0C4B-474F-94F0-7FD107EF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5AAE4DD-E3BF-4AEF-A932-8C404A59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F5E2EF0-C56C-46CA-9171-488C1F02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F4E26BB-9226-46F8-938A-75B27C95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280FD19-B56F-40CF-A773-85110DFE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03423-673C-40FC-A110-308C1CF8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15FA9E8-AE47-4310-B092-AC3D9780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A9AEB9D-2A66-41C9-BECA-4AB548DD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5457B23-B995-430D-8746-E7DB12A9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51221CF-891E-44DE-863F-FDAA1471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3F08825-F50F-4685-BBB3-7D6D42D1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00228BE-77E3-4103-9A1A-5EF3B790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E4C84A8-9620-463F-A75B-430E7672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AE18D52-BD91-43DE-9CB9-1C0429CF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EF85121-3A9A-4033-90A7-84FCA249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D4ECC1C-EB29-4F4F-98A6-65A5585B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04BAF-1633-4736-B9EC-00324584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ACB0CCC-0950-4196-BCBB-963CCB75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B25DA21-9FF7-4BAD-8B58-FCC55A29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5C2C4E1-D399-4628-BEA1-94EF6259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D2EC3B4-B29B-4A7F-8DAF-D6B3A0DC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2C6B612-7F44-4F45-B633-555CA2EA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F1FAF2C-DAB3-4DB3-B0CA-B3073C11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E40A158-7E88-4476-BCF1-AC228734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CB13D4D-C1E7-478D-BBA0-3CAD7CAF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68EFB61-E129-4A2A-A0CF-A7360202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2CE3584-7AD9-41F9-B16C-15BA1A7A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44942-431E-4DA5-A10D-D5E40BCF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57B4A8E-495E-448A-8979-919DE597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35F7501-44FD-4744-BE3C-6E51219D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FC3F016-B5CB-41C3-A400-A0053222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91B3F7A-EE32-4B09-B05E-AF2538AF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A43B500-9009-4F7C-8401-06BB6EB8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479B32B-87D0-4212-9E24-A8A9907C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258A8DA-98EB-4765-970F-9E865F14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93888E3-9692-4082-B87B-F6682C60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57D9C05-0B72-4090-8144-0EDE68A1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190A08F-72B9-4B3B-8889-7465868B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9EC21-61C4-42C1-9110-8123407C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B1ADBA3-0A4B-4BA4-BEEB-52019DE0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3048E76-5C40-41D6-B247-7081117F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C9B5DD4-F997-456D-91BA-AE14A2FC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9A4018B-0738-49BD-AF74-162918EF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724954E-CDEB-478C-B47C-825C2507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56C594A-6F5C-4652-8F8C-637D365C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69B3C01-049A-4C5D-AB85-9D1A345F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974A721-555B-4112-B865-89661FD1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CA90EAA-228D-41F4-BBC4-305559A7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029007B-9BD2-4CD7-88CA-C028515D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52104-7E36-462F-9D70-BCFEFD11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6BCFA88-8F1B-4265-B5D2-1BCF310C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DB76DED-DA5F-4744-A831-71519534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614F0E6-4106-428B-93B1-7BAB7BD5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FFED647-30D2-427E-BDC2-5F9B1C46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8EA0BB5-0C0D-4DD4-BC8B-CC0951E9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8AC53B7-AC85-45C6-AEDD-79094AA3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FC0FEFC-3E7B-4AE1-98F4-8B8190AE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8FC5AEF-42EB-4402-8BB8-7F2E205C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5F164D8-AC9C-4A2D-A8C4-DF435FFC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735DDC0-9653-407E-BB0C-4B94D5CE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FD4-643C-4BFA-8DF5-FB2E129E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B4DB6-7E34-4CC3-8D6D-F0191C0A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9C3805D-9C11-4C3C-8C75-AD479BE8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1B7A763-3CE9-495E-B6FB-208466E1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797E6C4-3B94-4741-8167-5656C2B2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95FD88E-E853-4E8E-82AF-DFF47B89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A242B00-703D-4EA7-9FAE-C959D14B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220E50D-72D1-4223-8245-7A5F6F20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EC8D9E5-B475-4B9F-B698-B4E9CF4E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1EEC7AF-79DA-4F9F-94B2-7BA2FAA4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F565C0B-C93F-4E45-AB20-2E52263D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AF6DFF7-C4EC-457F-B39B-6C90463C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CA7E4-F8EA-431D-9639-346B1AB5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7D5429B-A07F-4C0D-8E35-3EED3843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DF98000-2E38-42D6-989D-E474E3C0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0B6291A-D4EF-434A-813F-FBCCC843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A684164-2DF5-472B-A7BD-1A4A7A38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6172CEA-9811-4A04-AA59-56D7F177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A4BC0CA-2F91-4CD2-A2B9-3AC1F7E2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B5B1ECC-6FF4-4A93-9095-76513AEE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7E8361B-74E9-4BAA-A1A1-7C458421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263E741-4D29-4BE0-B789-7E86150F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4D5CE48-BDC9-4037-94FF-E1520D92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AAA4F-0423-4A87-8A78-556F0917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3F26B09-F21D-4D5C-91BB-2B3CE960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18B97DD-E5A4-42D6-803A-A866B202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C2632BC-353A-4034-8CF0-43D3D42C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E7A82D5-F6DD-444E-8D95-EBA00508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33926BD-656C-415A-BEF7-C95FC16C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572F4C1-C3FC-42EE-921A-20A0370C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ED21F00-39D7-4E27-BD35-E23525B1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0D1914B-70ED-481C-9FFA-357945CE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3760BE4-6552-48EF-B7A5-32CBAAD3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34ED547-CCC9-4FA1-A7D5-4866ECC5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884C9-4507-484F-A5F9-E040A4D3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8EE0C67-029B-4BD6-B1F7-7B2537B6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B270ADA-905A-47A4-881B-2F512A7C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BD59C6C-A8D1-441D-8F05-D67B0A2C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5317E14-DA1A-48DF-912B-CF513905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FA19352-103B-4E3D-8D90-23A8EAB1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254B866-C85E-44D8-BD58-624EAAAD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5A72CDC-744C-4D18-B8DF-DB912EFD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AC6C491-0DDE-41A3-997D-FB4563B3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F0A4DD7-AF09-44D9-815E-926BD788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8F323C3-8FBC-43C1-9214-755AF3CB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CC7D8-4D8D-43ED-8A59-B936BF7F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1796AC0-A442-45B0-B69D-27A981A8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5859FBE-184A-44FF-B894-5900F813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7C81FBF-5AB7-4AC9-B2FC-CC1FCD54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0A022D1-BE2E-4FC6-AA28-903043A0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FFEAB8C-B19A-44E7-99D7-A6ACB986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4DD93AC-8070-4326-B9B0-3902012D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BECFCCD-DF0D-4DE4-BFFA-CEF13AF1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FD0ED65-AF6A-4493-8653-223F0637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D8E8E78-9E0E-4DC4-9A00-AF2A1F71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89AD22F-15A9-43AF-BA09-8943550A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DEF03-C253-4A01-BC58-CF879700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E020451-1C5E-4515-86FB-C9C278C6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E49C49B-B69F-4DC0-B07B-076B6420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4E49376-ABFD-445A-996E-E98D0B32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BE045F1-BA4C-412B-89F7-7156A4F7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58CF845-4D67-4FFA-B258-69C1B35C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A5AA7DA-F8BB-4ECB-BB6E-89C7C5E3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23B1251-493D-44D0-AD85-9830BDC8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CA5002E-460B-439E-925F-3550506A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EEBE04C-E0D1-49B3-8405-224BA8B3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C760696-9E2D-4714-8678-151BC5E1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AF206-910E-4A88-B6A5-6C99FEFC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E603B7D-B692-42BB-95CE-AE651E39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EE6AA9E-2643-43C9-92A2-DA0C448D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A7AAC8A-DB44-4D72-8241-A7D108CA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F5CCC47-6936-484E-B6D0-08B4B38D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6E109BD-3D61-48B4-8C9E-8BF4217A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3ED8C25-D9BC-4A83-A3B1-D7B27E0C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5201780-EF18-4C16-AC49-43668E84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C77FB9F-4F41-49AC-9CC3-175A892E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7CA1041-3207-463E-8CD1-2D94989D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C2E5E84-D1C2-40B2-8079-AFD61CEA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280AA-98D0-4CD7-A998-F6422DF0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B94F6EE-6577-4755-87E9-3418D819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8C48516-FC72-42B4-92BF-C1194497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56321AA-A43C-432F-8DCA-512368ED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E563E75-24AD-4414-A925-1FAF36DF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D6801F7-534D-44AD-AF11-4998D962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FD4EBB0-B3C9-4B9B-8C38-BAF5EBF4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F7D14DD-B3D6-4B3F-B710-18575A2A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EA63E85-6289-4FFD-91C2-8E33E003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5552889-DD9C-4A94-9203-622CC721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CA679CE-3773-4B56-8B5C-B795F581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15E85-E83F-4B9A-A009-D70C1C6B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F2F2042-6ADD-48F7-A0EA-027F5881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6303408-2023-443A-8314-DD2B4BF1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A0EDFAF-63F4-46D0-AC4F-EC0D0E84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A2BAEDF-027B-4D82-81B7-989CD673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B9C79BC-B09A-4EC5-823F-83E6755D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7E77B59-DFAE-4773-87EE-95208F91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5878D94-77E2-49AA-8473-F158EC71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5989822-7E83-4C73-AB5D-C6F7EA6D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7780201-C6FC-491F-AAAA-A5F913AA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DBD0280-B114-44C9-9181-55D51FA2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76541-9659-4546-AD9E-C1019020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B1A50ED-6887-4C73-AE05-61BE89D7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8F0297B-1970-43F8-AA54-D7B540AA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EF2EC0A-AF3E-4C8E-BC4D-66FBE431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CE00DFA-2B95-4E25-8949-03E11E61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9871BF8-D1E6-4CDD-B5F2-854B769E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3D215B3-C4F6-47B5-B4B2-F34B0534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CC1CBD9-1A64-4874-9A04-628D630A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C26E043-1E1E-4BCD-AA52-97D35FB1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BF14C57-C39C-48D5-B0DA-99845C05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7E1FD87-1E3F-4A10-BE11-A0BA088A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55E5-41AE-48BB-B979-19194ECB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C36D1-4330-42C3-BF3C-DD84FB45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42CC1BD-6422-4920-B71C-CFCECF41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01E2BCF-570D-4B4E-B22B-F000A0C2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A75234D-038C-427C-8BEF-39530A10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2D397FF-3827-4295-ACF8-97D84CBD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94A7FF0-E165-4348-A7E1-4F3C8209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C2A0417-3672-44FB-B5FF-D5E9E3CB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C2736F7-37F1-456A-A8C6-68801C07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0373E8B-EE06-4A28-8032-71E55E09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95D4EE8-9904-4C0A-B9ED-8197A8DB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B39F08F-27FD-473D-89AA-AE726155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99396-DEEB-4811-ADCD-7C434DCF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06C7FC9-CEE5-4589-9BB9-BAC2D323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EA40329-3212-4F24-8397-66FD3026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F619D11-D82B-4830-A912-FD4DE113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5C39E0E-DEA5-4DE0-AA4A-CD6B4915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A2A87E9-7469-404A-86B6-A37A7A33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408F60C-86EA-4CDF-8D47-D172FB8D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2ED1012-534C-44CC-BD94-951A636F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B4DB31B-5718-49CD-812F-BAF10735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D3F9A89-B27A-4A44-9753-850F3CE6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2740076-FF3C-41BD-A26B-C761ACCE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7F7FC-BB22-4B66-AB9E-10FEF082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16D0E8C-65A5-44A1-BDCF-2BAD6FFA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EB7448C-002B-4DFD-AB2C-055A77BB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D6E016E-0606-4A1C-BED2-B387EFE6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9539884-851A-4BEA-99C8-A152647C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ECF4170-B982-406F-9667-B4DA1B6A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C8B761D-5BF1-4DFA-A0F1-928FC5B1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3C39F2E-4894-4C5F-9079-5A19D6E3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389AF77-D762-4F90-9534-69643405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B35AEE1-2C49-498B-882F-983CB199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B24A710-2297-4EA0-B67F-3CB2C304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B2562-222E-4A92-AA26-592972A6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CEDA91E-763B-48C1-9D4C-648E9F16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603ECF6-0C6A-4FBB-BFBA-52EC09FA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6D5550A-0F7B-431D-8860-52ABBACB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4AFDB32-3F9D-4545-BA91-2BD5651D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2D0C9E5-7FCA-48C0-A6CC-6CF9A8C7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7A65760-7C24-447F-95D0-7AC259DD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C6B0237-6AAF-4FC7-8401-7D90BA15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0B65AD1-4030-496F-9090-1639DD7E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64C1BF6-7B6E-4901-A60D-6843FDC2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DCD7197-BFFE-4EAD-B5C7-D7876D2F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6AF2D-6B60-4AAE-AC4D-A6ED98A4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AE74979-C990-48D4-99A7-E641700E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5E09F99-2227-40F3-B912-54D916DB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EBE3D9D-F2FD-4459-9452-9A2F89B7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DB43F94-7054-4AFD-87D6-7AAAF5FF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02F25C2-9FBB-4004-A6D4-613A71A6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4A08F-E473-44B7-A69D-E1C83F06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04F65-ED88-4FDB-B015-C882C899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53ED3-33AB-4CBF-8744-0674290A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01C6F-88DD-4543-AE1C-FF1F97EE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A0DBC-21C7-4273-A999-898951FD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B602-9978-49D2-A4DA-A2FB4FF2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7811F-A3FA-4E06-B506-C1A1DC99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CB327-D0EF-4D2C-9B8A-6DA6DCA8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D3B4B-2699-48C8-9567-CD317BE6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0EF84-E8FB-48C9-AD00-B4DEDD06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22FEE-35E3-4DE2-832A-950C2B66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5D9AF-5A31-4595-B536-8E4EC5E0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4C717-E6A2-4463-8AC8-3EE9BC5A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78D6B-5812-4F60-B494-325316F4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51E04-0658-4E9D-B9B6-8F3CC786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F8C38-388A-444D-89C0-417CC773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20E-8538-4BFB-B879-CBE9AC19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C7387-9D7A-4B09-9F02-427664F3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25302-E93F-4A6A-BB2A-2BE98AB0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A568B-F341-4DC4-AB50-6801988E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BCFE9-F930-4A4F-AFBD-4185F0DE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2715B-D9F9-4197-BA24-07D8F6D4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411A8-4C90-4986-ACF3-7BBAF79D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33B7F-2375-436A-91FC-30311007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68C7F-0773-4FF2-982F-249B08A0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44470-A8B9-4D95-BF27-FFB49589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5B4EA-7799-44B0-BA66-910DAC44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05.xml"/><Relationship Id="rId10" Type="http://schemas.openxmlformats.org/officeDocument/2006/relationships/slideLayout" Target="../slideLayouts/slideLayout206.xml"/><Relationship Id="rId11" Type="http://schemas.openxmlformats.org/officeDocument/2006/relationships/slideLayout" Target="../slideLayouts/slideLayout207.xml"/><Relationship Id="rId12" Type="http://schemas.openxmlformats.org/officeDocument/2006/relationships/slideLayout" Target="../slideLayouts/slideLayout208.xml"/><Relationship Id="rId13" Type="http://schemas.openxmlformats.org/officeDocument/2006/relationships/slideLayout" Target="../slideLayouts/slideLayout209.xml"/><Relationship Id="rId14" Type="http://schemas.openxmlformats.org/officeDocument/2006/relationships/slideLayout" Target="../slideLayouts/slideLayout210.xml"/><Relationship Id="rId15" Type="http://schemas.openxmlformats.org/officeDocument/2006/relationships/slideLayout" Target="../slideLayouts/slideLayout211.xml"/><Relationship Id="rId16" Type="http://schemas.openxmlformats.org/officeDocument/2006/relationships/slideLayout" Target="../slideLayouts/slideLayout212.xml"/><Relationship Id="rId17" Type="http://schemas.openxmlformats.org/officeDocument/2006/relationships/slideLayout" Target="../slideLayouts/slideLayout213.xml"/><Relationship Id="rId18" Type="http://schemas.openxmlformats.org/officeDocument/2006/relationships/slideLayout" Target="../slideLayouts/slideLayout214.xml"/><Relationship Id="rId19" Type="http://schemas.openxmlformats.org/officeDocument/2006/relationships/slideLayout" Target="../slideLayouts/slideLayout215.xml"/><Relationship Id="rId20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8C40-6AB0-4ACE-8FD9-082C351BB5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A71A-3405-4C97-94C1-0590A5FA7C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DA9B-BF63-422E-878B-204367E24B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0D49-32E1-434C-9CF4-02DDA3429D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ACC3-B1DD-4040-983C-24A9A4AAF2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BD7F-A1B1-473D-B0AD-056C43B9F5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9BBA-E6E6-432C-B254-5212C21080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8D4B-FD98-4B32-A492-9C5993B83E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FCE9-D75E-4C03-B68E-3C04EA6B0E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Рисунок 6" descr="sewing11a.jpg"/>
          <p:cNvPicPr/>
          <p:nvPr/>
        </p:nvPicPr>
        <p:blipFill>
          <a:blip r:embed="rId3"/>
          <a:stretch/>
        </p:blipFill>
        <p:spPr>
          <a:xfrm>
            <a:off x="21420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98" name="Рисунок 7" descr="sewing11a.jpg"/>
          <p:cNvPicPr/>
          <p:nvPr/>
        </p:nvPicPr>
        <p:blipFill>
          <a:blip r:embed="rId4"/>
          <a:stretch/>
        </p:blipFill>
        <p:spPr>
          <a:xfrm>
            <a:off x="214200" y="2286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99" name="Рисунок 8" descr="sewing11a.jpg"/>
          <p:cNvPicPr/>
          <p:nvPr/>
        </p:nvPicPr>
        <p:blipFill>
          <a:blip r:embed="rId5"/>
          <a:stretch/>
        </p:blipFill>
        <p:spPr>
          <a:xfrm>
            <a:off x="214200" y="1143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00" name="Рисунок 9" descr="sewing11a.jpg"/>
          <p:cNvPicPr/>
          <p:nvPr/>
        </p:nvPicPr>
        <p:blipFill>
          <a:blip r:embed="rId6"/>
          <a:stretch/>
        </p:blipFill>
        <p:spPr>
          <a:xfrm>
            <a:off x="21420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01" name="Рисунок 10" descr="sewing11a.jpg"/>
          <p:cNvPicPr/>
          <p:nvPr/>
        </p:nvPicPr>
        <p:blipFill>
          <a:blip r:embed="rId7"/>
          <a:stretch/>
        </p:blipFill>
        <p:spPr>
          <a:xfrm>
            <a:off x="214200" y="4572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02" name="Рисунок 11" descr="sewing11a.jpg"/>
          <p:cNvPicPr/>
          <p:nvPr/>
        </p:nvPicPr>
        <p:blipFill>
          <a:blip r:embed="rId8"/>
          <a:stretch/>
        </p:blipFill>
        <p:spPr>
          <a:xfrm>
            <a:off x="214200" y="3429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03" name="Прямая соединительная линия 12"/>
          <p:cNvSpPr/>
          <p:nvPr/>
        </p:nvSpPr>
        <p:spPr>
          <a:xfrm flipH="1">
            <a:off x="1355760" y="1440"/>
            <a:ext cx="1440" cy="6858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9"/>
    <p:sldLayoutId id="2147483871" r:id="rId10"/>
    <p:sldLayoutId id="2147483872" r:id="rId11"/>
    <p:sldLayoutId id="2147483873" r:id="rId12"/>
    <p:sldLayoutId id="2147483874" r:id="rId13"/>
    <p:sldLayoutId id="2147483875" r:id="rId14"/>
    <p:sldLayoutId id="2147483876" r:id="rId15"/>
    <p:sldLayoutId id="2147483877" r:id="rId16"/>
    <p:sldLayoutId id="2147483878" r:id="rId17"/>
    <p:sldLayoutId id="2147483879" r:id="rId18"/>
    <p:sldLayoutId id="2147483880" r:id="rId19"/>
    <p:sldLayoutId id="2147483881" r:id="rId20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80F1-B0A9-43CC-8355-3E76AAEEA4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BF8D-9625-46CA-AD56-FF5E8F8F4A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DCF1-5616-4387-8462-4F97DCE73E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4301-D054-46ED-81DF-058E272257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6E8B-E01C-4F28-A9E0-6CCC1B36C5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6000-E096-417D-8211-87C47AAE60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4965-580B-4775-AB76-7D80B2B5A5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7ED9-E24C-4D6E-855C-6D25A70A22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5472-583C-44E6-953E-49C199938A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5539-845C-477E-BC72-928BEBA1D0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740B-9DEF-4843-B1D2-767B9A236B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C84A-C113-4D08-93FE-BAE532DB8E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B72E-7D1B-43A1-9C3A-D0621A5D78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CCAE-40C4-4ADA-ABCB-266092168E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CA51-4B86-4824-80F8-9CABBC2C91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73BB-00E6-4057-95C4-1839AD8BBD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FCAB-C443-463D-960E-46D389AF85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5BDC-F9DF-47B3-BF60-628B581736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273E-2EB4-4B13-BB1D-965D6320A0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C279-8087-4DAC-ACDD-A3AB3B3F16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7126-5461-414C-8AC7-BE43CE6813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0189-8879-4799-A70A-DD1B3600D5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8F0D-945E-4754-A9EB-D4931ADEE8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D99D-D7F7-4158-BE97-04E27C41A5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651F-D435-4036-8EAA-13799E7C53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A1E4-3469-46A2-86BB-98AA54DA2E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C3A8-430B-46BC-B77D-BE73DD489C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5B8A-AD0B-4D7F-B2B2-18DAF6FFF5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4EE7-23B9-4EE8-8C30-F6E3AEAED8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07EE-3D8A-4229-A660-03C36DC902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230D-817D-443D-A979-BAAF99ECC3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9DEA-F99F-4AF4-B8B5-E353D9CB7A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5F6D-8D14-43E0-BE85-8E1CC38729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244C-DF38-49D8-B7EF-301665E4FB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06C9-6A4C-4884-968C-946A2AB3DE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8B34-71D1-4827-B613-CF5F6CF842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 type="sldNum" idx="1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4720-3B93-4A6A-80E4-4684CBBD83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 type="sldNum" idx="1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C667-7A6B-4F31-BDEF-00E34BB524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5"/>
          <p:cNvSpPr>
            <a:spLocks noGrp="1"/>
          </p:cNvSpPr>
          <p:nvPr>
            <p:ph type="sldNum" idx="1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A8AD-810A-436E-A686-A582A0C567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PlaceHolder 4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5"/>
          <p:cNvSpPr>
            <a:spLocks noGrp="1"/>
          </p:cNvSpPr>
          <p:nvPr>
            <p:ph type="sldNum" idx="1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01DB-49D6-47AF-82C6-53A408B8DE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4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5"/>
          <p:cNvSpPr>
            <a:spLocks noGrp="1"/>
          </p:cNvSpPr>
          <p:nvPr>
            <p:ph type="sldNum" idx="1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D332-CFE4-4A8F-ADC2-E0BF19E347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 type="sldNum" idx="1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0AD0-915A-438F-9D1A-FFE6BAEF48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 type="sldNum" idx="1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6AE2-9EA6-45AA-B28D-26137D46D2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5"/>
          <p:cNvSpPr>
            <a:spLocks noGrp="1"/>
          </p:cNvSpPr>
          <p:nvPr>
            <p:ph type="sldNum" idx="1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0526-9D44-4EEB-A362-83E1B51053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 type="sldNum" idx="1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B00F-B3ED-499C-AE65-15DFCC7912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0119-EA80-4F28-9F9C-9FD78F2A42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539E-F7A4-4A0B-9FB3-A228382638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AC06-7AD1-4C53-B38C-CC5454714F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F908-E126-4E4D-BB07-6CBDB91A20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C800-33C8-4086-9B2E-52AD2531B7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E03A-00E1-42D4-9B14-1FBDDCC151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753F-32EF-4CB0-8D61-28943F47F4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1371600" y="-14292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subTitle"/>
          </p:nvPr>
        </p:nvSpPr>
        <p:spPr>
          <a:xfrm>
            <a:off x="1547280" y="3860280"/>
            <a:ext cx="7417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тическая разработка раздела программы специальной (коррекционной) общеобразовательной школ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и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редакцией В.В.Воронковой, изд. «Владос», 2001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отова Любовь Алексе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швейного де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Text Box 6"/>
          <p:cNvSpPr/>
          <p:nvPr/>
        </p:nvSpPr>
        <p:spPr>
          <a:xfrm>
            <a:off x="1476360" y="1484280"/>
            <a:ext cx="727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зготовление плечевых изделий на уроках швейного дела в Специальной коррекционно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1295280" y="259920"/>
            <a:ext cx="7848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щий учебно-тематический план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готовления плечевых издел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1499760" y="1412640"/>
            <a:ext cx="76438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6 Класс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Сорочка с круглым вырезом  (35 ча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1" name=""/>
          <p:cNvGraphicFramePr/>
          <p:nvPr/>
        </p:nvGraphicFramePr>
        <p:xfrm>
          <a:off x="1285920" y="2357280"/>
          <a:ext cx="7416720" cy="2737080"/>
        </p:xfrm>
        <a:graphic>
          <a:graphicData uri="http://schemas.openxmlformats.org/drawingml/2006/table">
            <a:tbl>
              <a:tblPr/>
              <a:tblGrid>
                <a:gridCol w="576360"/>
                <a:gridCol w="5832360"/>
                <a:gridCol w="1008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а и последовательность снятия мерок. Обозначение ме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ение чертежа изделия в масштабе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 в натуральную величи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крой изд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 по пошиву сор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5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74883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7 Класс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рочка без плечевого шва с фигурным вырезом горловины, обработанным подкройной обтачкой (30 ча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3" name=""/>
          <p:cNvGraphicFramePr/>
          <p:nvPr/>
        </p:nvGraphicFramePr>
        <p:xfrm>
          <a:off x="1547640" y="2205000"/>
          <a:ext cx="7417080" cy="3533760"/>
        </p:xfrm>
        <a:graphic>
          <a:graphicData uri="http://schemas.openxmlformats.org/drawingml/2006/table">
            <a:tbl>
              <a:tblPr/>
              <a:tblGrid>
                <a:gridCol w="576360"/>
                <a:gridCol w="5904000"/>
                <a:gridCol w="93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ятие мерок. Построение чертеж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выкройки в натуральную величин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ы раскладки выкройки на ткани. Производственный способ раскро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выкройки подкройной обтач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шив сор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5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1571760" y="214200"/>
            <a:ext cx="757224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8 Класс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лузка без воротника и рукавов или с короткими цельнокроеными рукавами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32 час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Text Box 7"/>
          <p:cNvSpPr/>
          <p:nvPr/>
        </p:nvSpPr>
        <p:spPr>
          <a:xfrm>
            <a:off x="1500120" y="192888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ьнокроеное платье (37 час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6" name=""/>
          <p:cNvGraphicFramePr/>
          <p:nvPr/>
        </p:nvGraphicFramePr>
        <p:xfrm>
          <a:off x="1476360" y="2643120"/>
          <a:ext cx="7416720" cy="2933640"/>
        </p:xfrm>
        <a:graphic>
          <a:graphicData uri="http://schemas.openxmlformats.org/drawingml/2006/table">
            <a:tbl>
              <a:tblPr/>
              <a:tblGrid>
                <a:gridCol w="684360"/>
                <a:gridCol w="5248080"/>
                <a:gridCol w="148428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рование выта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рование выреза горлов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обработки нижнего среза изд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рование цельнокроеного плат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шив плат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5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Класс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Блузка с застежкой доверху (42 ча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1692000" y="5660640"/>
            <a:ext cx="6985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готовление халата (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час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9" name=""/>
          <p:cNvGraphicFramePr/>
          <p:nvPr/>
        </p:nvGraphicFramePr>
        <p:xfrm>
          <a:off x="2000160" y="1428840"/>
          <a:ext cx="6357960" cy="3373200"/>
        </p:xfrm>
        <a:graphic>
          <a:graphicData uri="http://schemas.openxmlformats.org/drawingml/2006/table">
            <a:tbl>
              <a:tblPr/>
              <a:tblGrid>
                <a:gridCol w="736560"/>
                <a:gridCol w="4332240"/>
                <a:gridCol w="1289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отка воротника, соединение с вырезом  горлов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рукавов и их обработка. Соединение рукавов с пройм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т, подбор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отка застеж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шив блуз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5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глядно-методическое сопровождение раздела «Изготовление плечевых издел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1476360" y="177300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цы издел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Т.К. (предметно-технологическая кар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кционные кар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очки с индивидуальными заданиями (по уровням развит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орные сх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ы с правилами и инструктаж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ссворды, ребу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адки, пословицы, поговорки о тру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рь профессиональных терми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705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зготовление плечевых издел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1403280" y="1125360"/>
            <a:ext cx="7740720" cy="573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Rectangle 11"/>
          <p:cNvSpPr/>
          <p:nvPr/>
        </p:nvSpPr>
        <p:spPr>
          <a:xfrm>
            <a:off x="1908000" y="1268280"/>
            <a:ext cx="6624720" cy="57636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 изготовления издел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Rectangle 13"/>
          <p:cNvSpPr/>
          <p:nvPr/>
        </p:nvSpPr>
        <p:spPr>
          <a:xfrm>
            <a:off x="1476360" y="2349360"/>
            <a:ext cx="1295280" cy="122400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ас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Rectangle 16"/>
          <p:cNvSpPr/>
          <p:nvPr/>
        </p:nvSpPr>
        <p:spPr>
          <a:xfrm>
            <a:off x="1547640" y="3860640"/>
            <a:ext cx="1224000" cy="115272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бор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ка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Rectangle 18"/>
          <p:cNvSpPr/>
          <p:nvPr/>
        </p:nvSpPr>
        <p:spPr>
          <a:xfrm>
            <a:off x="1547640" y="5300640"/>
            <a:ext cx="1295640" cy="100800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Rectangle 22"/>
          <p:cNvSpPr/>
          <p:nvPr/>
        </p:nvSpPr>
        <p:spPr>
          <a:xfrm>
            <a:off x="2987640" y="2997360"/>
            <a:ext cx="1297080" cy="93636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нят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р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Rectangle 24"/>
          <p:cNvSpPr/>
          <p:nvPr/>
        </p:nvSpPr>
        <p:spPr>
          <a:xfrm>
            <a:off x="2843280" y="4292640"/>
            <a:ext cx="1439640" cy="72072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Rectangle 26"/>
          <p:cNvSpPr/>
          <p:nvPr/>
        </p:nvSpPr>
        <p:spPr>
          <a:xfrm>
            <a:off x="2916360" y="5300640"/>
            <a:ext cx="1439640" cy="129708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з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зна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р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Rectangle 28"/>
          <p:cNvSpPr/>
          <p:nvPr/>
        </p:nvSpPr>
        <p:spPr>
          <a:xfrm>
            <a:off x="4427640" y="2637000"/>
            <a:ext cx="1296720" cy="115092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ст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ертеж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Line 29"/>
          <p:cNvSpPr/>
          <p:nvPr/>
        </p:nvSpPr>
        <p:spPr>
          <a:xfrm>
            <a:off x="212400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Rectangle 30"/>
          <p:cNvSpPr/>
          <p:nvPr/>
        </p:nvSpPr>
        <p:spPr>
          <a:xfrm>
            <a:off x="4427640" y="4292640"/>
            <a:ext cx="1368360" cy="122400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го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крой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Rectangle 32"/>
          <p:cNvSpPr/>
          <p:nvPr/>
        </p:nvSpPr>
        <p:spPr>
          <a:xfrm>
            <a:off x="5940360" y="3429000"/>
            <a:ext cx="1297080" cy="129528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к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уч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су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р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Rectangle 33"/>
          <p:cNvSpPr/>
          <p:nvPr/>
        </p:nvSpPr>
        <p:spPr>
          <a:xfrm>
            <a:off x="7451640" y="2349360"/>
            <a:ext cx="1297080" cy="93528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ш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Rectangle 34"/>
          <p:cNvSpPr/>
          <p:nvPr/>
        </p:nvSpPr>
        <p:spPr>
          <a:xfrm>
            <a:off x="6012000" y="5013360"/>
            <a:ext cx="1296720" cy="144000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ка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декат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ва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Rectangle 35"/>
          <p:cNvSpPr/>
          <p:nvPr/>
        </p:nvSpPr>
        <p:spPr>
          <a:xfrm>
            <a:off x="7451640" y="3573360"/>
            <a:ext cx="1476360" cy="136836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бра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Rectangle 36"/>
          <p:cNvSpPr/>
          <p:nvPr/>
        </p:nvSpPr>
        <p:spPr>
          <a:xfrm>
            <a:off x="7451640" y="5229360"/>
            <a:ext cx="1476360" cy="122400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В.Т.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Line 37"/>
          <p:cNvSpPr/>
          <p:nvPr/>
        </p:nvSpPr>
        <p:spPr>
          <a:xfrm flipH="1">
            <a:off x="2195280" y="184464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Line 39"/>
          <p:cNvSpPr/>
          <p:nvPr/>
        </p:nvSpPr>
        <p:spPr>
          <a:xfrm flipH="1">
            <a:off x="2700360" y="1844640"/>
            <a:ext cx="50328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Line 40"/>
          <p:cNvSpPr/>
          <p:nvPr/>
        </p:nvSpPr>
        <p:spPr>
          <a:xfrm>
            <a:off x="3635280" y="1844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Line 41"/>
          <p:cNvSpPr/>
          <p:nvPr/>
        </p:nvSpPr>
        <p:spPr>
          <a:xfrm>
            <a:off x="3635280" y="3933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Line 43"/>
          <p:cNvSpPr/>
          <p:nvPr/>
        </p:nvSpPr>
        <p:spPr>
          <a:xfrm>
            <a:off x="363528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Line 44"/>
          <p:cNvSpPr/>
          <p:nvPr/>
        </p:nvSpPr>
        <p:spPr>
          <a:xfrm>
            <a:off x="5003640" y="1844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Line 45"/>
          <p:cNvSpPr/>
          <p:nvPr/>
        </p:nvSpPr>
        <p:spPr>
          <a:xfrm>
            <a:off x="5003640" y="378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Line 46"/>
          <p:cNvSpPr/>
          <p:nvPr/>
        </p:nvSpPr>
        <p:spPr>
          <a:xfrm>
            <a:off x="6084720" y="1844640"/>
            <a:ext cx="57492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Line 47"/>
          <p:cNvSpPr/>
          <p:nvPr/>
        </p:nvSpPr>
        <p:spPr>
          <a:xfrm>
            <a:off x="6659640" y="472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Line 48"/>
          <p:cNvSpPr/>
          <p:nvPr/>
        </p:nvSpPr>
        <p:spPr>
          <a:xfrm>
            <a:off x="6804000" y="184464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Line 50"/>
          <p:cNvSpPr/>
          <p:nvPr/>
        </p:nvSpPr>
        <p:spPr>
          <a:xfrm>
            <a:off x="810108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Line 51"/>
          <p:cNvSpPr/>
          <p:nvPr/>
        </p:nvSpPr>
        <p:spPr>
          <a:xfrm>
            <a:off x="810108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Rectangle 5"/>
          <p:cNvSpPr/>
          <p:nvPr/>
        </p:nvSpPr>
        <p:spPr>
          <a:xfrm>
            <a:off x="2627280" y="260280"/>
            <a:ext cx="5184720" cy="720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769dcc"/>
              </a:gs>
              <a:gs pos="100000">
                <a:srgbClr val="66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шинные ш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Line 6"/>
          <p:cNvSpPr/>
          <p:nvPr/>
        </p:nvSpPr>
        <p:spPr>
          <a:xfrm flipH="1">
            <a:off x="2340000" y="98100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Line 7"/>
          <p:cNvSpPr/>
          <p:nvPr/>
        </p:nvSpPr>
        <p:spPr>
          <a:xfrm>
            <a:off x="6012000" y="981000"/>
            <a:ext cx="165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Rectangle 8"/>
          <p:cNvSpPr/>
          <p:nvPr/>
        </p:nvSpPr>
        <p:spPr>
          <a:xfrm>
            <a:off x="1476360" y="1341360"/>
            <a:ext cx="3311640" cy="79236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един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Rectangle 9"/>
          <p:cNvSpPr/>
          <p:nvPr/>
        </p:nvSpPr>
        <p:spPr>
          <a:xfrm>
            <a:off x="5364000" y="1341360"/>
            <a:ext cx="3600720" cy="792360"/>
          </a:xfrm>
          <a:prstGeom prst="rect">
            <a:avLst/>
          </a:prstGeom>
          <a:gradFill rotWithShape="0">
            <a:gsLst>
              <a:gs pos="0">
                <a:srgbClr val="769d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е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Rectangle 11"/>
          <p:cNvSpPr/>
          <p:nvPr/>
        </p:nvSpPr>
        <p:spPr>
          <a:xfrm>
            <a:off x="1476360" y="2492280"/>
            <a:ext cx="1511280" cy="11527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ч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Rectangle 12"/>
          <p:cNvSpPr/>
          <p:nvPr/>
        </p:nvSpPr>
        <p:spPr>
          <a:xfrm>
            <a:off x="3276720" y="2492280"/>
            <a:ext cx="1655640" cy="11509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клад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Rectangle 13"/>
          <p:cNvSpPr/>
          <p:nvPr/>
        </p:nvSpPr>
        <p:spPr>
          <a:xfrm>
            <a:off x="2195640" y="3789360"/>
            <a:ext cx="1944720" cy="1079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ье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Rectangle 14"/>
          <p:cNvSpPr/>
          <p:nvPr/>
        </p:nvSpPr>
        <p:spPr>
          <a:xfrm>
            <a:off x="5148360" y="2565360"/>
            <a:ext cx="1871640" cy="15112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подгиб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открыт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рез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Rectangle 15"/>
          <p:cNvSpPr/>
          <p:nvPr/>
        </p:nvSpPr>
        <p:spPr>
          <a:xfrm>
            <a:off x="7164360" y="2565360"/>
            <a:ext cx="1800360" cy="15112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подгиб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закрыт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рез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Rectangle 16"/>
          <p:cNvSpPr/>
          <p:nvPr/>
        </p:nvSpPr>
        <p:spPr>
          <a:xfrm>
            <a:off x="6300720" y="4292640"/>
            <a:ext cx="1800360" cy="10080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тач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Rectangle 17"/>
          <p:cNvSpPr/>
          <p:nvPr/>
        </p:nvSpPr>
        <p:spPr>
          <a:xfrm>
            <a:off x="1476360" y="5300640"/>
            <a:ext cx="1440000" cy="12240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ой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Rectangle 18"/>
          <p:cNvSpPr/>
          <p:nvPr/>
        </p:nvSpPr>
        <p:spPr>
          <a:xfrm>
            <a:off x="3276720" y="5300640"/>
            <a:ext cx="1511280" cy="12240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ш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Line 19"/>
          <p:cNvSpPr/>
          <p:nvPr/>
        </p:nvSpPr>
        <p:spPr>
          <a:xfrm>
            <a:off x="226836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Line 20"/>
          <p:cNvSpPr/>
          <p:nvPr/>
        </p:nvSpPr>
        <p:spPr>
          <a:xfrm>
            <a:off x="406728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Line 21"/>
          <p:cNvSpPr/>
          <p:nvPr/>
        </p:nvSpPr>
        <p:spPr>
          <a:xfrm>
            <a:off x="615636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Line 22"/>
          <p:cNvSpPr/>
          <p:nvPr/>
        </p:nvSpPr>
        <p:spPr>
          <a:xfrm>
            <a:off x="795672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Line 23"/>
          <p:cNvSpPr/>
          <p:nvPr/>
        </p:nvSpPr>
        <p:spPr>
          <a:xfrm>
            <a:off x="3132000" y="213372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Line 24"/>
          <p:cNvSpPr/>
          <p:nvPr/>
        </p:nvSpPr>
        <p:spPr>
          <a:xfrm>
            <a:off x="7093080" y="2133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Line 25"/>
          <p:cNvSpPr/>
          <p:nvPr/>
        </p:nvSpPr>
        <p:spPr>
          <a:xfrm flipH="1">
            <a:off x="2339640" y="486900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Line 26"/>
          <p:cNvSpPr/>
          <p:nvPr/>
        </p:nvSpPr>
        <p:spPr>
          <a:xfrm>
            <a:off x="3419640" y="486900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6840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547280" y="907560"/>
            <a:ext cx="7596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силевская В.Я. «Понимание учебного материала учащимися вспомогательной школы», М. 1960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ронкова В.В. «Воспитание и обучение детей во вспомогательной школе». Под ред. Школа-пресс, М., 1994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готский Л.С. «Проблемы дефектологии». М., Просвещение, 1995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нчарова Е.А., Кукушкина О.И. «Реабилитация средствами образования: особые образовательные потребности детей с выраженными нарушениями в развитии». Сборник научных трудов и проектных материалов ИПН РАО «Подходы к реабилитации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Дульнев Г.М. «Вопросы трудового обучения во вспомогательной школе». М. 1965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Дети с отклонениями в развитии», М., Аквариум, 1997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ылов А.М. «Учет индивидуальных особенностей учащихся в организации инструктажа на уроках трудового обучения во вспомогательной школе». Ж. Дефектология №5, 1993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ский С.Л. «Индивидуальный подход к учащимся вспомогательной школы в трудовом обучении». М., педагогика, 1990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ский С.Л. «Коррекционная направленность трудового обучения во вспомогательных школах». Ж. Дефектология, 1986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618920" y="549360"/>
            <a:ext cx="727236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детей с ограниченными возможностями здоровья  познавательные интересы развиты в меньшей степени, чем в норме, поэтому только применение специальных приемов и методов обучения и воспитания позволяет в существенной мере преодолеть недостатки психического развития. Большую  роль в коррекции познавательных интересов играет труд, он побуждает инициативу, заставляет работать мозг, побуждает внимание и желание, и регулирует проявление воли. Таким образом он является  важным орудием для развития интеллекта и для прочного усвоения различных знан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С.Я. Рубинштейн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1499760" y="928800"/>
            <a:ext cx="6985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по швейному делу составлена с учетом возрастных и психофизических особенностей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1" name="Text Box 5"/>
          <p:cNvSpPr/>
          <p:nvPr/>
        </p:nvSpPr>
        <p:spPr>
          <a:xfrm>
            <a:off x="2124000" y="18900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Text Box 6"/>
          <p:cNvSpPr/>
          <p:nvPr/>
        </p:nvSpPr>
        <p:spPr>
          <a:xfrm>
            <a:off x="1547640" y="1916280"/>
            <a:ext cx="691380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программы расположен по принципу усло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е изучение тем обеспечивает возможность формировать и совершенствовать у детей с интеллектуальной недостаточностью необходимые им 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ем по учебник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Б.Картушина, Г.Г.Мозговая «Швейное дело 6 класс». М., Просвещение, 2009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Б.Картушина, Г.Г.Мозговая «Швейное дело 7 класс». М., Просвещение, 201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Б.Картушина, Г.Г.Мозговая «Швейное дело 8 класс». М., Просвещение, 2009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1476360" y="1412640"/>
            <a:ext cx="752472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ществе возрастает потребность в людях с высоким уровнем профессиональной грамотности, владеющих определенными трудовыми навыками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 программы изготовления плечевых изделий готовит детей с ограниченными возможностями здоровья к самостоятельной трудовой жизни и адаптации их в обществе, благотворно сказывается на становлении личности, готовит к работе на предприят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4" name="Text Box 5"/>
          <p:cNvSpPr/>
          <p:nvPr/>
        </p:nvSpPr>
        <p:spPr>
          <a:xfrm>
            <a:off x="2268360" y="62064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нципы отбора содержания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858920" y="1628640"/>
            <a:ext cx="414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убленное изучение индивидуальных особенностей ребенка и выявление его возможностей в трудовом обучен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эффективности и подбор адекватных состоянию ребенка педагогических технолог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тическое восполнение недостатков усвоения учебного матери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изирует познавательную деятельность, развивает креативность, воспитывает умение работать в коллективе, брать ответственность за свой вы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7" name="Group 17"/>
          <p:cNvGrpSpPr/>
          <p:nvPr/>
        </p:nvGrpSpPr>
        <p:grpSpPr>
          <a:xfrm>
            <a:off x="1476360" y="2276640"/>
            <a:ext cx="3527280" cy="3058560"/>
            <a:chOff x="1476360" y="2276640"/>
            <a:chExt cx="3527280" cy="3058560"/>
          </a:xfrm>
        </p:grpSpPr>
        <p:sp>
          <p:nvSpPr>
            <p:cNvPr id="2558" name="AutoShape 18"/>
            <p:cNvSpPr/>
            <p:nvPr/>
          </p:nvSpPr>
          <p:spPr>
            <a:xfrm>
              <a:off x="1476360" y="2276640"/>
              <a:ext cx="3527280" cy="30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Rectangle 19"/>
            <p:cNvSpPr/>
            <p:nvPr/>
          </p:nvSpPr>
          <p:spPr>
            <a:xfrm>
              <a:off x="1476360" y="2276640"/>
              <a:ext cx="542520" cy="2923920"/>
            </a:xfrm>
            <a:prstGeom prst="rect">
              <a:avLst/>
            </a:prstGeom>
            <a:gradFill rotWithShape="0">
              <a:gsLst>
                <a:gs pos="0">
                  <a:srgbClr val="769dcc"/>
                </a:gs>
                <a:gs pos="100000">
                  <a:srgbClr val="66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Line 20"/>
            <p:cNvSpPr/>
            <p:nvPr/>
          </p:nvSpPr>
          <p:spPr>
            <a:xfrm>
              <a:off x="2833200" y="3180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Rectangle 21"/>
            <p:cNvSpPr/>
            <p:nvPr/>
          </p:nvSpPr>
          <p:spPr>
            <a:xfrm flipH="1">
              <a:off x="2425320" y="2620800"/>
              <a:ext cx="2442240" cy="365040"/>
            </a:xfrm>
            <a:prstGeom prst="rect">
              <a:avLst/>
            </a:prstGeom>
            <a:gradFill rotWithShape="0">
              <a:gsLst>
                <a:gs pos="0">
                  <a:srgbClr val="769dcc"/>
                </a:gs>
                <a:gs pos="100000">
                  <a:srgbClr val="66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индивидуаль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Rectangle 22"/>
            <p:cNvSpPr/>
            <p:nvPr/>
          </p:nvSpPr>
          <p:spPr>
            <a:xfrm>
              <a:off x="2425320" y="3299400"/>
              <a:ext cx="2442240" cy="409320"/>
            </a:xfrm>
            <a:prstGeom prst="rect">
              <a:avLst/>
            </a:prstGeom>
            <a:gradFill rotWithShape="0">
              <a:gsLst>
                <a:gs pos="0">
                  <a:srgbClr val="769dcc"/>
                </a:gs>
                <a:gs pos="100000">
                  <a:srgbClr val="66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разноуровнев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Rectangle 23"/>
            <p:cNvSpPr/>
            <p:nvPr/>
          </p:nvSpPr>
          <p:spPr>
            <a:xfrm>
              <a:off x="2425320" y="3978360"/>
              <a:ext cx="2442240" cy="407160"/>
            </a:xfrm>
            <a:prstGeom prst="rect">
              <a:avLst/>
            </a:prstGeom>
            <a:gradFill rotWithShape="0">
              <a:gsLst>
                <a:gs pos="0">
                  <a:srgbClr val="769dcc"/>
                </a:gs>
                <a:gs pos="100000">
                  <a:srgbClr val="66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проблем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Rectangle 24"/>
            <p:cNvSpPr/>
            <p:nvPr/>
          </p:nvSpPr>
          <p:spPr>
            <a:xfrm>
              <a:off x="2425320" y="4656960"/>
              <a:ext cx="2442240" cy="4089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66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метод проект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Line 25"/>
            <p:cNvSpPr/>
            <p:nvPr/>
          </p:nvSpPr>
          <p:spPr>
            <a:xfrm>
              <a:off x="2018880" y="275544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Line 26"/>
            <p:cNvSpPr/>
            <p:nvPr/>
          </p:nvSpPr>
          <p:spPr>
            <a:xfrm flipV="1">
              <a:off x="2018880" y="343584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Line 27"/>
            <p:cNvSpPr/>
            <p:nvPr/>
          </p:nvSpPr>
          <p:spPr>
            <a:xfrm flipV="1">
              <a:off x="2018880" y="411444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Line 28"/>
            <p:cNvSpPr/>
            <p:nvPr/>
          </p:nvSpPr>
          <p:spPr>
            <a:xfrm>
              <a:off x="2018880" y="479304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7200720" cy="16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ствовать развитию творческих способностей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 type="subTitle"/>
          </p:nvPr>
        </p:nvSpPr>
        <p:spPr>
          <a:xfrm>
            <a:off x="1547640" y="1699920"/>
            <a:ext cx="727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учать динамическую структуру личности    обучающегося с целью осуществления коррекционного воздействия на её развит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ть познавательные интересы обучаю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ть трудовые навыки и ум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товить обучающихся к самостоятельной трудовой деятельности и умению контролировать качество рабо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1" name="Text Box 7"/>
          <p:cNvSpPr/>
          <p:nvPr/>
        </p:nvSpPr>
        <p:spPr>
          <a:xfrm>
            <a:off x="539640" y="26028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1547280" y="188640"/>
            <a:ext cx="68518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жидаемые 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1547280" y="981000"/>
            <a:ext cx="72010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но требованиям программы обучающий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74" name=""/>
          <p:cNvGraphicFramePr/>
          <p:nvPr/>
        </p:nvGraphicFramePr>
        <p:xfrm>
          <a:off x="1547640" y="1484280"/>
          <a:ext cx="7296480" cy="4865760"/>
        </p:xfrm>
        <a:graphic>
          <a:graphicData uri="http://schemas.openxmlformats.org/drawingml/2006/table">
            <a:tbl>
              <a:tblPr/>
              <a:tblGrid>
                <a:gridCol w="1079640"/>
                <a:gridCol w="2984400"/>
                <a:gridCol w="323244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ен 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ен ум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ю пошива нижнего женского белья (ночная сороч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овать изготовление изделия по схеме, выполнять машинные ш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ципы построения чертежа и изготовления обтач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мать мерки, знать основные линии фигуры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цип моделирования горловины, вытачек, свойства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ть на специальных швейных машинах (оверлок, петель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ю пошива женской и детской легкой одеж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овать процессс пошива, анализировать свои действия и их результа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хнология и формы организации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1547280" y="1341360"/>
            <a:ext cx="7417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 экскурсия («на швейную фабрику», в магазин «ткани», в атель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 иг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 соревн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 модел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кие работы, участие в выставках прикладного искусства в Центре Художественных Ремес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ие в выставке-ярмарке «Нижегородский край – земля Серафима Саровског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ие в акции «Пасхальные дни милосерд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труктура содержания тематических модулей образовательной программ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1476360" y="1267920"/>
            <a:ext cx="734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рс швейного дела состоит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 ткань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ейная маш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монт одеж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овое законодательство (9 клас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 клас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построению чертежей изделия и их пошив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батывается автоматизация навыков работы на швейн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и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-8 клас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ются технологии пошива легкой одежды, свойства ткане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о швейных маши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9 клас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аивают изготовление изделий состоящие из множест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ких операций, планирование и анализирование свои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тынова Елена Александровна</dc:creator>
  <dc:description/>
  <dc:language>en-US</dc:language>
  <cp:lastModifiedBy>user</cp:lastModifiedBy>
  <dcterms:modified xsi:type="dcterms:W3CDTF">2019-12-05T17:19:30Z</dcterms:modified>
  <cp:revision>283</cp:revision>
  <dc:subject>Конструирование и моделирование одежды</dc:subject>
  <dc:title>Виды одежды</dc:title>
</cp:coreProperties>
</file>