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36.png" ContentType="image/png"/>
  <Override PartName="/ppt/media/image6.png" ContentType="image/png"/>
  <Override PartName="/ppt/media/image3.gif" ContentType="image/gif"/>
  <Override PartName="/ppt/media/image5.png" ContentType="image/png"/>
  <Override PartName="/ppt/media/image35.png" ContentType="image/png"/>
  <Override PartName="/ppt/media/image30.jpeg" ContentType="image/jpeg"/>
  <Override PartName="/ppt/media/image33.png" ContentType="image/png"/>
  <Override PartName="/ppt/media/image14.jpeg" ContentType="image/jpeg"/>
  <Override PartName="/ppt/media/image3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7.png" ContentType="image/png"/>
  <Override PartName="/ppt/media/image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64B3-8BFE-489C-B289-84EAA47A73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47D-4FCE-40B7-8B6F-F392ED057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1104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104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/>
          <p:cNvPicPr/>
          <p:nvPr/>
        </p:nvPicPr>
        <p:blipFill>
          <a:blip r:embed="rId2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4785840"/>
            <a:ext cx="213372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220760"/>
            <a:ext cx="9144000" cy="243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222200"/>
            <a:ext cx="9144000" cy="264636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12760"/>
            <a:ext cx="9144000" cy="10944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3867120"/>
            <a:ext cx="9144000" cy="10800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18162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195120"/>
            <a:ext cx="1017720" cy="8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/>
          <p:cNvPicPr/>
          <p:nvPr/>
        </p:nvPicPr>
        <p:blipFill>
          <a:blip r:embed="rId4"/>
          <a:stretch/>
        </p:blipFill>
        <p:spPr>
          <a:xfrm>
            <a:off x="250920" y="289548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5"/>
          <a:stretch/>
        </p:blipFill>
        <p:spPr>
          <a:xfrm>
            <a:off x="826920" y="3975120"/>
            <a:ext cx="1081080" cy="538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462456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1923840"/>
            <a:ext cx="76676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Урок финансовой грамотности</a:t>
            </a:r>
            <a:br>
              <a:rPr sz="3600"/>
            </a:b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в 3 Г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2895120"/>
            <a:ext cx="61214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ahoma"/>
              </a:rPr>
              <a:t>МБОУ «Средняя школа №10»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Наличные деньги (купюры)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46" name="Рисунок 7" descr="http://www.ikirov.ru/files/1210/100527%20%D0%98%D0%B7%D1%8A%D1%8F%D1%82%D0%B8%D0%B5%2010%20%D1%80%D1%83%D0%B1%D0%BB%D0%B5%D0%B9.jpg"/>
          <p:cNvPicPr/>
          <p:nvPr/>
        </p:nvPicPr>
        <p:blipFill>
          <a:blip r:embed="rId1"/>
          <a:stretch/>
        </p:blipFill>
        <p:spPr>
          <a:xfrm>
            <a:off x="714240" y="1357200"/>
            <a:ext cx="364356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http://www.ikirov.ru/files/1210/50_rublej.jpg"/>
          <p:cNvPicPr/>
          <p:nvPr/>
        </p:nvPicPr>
        <p:blipFill>
          <a:blip r:embed="rId2"/>
          <a:stretch/>
        </p:blipFill>
        <p:spPr>
          <a:xfrm>
            <a:off x="4500720" y="2428920"/>
            <a:ext cx="3900240" cy="1923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http://www.ikirov.ru/files/1210/100_rublej.jpg"/>
          <p:cNvPicPr/>
          <p:nvPr/>
        </p:nvPicPr>
        <p:blipFill>
          <a:blip r:embed="rId1"/>
          <a:stretch/>
        </p:blipFill>
        <p:spPr>
          <a:xfrm>
            <a:off x="684360" y="1214280"/>
            <a:ext cx="3458880" cy="1559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http://www.ikirov.ru/files/1210/500rublej.jpg"/>
          <p:cNvPicPr/>
          <p:nvPr/>
        </p:nvPicPr>
        <p:blipFill>
          <a:blip r:embed="rId2"/>
          <a:stretch/>
        </p:blipFill>
        <p:spPr>
          <a:xfrm>
            <a:off x="4429080" y="2928960"/>
            <a:ext cx="3286080" cy="1622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Наличные деньги (купюры)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3" descr="http://www.ikirov.ru/files/1210/1000.jpg"/>
          <p:cNvPicPr/>
          <p:nvPr/>
        </p:nvPicPr>
        <p:blipFill>
          <a:blip r:embed="rId1"/>
          <a:stretch/>
        </p:blipFill>
        <p:spPr>
          <a:xfrm>
            <a:off x="928800" y="1357200"/>
            <a:ext cx="3530520" cy="1528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http://www.ikirov.ru/files/1210/5000.jpg"/>
          <p:cNvPicPr/>
          <p:nvPr/>
        </p:nvPicPr>
        <p:blipFill>
          <a:blip r:embed="rId2"/>
          <a:stretch/>
        </p:blipFill>
        <p:spPr>
          <a:xfrm>
            <a:off x="4500720" y="2786040"/>
            <a:ext cx="3429000" cy="1643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Наличные деньги (купюры)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Скругленный прямоугольник 5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Объект 4" descr=""/>
          <p:cNvPicPr/>
          <p:nvPr/>
        </p:nvPicPr>
        <p:blipFill>
          <a:blip r:embed="rId1"/>
          <a:stretch/>
        </p:blipFill>
        <p:spPr>
          <a:xfrm>
            <a:off x="1214280" y="1428840"/>
            <a:ext cx="6567480" cy="2643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Электронные деньги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396c"/>
                </a:solidFill>
                <a:latin typeface="Tahoma"/>
              </a:rPr>
              <a:t>Физкультминутка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58400"/>
            <a:ext cx="403848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Буратино потянулся,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Раз нагнулся, два нагнулся.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Руки в стороны развел, </a:t>
            </a:r>
            <a:br>
              <a:rPr sz="2200"/>
            </a:b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Монетки, видно не нашел.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Чтоб монетки нам достать, </a:t>
            </a:r>
            <a:br>
              <a:rPr sz="2200"/>
            </a:b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Надо на носочки встать.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С кустика достать монетку,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Закопать их в поле редко.</a:t>
            </a:r>
            <a:r>
              <a:rPr b="1" i="1" lang="ru-RU" sz="2200" spc="-1" strike="noStrike">
                <a:solidFill>
                  <a:srgbClr val="c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62" name="Объект 4" descr=""/>
          <p:cNvPicPr/>
          <p:nvPr/>
        </p:nvPicPr>
        <p:blipFill>
          <a:blip r:embed="rId1"/>
          <a:stretch/>
        </p:blipFill>
        <p:spPr>
          <a:xfrm>
            <a:off x="5208480" y="1200240"/>
            <a:ext cx="291780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11040" y="128520"/>
            <a:ext cx="8521920" cy="4937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Стрелка вправо 5"/>
          <p:cNvGrpSpPr/>
          <p:nvPr/>
        </p:nvGrpSpPr>
        <p:grpSpPr>
          <a:xfrm>
            <a:off x="6175440" y="1152360"/>
            <a:ext cx="1023840" cy="2492640"/>
            <a:chOff x="6175440" y="1152360"/>
            <a:chExt cx="1023840" cy="2492640"/>
          </a:xfrm>
        </p:grpSpPr>
        <p:pic>
          <p:nvPicPr>
            <p:cNvPr id="165" name="Стрелка вправо 5" descr=""/>
            <p:cNvPicPr/>
            <p:nvPr/>
          </p:nvPicPr>
          <p:blipFill>
            <a:blip r:embed="rId1"/>
            <a:stretch/>
          </p:blipFill>
          <p:spPr>
            <a:xfrm>
              <a:off x="6175440" y="1152360"/>
              <a:ext cx="1023840" cy="24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5400000">
              <a:off x="5610240" y="2030400"/>
              <a:ext cx="21542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Стрелка вправо 6"/>
          <p:cNvGrpSpPr/>
          <p:nvPr/>
        </p:nvGrpSpPr>
        <p:grpSpPr>
          <a:xfrm>
            <a:off x="2212920" y="1255680"/>
            <a:ext cx="1206720" cy="2341440"/>
            <a:chOff x="2212920" y="1255680"/>
            <a:chExt cx="1206720" cy="2341440"/>
          </a:xfrm>
        </p:grpSpPr>
        <p:pic>
          <p:nvPicPr>
            <p:cNvPr id="168" name="Стрелка вправо 6" descr=""/>
            <p:cNvPicPr/>
            <p:nvPr/>
          </p:nvPicPr>
          <p:blipFill>
            <a:blip r:embed="rId2"/>
            <a:stretch/>
          </p:blipFill>
          <p:spPr>
            <a:xfrm>
              <a:off x="2212920" y="1255680"/>
              <a:ext cx="120672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5400000">
              <a:off x="1820520" y="2038320"/>
              <a:ext cx="1994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TextBox 4"/>
          <p:cNvGrpSpPr/>
          <p:nvPr/>
        </p:nvGrpSpPr>
        <p:grpSpPr>
          <a:xfrm>
            <a:off x="2444760" y="311040"/>
            <a:ext cx="4541760" cy="1706760"/>
            <a:chOff x="2444760" y="311040"/>
            <a:chExt cx="4541760" cy="1706760"/>
          </a:xfrm>
        </p:grpSpPr>
        <p:pic>
          <p:nvPicPr>
            <p:cNvPr id="171" name="TextBox 4" descr=""/>
            <p:cNvPicPr/>
            <p:nvPr/>
          </p:nvPicPr>
          <p:blipFill>
            <a:blip r:embed="rId3"/>
            <a:stretch/>
          </p:blipFill>
          <p:spPr>
            <a:xfrm>
              <a:off x="2444760" y="311040"/>
              <a:ext cx="45417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500200" y="522360"/>
              <a:ext cx="442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0000"/>
                  </a:solidFill>
                  <a:latin typeface="Arial Narrow"/>
                </a:rPr>
                <a:t>   </a:t>
              </a:r>
              <a:r>
                <a:rPr b="0" lang="ru-RU" sz="6000" spc="-1" strike="noStrike">
                  <a:solidFill>
                    <a:srgbClr val="ff0000"/>
                  </a:solidFill>
                  <a:latin typeface="Arial Narrow"/>
                </a:rPr>
                <a:t>Деньг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ик 8"/>
          <p:cNvGrpSpPr/>
          <p:nvPr/>
        </p:nvGrpSpPr>
        <p:grpSpPr>
          <a:xfrm>
            <a:off x="4986360" y="3438360"/>
            <a:ext cx="3103560" cy="1298880"/>
            <a:chOff x="4986360" y="3438360"/>
            <a:chExt cx="3103560" cy="1298880"/>
          </a:xfrm>
        </p:grpSpPr>
        <p:pic>
          <p:nvPicPr>
            <p:cNvPr id="17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986360" y="3438360"/>
              <a:ext cx="310356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12000" y="3584520"/>
              <a:ext cx="28857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d0d0d"/>
                  </a:solidFill>
                  <a:latin typeface="Arial Narrow"/>
                </a:rPr>
                <a:t>Трати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</a:rPr>
                <a:t>(сколько есть, столько и трач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9"/>
          <p:cNvGrpSpPr/>
          <p:nvPr/>
        </p:nvGrpSpPr>
        <p:grpSpPr>
          <a:xfrm>
            <a:off x="1384200" y="3486240"/>
            <a:ext cx="2687760" cy="1214280"/>
            <a:chOff x="1384200" y="3486240"/>
            <a:chExt cx="2687760" cy="1214280"/>
          </a:xfrm>
        </p:grpSpPr>
        <p:pic>
          <p:nvPicPr>
            <p:cNvPr id="177" name="TextBox 9" descr=""/>
            <p:cNvPicPr/>
            <p:nvPr/>
          </p:nvPicPr>
          <p:blipFill>
            <a:blip r:embed="rId5"/>
            <a:stretch/>
          </p:blipFill>
          <p:spPr>
            <a:xfrm>
              <a:off x="1384200" y="3486240"/>
              <a:ext cx="268776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638000" y="3608280"/>
              <a:ext cx="233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d0d0d"/>
                  </a:solidFill>
                  <a:latin typeface="Arial Narrow"/>
                </a:rPr>
                <a:t>Копи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</a:rPr>
                <a:t>(копейка рубль бережё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1923840"/>
            <a:ext cx="76676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e37416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619280" y="2895120"/>
            <a:ext cx="61214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181" name="Скругленный прямоугольник 3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611280" y="24912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айтесь тратить деньги 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ум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  Родители зарабатывают деньги свои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сь отличать «потребности» от «желаний». Первые, обычно, менее затратные, чем жел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дит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пил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носите в нее сдачу от своих покупок. Так вы сможете накопить сбере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вы идете за покупками, то старайтесь выбрать те товары, в которых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уждаетес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выберете сразу несколько товаров с одинаковыми функциями, то научитесь сравнивать цены и делать грамот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мнит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финансовая грамотность играет огромную роль в вашем будущем и вашей независимо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Tahoma"/>
              </a:rPr>
              <a:t>Викторина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9640" y="1058760"/>
          <a:ext cx="8229600" cy="3456000"/>
        </p:xfrm>
        <a:graphic>
          <a:graphicData uri="http://schemas.openxmlformats.org/drawingml/2006/table">
            <a:tbl>
              <a:tblPr/>
              <a:tblGrid>
                <a:gridCol w="2459160"/>
                <a:gridCol w="1511280"/>
                <a:gridCol w="1512720"/>
                <a:gridCol w="1440000"/>
                <a:gridCol w="1306440"/>
              </a:tblGrid>
              <a:tr h="11527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ньги и г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5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</a:tr>
              <a:tr h="1150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ньги в послови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5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115236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ньги в сказ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5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, на которой изображена Красноярская гидроэлектростанция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457200" y="450720"/>
            <a:ext cx="8089920" cy="440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4038480" cy="3394080"/>
          </a:xfrm>
          <a:prstGeom prst="rect">
            <a:avLst/>
          </a:prstGeom>
          <a:ln w="0">
            <a:noFill/>
          </a:ln>
        </p:spPr>
      </p:pic>
      <p:pic>
        <p:nvPicPr>
          <p:cNvPr id="103" name="Объект 9" descr=""/>
          <p:cNvPicPr/>
          <p:nvPr/>
        </p:nvPicPr>
        <p:blipFill>
          <a:blip r:embed="rId3"/>
          <a:stretch/>
        </p:blipFill>
        <p:spPr>
          <a:xfrm>
            <a:off x="4991040" y="928800"/>
            <a:ext cx="3764160" cy="3925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, на которой изображен Московский Большой театр. 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 с изображением памятника Петру I в Архангельске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 с изображением памятника Ярославу Мудрому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Копейка рубль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е имей 100 рублей, а имей 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Скупой платит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Деньги любят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Что есть у каждого из Трех Поросят, напоминающее деньги?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Что раскопали в деревне Простаквашино 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дядя Федор,  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кот Матроскин и Шарик?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Что Буратино закапывал в землю в Стране Дураков?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9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1062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Первые деньги на Земле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8920" y="2088720"/>
            <a:ext cx="853596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Сушёная рыба             Буйвол              Раковины Каури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(Исландия)               (Индия)                 (Приморье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244e93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Соль (Африка)        Перья (Океания)     Чай (Китай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07" name="Picture 5" descr="C:\Users\Сталкер\Desktop\images (1).jpg"/>
          <p:cNvPicPr/>
          <p:nvPr/>
        </p:nvPicPr>
        <p:blipFill>
          <a:blip r:embed="rId1"/>
          <a:stretch/>
        </p:blipFill>
        <p:spPr>
          <a:xfrm>
            <a:off x="3429000" y="857160"/>
            <a:ext cx="2070000" cy="123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Users\Сталкер\Desktop\раковины.jpg"/>
          <p:cNvPicPr/>
          <p:nvPr/>
        </p:nvPicPr>
        <p:blipFill>
          <a:blip r:embed="rId2"/>
          <a:stretch/>
        </p:blipFill>
        <p:spPr>
          <a:xfrm>
            <a:off x="6500880" y="803160"/>
            <a:ext cx="2104920" cy="126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Users\Сталкер\Desktop\images (2).jpg"/>
          <p:cNvPicPr/>
          <p:nvPr/>
        </p:nvPicPr>
        <p:blipFill>
          <a:blip r:embed="rId3"/>
          <a:stretch/>
        </p:blipFill>
        <p:spPr>
          <a:xfrm>
            <a:off x="642960" y="965160"/>
            <a:ext cx="1790640" cy="113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:\Users\Сталкер\Desktop\images (3) - копия.jpg"/>
          <p:cNvPicPr/>
          <p:nvPr/>
        </p:nvPicPr>
        <p:blipFill>
          <a:blip r:embed="rId4"/>
          <a:stretch/>
        </p:blipFill>
        <p:spPr>
          <a:xfrm>
            <a:off x="571680" y="3000240"/>
            <a:ext cx="2476440" cy="13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C:\Users\Сталкер\Desktop\images (4).jpg"/>
          <p:cNvPicPr/>
          <p:nvPr/>
        </p:nvPicPr>
        <p:blipFill>
          <a:blip r:embed="rId5"/>
          <a:stretch/>
        </p:blipFill>
        <p:spPr>
          <a:xfrm>
            <a:off x="6572160" y="3160800"/>
            <a:ext cx="1927440" cy="91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C:\Users\Сталкер\Desktop\images (5) - копия.jpg"/>
          <p:cNvPicPr/>
          <p:nvPr/>
        </p:nvPicPr>
        <p:blipFill>
          <a:blip r:embed="rId6"/>
          <a:stretch/>
        </p:blipFill>
        <p:spPr>
          <a:xfrm>
            <a:off x="3571920" y="3000240"/>
            <a:ext cx="21574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Сектор приз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09" name="Рисунок 3" descr="http://www.ikirov.ru/files/1210/5000.jpg"/>
          <p:cNvPicPr/>
          <p:nvPr/>
        </p:nvPicPr>
        <p:blipFill>
          <a:blip r:embed="rId1"/>
          <a:stretch/>
        </p:blipFill>
        <p:spPr>
          <a:xfrm>
            <a:off x="2411280" y="2787480"/>
            <a:ext cx="4946760" cy="1625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582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ЗА </a:t>
            </a:r>
            <a:br>
              <a:rPr sz="6000"/>
            </a:b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ВНИМАНИЕ!!!</a:t>
            </a:r>
            <a:endParaRPr b="0" lang="en-US" sz="6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3857760"/>
            <a:ext cx="69724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12" name="Рисунок 3" descr="https://arhivurokov.ru/intolimp/html/2017/03/15/i_58c97dadee905/phpd9xOiH_Kartoteka-igr-po-finansam_2.png"/>
          <p:cNvPicPr/>
          <p:nvPr/>
        </p:nvPicPr>
        <p:blipFill>
          <a:blip r:embed="rId1"/>
          <a:stretch/>
        </p:blipFill>
        <p:spPr>
          <a:xfrm>
            <a:off x="5500800" y="1174680"/>
            <a:ext cx="5715000" cy="396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кругленный прямоугольник 9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76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166a"/>
                </a:solidFill>
                <a:latin typeface="Comic Sans MS"/>
              </a:rPr>
              <a:t>Первые деньги</a:t>
            </a:r>
            <a:r>
              <a:rPr b="1" lang="ru-RU" sz="3600" spc="-1" strike="noStrike">
                <a:solidFill>
                  <a:srgbClr val="70166a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70166a"/>
                </a:solidFill>
                <a:latin typeface="Comic Sans MS"/>
              </a:rPr>
              <a:t>в русском государстве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017360"/>
            <a:ext cx="84726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44e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Comic Sans MS"/>
                <a:ea typeface="Arial"/>
              </a:rPr>
              <a:t>Деньгами служили шкуры животных – песца, белки, соболя, куницы, которые  назывались куны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2193480"/>
            <a:ext cx="338472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17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461880" y="2031840"/>
            <a:ext cx="2538360" cy="1052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6715080" y="1820880"/>
            <a:ext cx="1895400" cy="12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900000" y="3303720"/>
            <a:ext cx="1662120" cy="151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3000240" y="3375000"/>
            <a:ext cx="2865600" cy="1463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084720" y="3417840"/>
            <a:ext cx="2322720" cy="14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5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580114d5025a"/>
          <p:cNvPicPr/>
          <p:nvPr/>
        </p:nvPicPr>
        <p:blipFill>
          <a:blip r:embed="rId1"/>
          <a:stretch/>
        </p:blipFill>
        <p:spPr>
          <a:xfrm>
            <a:off x="2916360" y="1519200"/>
            <a:ext cx="539424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1042920" y="248760"/>
            <a:ext cx="741672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У многих народов в тропической Африке, Новой Гвинеи единицей ценности и платежа был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раб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В качестве "денег" использовались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копья, собачьи зубы, куски известняка</a:t>
            </a: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 и даже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свиные хвостики. 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25" name="Picture 8" descr="3"/>
          <p:cNvPicPr/>
          <p:nvPr/>
        </p:nvPicPr>
        <p:blipFill>
          <a:blip r:embed="rId2"/>
          <a:stretch/>
        </p:blipFill>
        <p:spPr>
          <a:xfrm>
            <a:off x="755640" y="2762280"/>
            <a:ext cx="2025720" cy="172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pig_tails"/>
          <p:cNvPicPr/>
          <p:nvPr/>
        </p:nvPicPr>
        <p:blipFill>
          <a:blip r:embed="rId3"/>
          <a:stretch/>
        </p:blipFill>
        <p:spPr>
          <a:xfrm rot="20863800">
            <a:off x="525240" y="1596960"/>
            <a:ext cx="193032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6"/>
          <p:cNvSpPr/>
          <p:nvPr/>
        </p:nvSpPr>
        <p:spPr>
          <a:xfrm>
            <a:off x="334800" y="141120"/>
            <a:ext cx="849636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1\Desktop\detskie128.gif"/>
          <p:cNvPicPr/>
          <p:nvPr/>
        </p:nvPicPr>
        <p:blipFill>
          <a:blip r:embed="rId1"/>
          <a:stretch/>
        </p:blipFill>
        <p:spPr>
          <a:xfrm>
            <a:off x="4643280" y="249120"/>
            <a:ext cx="4113360" cy="4051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Откуда берутся деньги?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00240"/>
            <a:ext cx="44020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바탕"/>
              </a:rPr>
              <a:t>Люди находят клад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바탕"/>
              </a:rPr>
              <a:t>Выигрывают в лотерею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바탕"/>
              </a:rPr>
              <a:t>Попрошайничают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Взимают плату за выполнение услуг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Работают на производстве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Организуют собственное производство (бизнес)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Инвестируют производство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4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Куда тратятся деньги?</a:t>
            </a:r>
            <a:br>
              <a:rPr sz="4400"/>
            </a:br>
            <a:br>
              <a:rPr sz="4400"/>
            </a:b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00240"/>
            <a:ext cx="40384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8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На приобретение всего самого необходимого (оплата света и воды в квартире, образование, лечение, еда и пр.);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457200" indent="-457200" algn="just">
              <a:spcBef>
                <a:spcPts val="601"/>
              </a:spcBef>
              <a:buClr>
                <a:srgbClr val="c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На приобретение того, что хочется, но что не является необходимым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200240"/>
            <a:ext cx="4038480" cy="339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1\Desktop\detskie128.gif"/>
          <p:cNvPicPr/>
          <p:nvPr/>
        </p:nvPicPr>
        <p:blipFill>
          <a:blip r:embed="rId2"/>
          <a:stretch/>
        </p:blipFill>
        <p:spPr>
          <a:xfrm>
            <a:off x="4656240" y="681120"/>
            <a:ext cx="4113000" cy="405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кругленный прямоугольник 3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482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Планирование расходов и доходов называется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38" name="WordArt 2" descr=""/>
          <p:cNvPicPr/>
          <p:nvPr/>
        </p:nvPicPr>
        <p:blipFill>
          <a:blip r:embed="rId1"/>
          <a:stretch/>
        </p:blipFill>
        <p:spPr>
          <a:xfrm>
            <a:off x="1322280" y="2090880"/>
            <a:ext cx="6639120" cy="1761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1923840"/>
            <a:ext cx="76676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e37416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19280" y="2895120"/>
            <a:ext cx="61214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11280" y="573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товар, который можно обменять на другой товар или усл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C:\Users\Админ\Desktop\деньги\2.jpg"/>
          <p:cNvPicPr/>
          <p:nvPr/>
        </p:nvPicPr>
        <p:blipFill>
          <a:blip r:embed="rId1"/>
          <a:stretch/>
        </p:blipFill>
        <p:spPr>
          <a:xfrm>
            <a:off x="1147680" y="1492200"/>
            <a:ext cx="677700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Наталья</cp:lastModifiedBy>
  <dcterms:modified xsi:type="dcterms:W3CDTF">2019-12-05T17:37:59Z</dcterms:modified>
  <cp:revision>78</cp:revision>
  <dc:subject/>
  <dc:title>шаблон для презентаций</dc:title>
</cp:coreProperties>
</file>