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537C-54DF-42B9-9968-F5F8FE798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4237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49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840" y="4008600"/>
            <a:ext cx="82249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0CF2-D3A2-498D-9056-59BE3A4A8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4237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36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1720" y="1981080"/>
            <a:ext cx="40136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6840" y="4008600"/>
            <a:ext cx="40136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1720" y="4008600"/>
            <a:ext cx="40136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699C-4787-495F-8FAE-AB7AC26DD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237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7840" y="1981080"/>
            <a:ext cx="264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8840" y="1981080"/>
            <a:ext cx="264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6840" y="4008600"/>
            <a:ext cx="264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7840" y="4008600"/>
            <a:ext cx="264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8840" y="4008600"/>
            <a:ext cx="264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383C2-F589-4DEE-B037-B0E289572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0C54-8AC3-4870-9EF6-5FEBABD590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4237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2492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0F706-211C-4DEC-9DEA-C2CE55524C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237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4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7BCDE-A82D-45C8-B9B6-A9E997FD7E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237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36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720" y="1981080"/>
            <a:ext cx="40136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58F67-FFFC-4F0C-84E7-EAD6DB5B1F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237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08D44-4ECD-46E2-847A-5F02959A01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6840" y="4237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4DA10-E124-4BE5-B2A8-374D3DA787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237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36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1720" y="1981080"/>
            <a:ext cx="40136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6840" y="4008600"/>
            <a:ext cx="40136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A6937-E9A1-488E-9BA6-E21080E4CE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237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2492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B8DA-9ED8-40C6-ACDF-33602EA1C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237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36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1720" y="1981080"/>
            <a:ext cx="40136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1720" y="4008600"/>
            <a:ext cx="40136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FBDBD-7FC9-42C9-8563-DD094DD239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237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36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720" y="1981080"/>
            <a:ext cx="40136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4008600"/>
            <a:ext cx="82249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387B-3E12-422B-8875-DED5F761E6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237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49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6840" y="4008600"/>
            <a:ext cx="82249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41C1A-B2D2-4664-9053-2D3E74B1A6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4237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36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1720" y="1981080"/>
            <a:ext cx="40136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4008600"/>
            <a:ext cx="40136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1720" y="4008600"/>
            <a:ext cx="40136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1200A-6DF7-44B1-AD5D-C1B522D932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4237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7840" y="1981080"/>
            <a:ext cx="264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18840" y="1981080"/>
            <a:ext cx="264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6840" y="4008600"/>
            <a:ext cx="264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7840" y="4008600"/>
            <a:ext cx="264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18840" y="4008600"/>
            <a:ext cx="264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5BF36-3A48-43A0-9902-C5AAE245BA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4237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4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2C5B-8BDB-4325-AE43-B02DC4C7B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4237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36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981080"/>
            <a:ext cx="40136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2F4E-5C43-41DA-BFB5-F2DC0B26B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37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7E83-443F-48D0-B366-9A97FA3BD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6840" y="4237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253E-2F3C-49E6-B92C-90D18B51F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237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36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981080"/>
            <a:ext cx="40136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08600"/>
            <a:ext cx="40136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79CC-43D6-4BFC-B54A-119DE8B8D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237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36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981080"/>
            <a:ext cx="40136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1720" y="4008600"/>
            <a:ext cx="40136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C3D6-60A1-4C94-A465-A2DE1283A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4237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36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1981080"/>
            <a:ext cx="40136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08600"/>
            <a:ext cx="82249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93634-AACB-4A3A-B79C-75BBE2097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3080" y="6178680"/>
            <a:ext cx="212904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F273E2-4B09-4995-A3E7-22441B9A3E8B}" type="slidenum">
              <a:rPr b="0" lang="ru-RU" sz="2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9320" cy="541440"/>
            <a:chOff x="0" y="0"/>
            <a:chExt cx="9139320" cy="54144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281160" cy="528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12920" y="135000"/>
              <a:ext cx="8726400" cy="269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09680" y="135000"/>
              <a:ext cx="13320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47560" y="0"/>
              <a:ext cx="135000" cy="133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7560" y="135000"/>
              <a:ext cx="13500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4680" y="274680"/>
              <a:ext cx="131760" cy="133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31760" y="136440"/>
              <a:ext cx="136440" cy="133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09680" y="271440"/>
              <a:ext cx="133200" cy="133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274680" y="409680"/>
              <a:ext cx="131760" cy="13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6840" y="4237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24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5"/>
          <p:cNvSpPr/>
          <p:nvPr/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0" y="0"/>
            <a:ext cx="9139320" cy="541440"/>
            <a:chOff x="0" y="0"/>
            <a:chExt cx="9139320" cy="54144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281160" cy="528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412920" y="135000"/>
              <a:ext cx="8726400" cy="269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09680" y="135000"/>
              <a:ext cx="13320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" name="Rectangle 5"/>
            <p:cNvSpPr/>
            <p:nvPr/>
          </p:nvSpPr>
          <p:spPr>
            <a:xfrm>
              <a:off x="547560" y="0"/>
              <a:ext cx="135000" cy="133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" name="Rectangle 6"/>
            <p:cNvSpPr/>
            <p:nvPr/>
          </p:nvSpPr>
          <p:spPr>
            <a:xfrm>
              <a:off x="547560" y="135000"/>
              <a:ext cx="13500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" name="Rectangle 7"/>
            <p:cNvSpPr/>
            <p:nvPr/>
          </p:nvSpPr>
          <p:spPr>
            <a:xfrm>
              <a:off x="274680" y="274680"/>
              <a:ext cx="131760" cy="133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8" name="Rectangle 8"/>
            <p:cNvSpPr/>
            <p:nvPr/>
          </p:nvSpPr>
          <p:spPr>
            <a:xfrm>
              <a:off x="131760" y="136440"/>
              <a:ext cx="136440" cy="133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9" name="Rectangle 9"/>
            <p:cNvSpPr/>
            <p:nvPr/>
          </p:nvSpPr>
          <p:spPr>
            <a:xfrm>
              <a:off x="409680" y="271440"/>
              <a:ext cx="133200" cy="133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274680" y="409680"/>
              <a:ext cx="131760" cy="13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0" y="0"/>
            <a:ext cx="9139320" cy="6853320"/>
            <a:chOff x="0" y="0"/>
            <a:chExt cx="9139320" cy="6853320"/>
          </a:xfrm>
        </p:grpSpPr>
        <p:sp>
          <p:nvSpPr>
            <p:cNvPr id="62" name="Rectangle 12"/>
            <p:cNvSpPr/>
            <p:nvPr/>
          </p:nvSpPr>
          <p:spPr>
            <a:xfrm>
              <a:off x="0" y="0"/>
              <a:ext cx="3500280" cy="685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1716120" y="1690560"/>
              <a:ext cx="7423200" cy="25290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64" name="Group 14"/>
            <p:cNvGrpSpPr/>
            <p:nvPr/>
          </p:nvGrpSpPr>
          <p:grpSpPr>
            <a:xfrm>
              <a:off x="0" y="1066680"/>
              <a:ext cx="2862360" cy="3152880"/>
              <a:chOff x="0" y="1066680"/>
              <a:chExt cx="2862360" cy="3152880"/>
            </a:xfrm>
          </p:grpSpPr>
          <p:sp>
            <p:nvSpPr>
              <p:cNvPr id="65" name="Rectangle 15"/>
              <p:cNvSpPr/>
              <p:nvPr/>
            </p:nvSpPr>
            <p:spPr>
              <a:xfrm>
                <a:off x="573120" y="3583080"/>
                <a:ext cx="571320" cy="636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6" name="Rectangle 16"/>
              <p:cNvSpPr/>
              <p:nvPr/>
            </p:nvSpPr>
            <p:spPr>
              <a:xfrm>
                <a:off x="1716120" y="1690560"/>
                <a:ext cx="569880" cy="6382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7" name="Rectangle 17"/>
              <p:cNvSpPr/>
              <p:nvPr/>
            </p:nvSpPr>
            <p:spPr>
              <a:xfrm>
                <a:off x="2281320" y="1066680"/>
                <a:ext cx="581040" cy="630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8" name="Rectangle 18"/>
              <p:cNvSpPr/>
              <p:nvPr/>
            </p:nvSpPr>
            <p:spPr>
              <a:xfrm>
                <a:off x="1141560" y="3583080"/>
                <a:ext cx="579240" cy="63648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9" name="Rectangle 19"/>
              <p:cNvSpPr/>
              <p:nvPr/>
            </p:nvSpPr>
            <p:spPr>
              <a:xfrm>
                <a:off x="2281320" y="1690560"/>
                <a:ext cx="581040" cy="6382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0" name="Rectangle 20"/>
              <p:cNvSpPr/>
              <p:nvPr/>
            </p:nvSpPr>
            <p:spPr>
              <a:xfrm>
                <a:off x="1141560" y="2324160"/>
                <a:ext cx="579240" cy="6285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1" name="Rectangle 21"/>
              <p:cNvSpPr/>
              <p:nvPr/>
            </p:nvSpPr>
            <p:spPr>
              <a:xfrm>
                <a:off x="0" y="2324160"/>
                <a:ext cx="577800" cy="6285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2" name="Rectangle 22"/>
              <p:cNvSpPr/>
              <p:nvPr/>
            </p:nvSpPr>
            <p:spPr>
              <a:xfrm>
                <a:off x="1716120" y="2324160"/>
                <a:ext cx="569880" cy="6285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3" name="Rectangle 23"/>
              <p:cNvSpPr/>
              <p:nvPr/>
            </p:nvSpPr>
            <p:spPr>
              <a:xfrm>
                <a:off x="573120" y="2948040"/>
                <a:ext cx="571320" cy="6397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4" name="Rectangle 24"/>
              <p:cNvSpPr/>
              <p:nvPr/>
            </p:nvSpPr>
            <p:spPr>
              <a:xfrm>
                <a:off x="1141560" y="2948040"/>
                <a:ext cx="579240" cy="639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237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24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457200" y="6248520"/>
            <a:ext cx="2131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Text Box 2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6A20B5-2B9E-42D5-9E85-B0D042ED1D9E}" type="slidenum">
              <a:rPr b="0" i="1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6443640" y="1981080"/>
            <a:ext cx="2243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395280" y="2138400"/>
            <a:ext cx="8166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 Black"/>
              </a:rPr>
              <a:t>Морозова Светлана Викторовн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 Black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 Black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 Black"/>
              </a:rPr>
              <a:t>МБОУ «СШ№16» города Смоленск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0" y="-203040"/>
            <a:ext cx="8759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1280" indent="-338040" algn="ctr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 Black"/>
              </a:rPr>
              <a:t>Профилактика вредных привычек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1280" indent="-3380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611280" y="4221000"/>
            <a:ext cx="724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 Black"/>
              </a:rPr>
              <a:t>«Наркотикам говорим – Нет!»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539640" y="105264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Arial Black"/>
              </a:rPr>
              <a:t>Сотрудничество с врачами ГБУЗ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 Black"/>
              </a:rPr>
              <a:t>         </a:t>
            </a:r>
            <a:r>
              <a:rPr b="0" lang="ru-RU" sz="2400" spc="-1" strike="noStrike">
                <a:solidFill>
                  <a:srgbClr val="22228b"/>
                </a:solidFill>
                <a:latin typeface="Arial Black"/>
              </a:rPr>
              <a:t>«Ромодановская ЦРБ»  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285920" y="30002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755640" y="24922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 Black"/>
              </a:rPr>
              <a:t>Внеклассные мероприятия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635280" y="6165720"/>
            <a:ext cx="19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 Black"/>
              </a:rPr>
              <a:t>проект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49236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 Black"/>
              </a:rPr>
              <a:t>мультфильмы,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755640" y="566100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 Black"/>
              </a:rPr>
              <a:t>Видеофильмы,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6084720" y="566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 Black"/>
              </a:rPr>
              <a:t>презентации,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684360" y="1773360"/>
            <a:ext cx="66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 Black"/>
              </a:rPr>
              <a:t>Активизация участия школьников во внеурочное время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539640" y="292428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 Black"/>
              </a:rPr>
              <a:t>«К нам приехал Мойдодыр!»,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883440" y="3357720"/>
            <a:ext cx="43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 Black"/>
              </a:rPr>
              <a:t>«Если хочешь быть здоров»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902160" y="378936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 Black"/>
              </a:rPr>
              <a:t>Агитбригады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3522600" y="378936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 Black"/>
              </a:rPr>
              <a:t>« Злой волшебник табак»,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971280" y="472428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 Black"/>
              </a:rPr>
              <a:t>Дни здоровья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755640" y="5229360"/>
            <a:ext cx="75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 Black"/>
              </a:rPr>
              <a:t>Занятия в спортивных кружках и секция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457200" y="836640"/>
            <a:ext cx="82296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245600" y="404640"/>
            <a:ext cx="61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 Black"/>
              </a:rPr>
              <a:t>Результативность работы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632720" cy="47530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476360" y="692280"/>
            <a:ext cx="637236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 Black"/>
              </a:rPr>
              <a:t>Повышение мотивации к ЗОЖ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971640" y="1981080"/>
            <a:ext cx="741672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just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2400" spc="-1" strike="noStrike">
                <a:solidFill>
                  <a:srgbClr val="000066"/>
                </a:solidFill>
                <a:latin typeface="Arial Black"/>
              </a:rPr>
              <a:t>эффективно используемое учебное время на уроке;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9840" algn="just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Black"/>
              </a:rPr>
              <a:t>повышение интереса детей к предмету, к творческой и исследовательской работе;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9840" algn="just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Black"/>
              </a:rPr>
              <a:t>развитие у учащихся личных и социальных навыков, творческих способностей и  уверенности в себе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46836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574560" y="1557360"/>
            <a:ext cx="8569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 Black"/>
              </a:rPr>
              <a:t>Организация учебной деятельности с применением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 Black"/>
              </a:rPr>
              <a:t>здоровьесберегающих технологий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 Black"/>
              </a:rPr>
              <a:t>способствует сохранению и укреплению здоровья учащихся, как важнейшего фактора работоспособности и развития детского организма;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 Black"/>
              </a:rPr>
              <a:t>формирует у младших школьников основы здорового образа жизни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 Black"/>
              </a:rPr>
              <a:t>включает учащихся в активный творческий процесс формирования личности, способной к самоопределению, пониманию ценности человеческой жизни и умению найти своё место в ней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276720" y="549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 Black"/>
              </a:rPr>
              <a:t>Вывод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4716360" y="1628640"/>
            <a:ext cx="38750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 Black"/>
              </a:rPr>
              <a:t>«Здоровье - не всё, но всё без здоровья – ничто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1280" indent="-3380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 Black"/>
              </a:rPr>
              <a:t>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468360" y="692280"/>
            <a:ext cx="8229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Arial Black"/>
              </a:rPr>
              <a:t>Заключени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7078320" y="220500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 Black"/>
              </a:rPr>
              <a:t>Сокра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286000" y="1582560"/>
            <a:ext cx="4572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1835280" y="2852640"/>
            <a:ext cx="64036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 Black"/>
              </a:rPr>
              <a:t>Древние греки утверждали: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Black"/>
              </a:rPr>
              <a:t>«Хочешь быть здоровым – бегай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Black"/>
              </a:rPr>
              <a:t>Хочешь быть красивым – бегай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Black"/>
              </a:rPr>
              <a:t>Хочешь быть умным – бегай»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395280" y="1557360"/>
            <a:ext cx="8572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 Black"/>
                <a:ea typeface="Times New Roman"/>
              </a:rPr>
              <a:t>Здоровье – это красота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 Black"/>
                <a:ea typeface="Times New Roman"/>
              </a:rPr>
              <a:t>Здоровье – это богатство, которое не продается и не покупается.    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buClr>
                <a:srgbClr val="33cc33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 Black"/>
                <a:ea typeface="Times New Roman"/>
              </a:rPr>
              <a:t>Здоровье – это мы и природа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buClr>
                <a:srgbClr val="0000e5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 Black"/>
                <a:ea typeface="Times New Roman"/>
              </a:rPr>
              <a:t>Здоровье – это то, что нужно беречь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buClr>
                <a:srgbClr val="ff00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 Black"/>
                <a:ea typeface="Times New Roman"/>
              </a:rPr>
              <a:t>Здоровье – это сила и ум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 Black"/>
                <a:ea typeface="Times New Roman"/>
              </a:rPr>
              <a:t>Здоровье нужно всем: и детям, и взрослым, и даже моему коту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 Black"/>
                <a:ea typeface="Times New Roman"/>
              </a:rPr>
              <a:t>Здоровье – это счастье, это когда здоровы наши близкие люди, когда у нас дружная семья, и мы с радостью бежим домой, где нас всегда ждут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71640" y="54936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 Black"/>
              </a:rPr>
              <a:t>Что такое здоровье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03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03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353880" y="784080"/>
            <a:ext cx="833940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00007d"/>
                </a:solidFill>
                <a:latin typeface="Arial Black"/>
              </a:rPr>
              <a:t>Тема педагогического опыта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 Black"/>
              </a:rPr>
              <a:t>«Применение здоровьесберегающих технологий на уроках и во внеурочное время в начальной школе»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1258920" y="1844640"/>
            <a:ext cx="6418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7d"/>
                </a:solidFill>
                <a:latin typeface="Arial Black"/>
              </a:rPr>
              <a:t>«Забота о здоровье ребенка – это комплекс санитарно-гигиенических норм и правил… не свод требований к режиму, питанию, труду и отдыху. Это, прежде всего забота о гармоничной полноте всех физических и духовных сил, и венцом этой гармонии является радость творчества»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 Black"/>
              </a:rPr>
              <a:t>                           </a:t>
            </a:r>
            <a:r>
              <a:rPr b="1" lang="ru-RU" sz="2400" spc="-1" strike="noStrike">
                <a:solidFill>
                  <a:srgbClr val="00007d"/>
                </a:solidFill>
                <a:latin typeface="Arial Black"/>
              </a:rPr>
              <a:t>В. А. Сухомлинский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568600" y="692280"/>
            <a:ext cx="377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 Black"/>
              </a:rPr>
              <a:t>Концепция опыт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231840" y="388800"/>
            <a:ext cx="8820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 Black"/>
              </a:rPr>
              <a:t>Здоровье – это полное благополучие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22" name="Group 2"/>
          <p:cNvGrpSpPr/>
          <p:nvPr/>
        </p:nvGrpSpPr>
        <p:grpSpPr>
          <a:xfrm>
            <a:off x="1547640" y="1341360"/>
            <a:ext cx="6196320" cy="5032440"/>
            <a:chOff x="1547640" y="1341360"/>
            <a:chExt cx="6196320" cy="5032440"/>
          </a:xfrm>
        </p:grpSpPr>
        <p:sp>
          <p:nvSpPr>
            <p:cNvPr id="123" name="Oval 3"/>
            <p:cNvSpPr/>
            <p:nvPr/>
          </p:nvSpPr>
          <p:spPr>
            <a:xfrm>
              <a:off x="2981160" y="1341360"/>
              <a:ext cx="3468960" cy="3326040"/>
            </a:xfrm>
            <a:prstGeom prst="ellipse">
              <a:avLst/>
            </a:prstGeom>
            <a:blipFill rotWithShape="0">
              <a:blip r:embed="rId2">
                <a:alphaModFix amt="50000"/>
              </a:blip>
              <a:srcRect/>
              <a:stretch/>
            </a:blip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4" name="Rectangle 4"/>
            <p:cNvSpPr/>
            <p:nvPr/>
          </p:nvSpPr>
          <p:spPr>
            <a:xfrm>
              <a:off x="3851280" y="1484280"/>
              <a:ext cx="180036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7d"/>
                  </a:solidFill>
                  <a:latin typeface="Verdana"/>
                </a:rPr>
                <a:t>физическое </a:t>
              </a:r>
              <a:endParaRPr b="0" lang="en-US" sz="20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7d"/>
                  </a:solidFill>
                  <a:latin typeface="Verdana"/>
                </a:rPr>
                <a:t>здоровье</a:t>
              </a:r>
              <a:endParaRPr b="0" lang="en-US" sz="20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5" name="Oval 5"/>
            <p:cNvSpPr/>
            <p:nvPr/>
          </p:nvSpPr>
          <p:spPr>
            <a:xfrm>
              <a:off x="4211640" y="2874960"/>
              <a:ext cx="3532320" cy="3498840"/>
            </a:xfrm>
            <a:prstGeom prst="ellipse">
              <a:avLst/>
            </a:prstGeom>
            <a:blipFill rotWithShape="0">
              <a:blip r:embed="rId3">
                <a:alphaModFix amt="50000"/>
              </a:blip>
              <a:srcRect/>
              <a:stretch/>
            </a:blip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6" name="Rectangle 6"/>
            <p:cNvSpPr/>
            <p:nvPr/>
          </p:nvSpPr>
          <p:spPr>
            <a:xfrm>
              <a:off x="5389560" y="4006800"/>
              <a:ext cx="173988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7d"/>
                  </a:solidFill>
                  <a:latin typeface="Verdana"/>
                </a:rPr>
                <a:t>социальное</a:t>
              </a:r>
              <a:endParaRPr b="0" lang="en-US" sz="20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7d"/>
                  </a:solidFill>
                  <a:latin typeface="Verdana"/>
                </a:rPr>
                <a:t>здоровье</a:t>
              </a:r>
              <a:endParaRPr b="0" lang="en-US" sz="20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7" name="Oval 7"/>
            <p:cNvSpPr/>
            <p:nvPr/>
          </p:nvSpPr>
          <p:spPr>
            <a:xfrm>
              <a:off x="1547640" y="3017880"/>
              <a:ext cx="3534120" cy="3351240"/>
            </a:xfrm>
            <a:prstGeom prst="ellipse">
              <a:avLst/>
            </a:prstGeom>
            <a:blipFill rotWithShape="0">
              <a:blip r:embed="rId4">
                <a:alphaModFix amt="50000"/>
              </a:blip>
              <a:srcRect/>
              <a:stretch/>
            </a:blip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1908000" y="3968640"/>
              <a:ext cx="211644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7d"/>
                  </a:solidFill>
                  <a:latin typeface="Verdana"/>
                </a:rPr>
                <a:t>психическое </a:t>
              </a:r>
              <a:endParaRPr b="0" lang="en-US" sz="2000" spc="-1" strike="noStrike">
                <a:solidFill>
                  <a:srgbClr val="ffffff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7d"/>
                  </a:solidFill>
                  <a:latin typeface="Verdana"/>
                </a:rPr>
                <a:t>здоровье</a:t>
              </a:r>
              <a:endParaRPr b="0" lang="en-US" sz="20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1332000" y="1844640"/>
            <a:ext cx="64818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 Black"/>
              </a:rPr>
              <a:t>- </a:t>
            </a:r>
            <a:r>
              <a:rPr b="1" lang="ru-RU" sz="2400" spc="-1" strike="noStrike">
                <a:solidFill>
                  <a:srgbClr val="00007d"/>
                </a:solidFill>
                <a:latin typeface="Arial Black"/>
              </a:rPr>
              <a:t>демографический кризис; 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 Black"/>
              </a:rPr>
              <a:t>- снижение продолжительности жизни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 Black"/>
              </a:rPr>
              <a:t>- неблагоприятные социальные и экологические факторы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 Black"/>
              </a:rPr>
              <a:t>- отрицательное влияние школы на здоровье детей;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 Black"/>
              </a:rPr>
              <a:t>- катастрофическое ухудшение здоровья учащихся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433960" y="836640"/>
            <a:ext cx="31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 Black"/>
              </a:rPr>
              <a:t>Актуальность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395280" y="692280"/>
            <a:ext cx="82296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 algn="ctr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 Black"/>
              </a:rPr>
              <a:t>Направления здоровьесбережения на уроках и во внеурочное время:</a:t>
            </a:r>
            <a:r>
              <a:rPr b="0" lang="ru-RU" sz="2800" spc="-1" strike="noStrike">
                <a:solidFill>
                  <a:srgbClr val="00007d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1280" indent="-338040" algn="ctr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26920" y="2708280"/>
            <a:ext cx="2016360" cy="9856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 Black"/>
              </a:rPr>
              <a:t>выполнени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 Black"/>
              </a:rPr>
              <a:t>режима дн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691080" y="2039760"/>
            <a:ext cx="1871640" cy="1008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 Black"/>
              </a:rPr>
              <a:t>утрення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7d"/>
                </a:solidFill>
                <a:latin typeface="Arial Black"/>
              </a:rPr>
              <a:t>зарядк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6180120" y="4702320"/>
            <a:ext cx="2441520" cy="115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 Black"/>
              </a:rPr>
              <a:t>профилактика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 Black"/>
              </a:rPr>
              <a:t>вредных привычек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227640" y="2637000"/>
            <a:ext cx="245592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 Black"/>
              </a:rPr>
              <a:t>физкультминутки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 Black"/>
              </a:rPr>
              <a:t>на урока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826920" y="4724280"/>
            <a:ext cx="2016360" cy="1130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 Black"/>
              </a:rPr>
              <a:t>подвижны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7d"/>
                </a:solidFill>
                <a:latin typeface="Arial Black"/>
              </a:rPr>
              <a:t>перемен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657600" y="3589200"/>
            <a:ext cx="1871640" cy="1008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 Black"/>
              </a:rPr>
              <a:t>повыш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7d"/>
                </a:solidFill>
                <a:latin typeface="Arial Black"/>
              </a:rPr>
              <a:t>мотиваци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 Black"/>
              </a:rPr>
              <a:t>к ЗОЖ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657600" y="5207040"/>
            <a:ext cx="202392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 Black"/>
              </a:rPr>
              <a:t>соблюд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7d"/>
                </a:solidFill>
                <a:latin typeface="Arial Black"/>
              </a:rPr>
              <a:t>гигиенически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7d"/>
                </a:solidFill>
                <a:latin typeface="Arial Black"/>
              </a:rPr>
              <a:t>прави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468360" y="836640"/>
            <a:ext cx="82278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 Black"/>
              </a:rPr>
              <a:t>Режим дня – одно из направлений      сохранения здоровья ребенк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95280" y="2421000"/>
            <a:ext cx="835344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2228b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2228b"/>
                </a:solidFill>
                <a:latin typeface="Arial Black"/>
              </a:rPr>
              <a:t>Великий физиолог Павлов не раз говорил, что ни что не облегчает работу нервных клеток головного мозга, как определённый </a:t>
            </a:r>
            <a:r>
              <a:rPr b="1" lang="ru-RU" sz="2400" spc="-1" strike="noStrike">
                <a:solidFill>
                  <a:srgbClr val="22228b"/>
                </a:solidFill>
                <a:latin typeface="Arial Black"/>
              </a:rPr>
              <a:t>распорядок жизни</a:t>
            </a:r>
            <a:r>
              <a:rPr b="0" lang="ru-RU" sz="2400" spc="-1" strike="noStrike">
                <a:solidFill>
                  <a:srgbClr val="22228b"/>
                </a:solidFill>
                <a:latin typeface="Arial Black"/>
              </a:rPr>
              <a:t>. Это и есть режим дня. Если ребёнок не доспал – у него нет внимания, на уроке он зевает, отвлекается. Поэтому должны быть отведены определённые часы для занятий, прогулок, сна и других различных дел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32400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 algn="ctr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 Black"/>
              </a:rPr>
              <a:t>Режим дня – это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767640" cy="48956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468360" y="5643720"/>
            <a:ext cx="82803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468360" y="47628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38040" algn="ctr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 Black"/>
              </a:rPr>
              <a:t>Соблюдение гигиенических правил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-1981080" y="6856200"/>
            <a:ext cx="87786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Arial Black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965880" y="1628640"/>
            <a:ext cx="62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Black"/>
              </a:rPr>
              <a:t>с</a:t>
            </a:r>
            <a:r>
              <a:rPr b="0" lang="en-GB" sz="2400" spc="-1" strike="noStrike">
                <a:solidFill>
                  <a:srgbClr val="000066"/>
                </a:solidFill>
                <a:latin typeface="Arial Black"/>
              </a:rPr>
              <a:t>облюдение норм СанПиН 2.4.2.2821-10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985680" y="2133720"/>
            <a:ext cx="56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Black"/>
              </a:rPr>
              <a:t>р</a:t>
            </a:r>
            <a:r>
              <a:rPr b="0" lang="en-GB" sz="2400" spc="-1" strike="noStrike">
                <a:solidFill>
                  <a:srgbClr val="000066"/>
                </a:solidFill>
                <a:latin typeface="Arial Black"/>
              </a:rPr>
              <a:t>азноуровневые задания на уроках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539640" y="263700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 Black"/>
              </a:rPr>
              <a:t>разумное сочетание умственного и физического труда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539640" y="350028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 Black"/>
              </a:rPr>
              <a:t>занятия физической культурой и закаливание</a:t>
            </a:r>
            <a:r>
              <a:rPr b="0" lang="ru-RU" sz="2400" spc="-1" strike="noStrike">
                <a:solidFill>
                  <a:srgbClr val="000066"/>
                </a:solidFill>
                <a:latin typeface="Arial Black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777960" y="400536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 Black"/>
              </a:rPr>
              <a:t>рациональное питание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970200" y="4437000"/>
            <a:ext cx="62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 Black"/>
              </a:rPr>
              <a:t>чередование труда и активного отдыха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539640" y="551664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Black"/>
              </a:rPr>
              <a:t>правильное гигиеническое содержание тела , обуви и одежды, жилища.</a:t>
            </a:r>
            <a:r>
              <a:rPr b="0" i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576360" y="501336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Black"/>
              </a:rPr>
              <a:t>полноценный отдых;</a:t>
            </a:r>
            <a:r>
              <a:rPr b="0" i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9-12-05T19:13:41Z</dcterms:modified>
  <cp:revision>159</cp:revision>
  <dc:subject/>
  <dc:title>Слайд 1</dc:title>
</cp:coreProperties>
</file>