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1640" y="117360"/>
            <a:ext cx="8136000" cy="305136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2d050"/>
                </a:solidFill>
                <a:latin typeface="Calibri"/>
              </a:rPr>
              <a:t>Туристический маршрут выходного дня </a:t>
            </a:r>
            <a:br>
              <a:rPr sz="1800"/>
            </a:br>
            <a:r>
              <a:rPr b="1" i="1" lang="ru-RU" sz="5400" spc="-1" strike="noStrike">
                <a:solidFill>
                  <a:srgbClr val="92d050"/>
                </a:solidFill>
                <a:latin typeface="Calibri"/>
              </a:rPr>
              <a:t>по НС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952720"/>
            <a:ext cx="892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Выполнила  ученица 4 "А" класса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МБОУ СОШ № 111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Сидорова Марина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Учитель  Мичкова А.А. ВКК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0"/>
            <a:ext cx="82296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овский вод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123920"/>
            <a:ext cx="903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овский водопад расположен в полутора километрах от окраины села Белово Искитимского района. Уникальный Беловский водопад появился в результате хозяйственной деятельности человека. Вблизи села велись работы по добыче угля. В какой-то момент карьер начал быстро заполняться водой. Река Выдриха изменила свое русло, образовав уникальное озеро в искусственно созданном бассейне. Излишняя вода переливается в восточной стороне озера, минуя каменные навалы. Потоки с шумом стремятся вниз по уклону, приближаясь к резкому обры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5240" y="115920"/>
            <a:ext cx="43192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рлящий поток воды, срывающийся с пятиметровой высоты, несвойственен для равнинной местности, поэтому после своего загадочного появления водопад быстро превратился в популярную местную достопримеча-те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24320" y="436680"/>
            <a:ext cx="46036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159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ление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маршру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1239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ачала мы узнали, как туда проехать. Для этого мы изучили карту Новосибирской области и установили маршрут на навигат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7977" t="10960" r="7466" b="7333"/>
          <a:stretch/>
        </p:blipFill>
        <p:spPr>
          <a:xfrm>
            <a:off x="108000" y="2852640"/>
            <a:ext cx="4319640" cy="397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20742" t="18240" r="27770" b="16190"/>
          <a:stretch/>
        </p:blipFill>
        <p:spPr>
          <a:xfrm>
            <a:off x="4716360" y="2852640"/>
            <a:ext cx="435924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боры в дор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981000"/>
            <a:ext cx="885672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любого путешествия зависит от правильной подготовки к не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кольку мы ехали на природу и на целый день, нужно было взять с соб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редства от насеко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запас питьевой 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достаточное количество 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еплую одежду на случай плохой по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важно правильно одеться и обуться, чтобы было не жарко и не холодно и удобно. Ещё нужно заправить машину, зарядить телефоны и не забыть запасные батарейки к фотоаппар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1640" y="-260280"/>
            <a:ext cx="82296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ездка к Бердским ска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60" y="628560"/>
            <a:ext cx="5327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ним субботним утром мы погрузились в машину и отправились в путь. Мы поехали большой компанией на двух машинах.  Примерно, через 2 часа пути мы добрались до начала  экологической тропы «Зверобой». Здесь на небольшой парковке мы оставили машины и пошли пешком. Впереди у нас было почти 2 км лесной прогул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2438" t="0" r="2371" b="0"/>
          <a:stretch/>
        </p:blipFill>
        <p:spPr>
          <a:xfrm>
            <a:off x="5249880" y="1341360"/>
            <a:ext cx="367812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5920"/>
            <a:ext cx="4211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шли по песчаной тропе, усыпанной сосновыми шишками и иголками. Вокруг был лес, малина, прямо на тропинке росли опя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08360" y="771480"/>
            <a:ext cx="4248360" cy="5275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63640" y="3753000"/>
            <a:ext cx="277164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53080" y="720720"/>
            <a:ext cx="3490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густой траве шуршали  бурундуки. Они почти не боятся людей и позволяют фотографировать с расстояния вытянутой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0" b="5922"/>
          <a:stretch/>
        </p:blipFill>
        <p:spPr>
          <a:xfrm>
            <a:off x="431640" y="674640"/>
            <a:ext cx="4794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7280" y="892080"/>
            <a:ext cx="410364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роге иногда попадались скамейки, сделанные из огромных брёвен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информационные щиты, на которых были размещены фотографии местной флоры и фау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6360" y="1052640"/>
            <a:ext cx="3290760" cy="44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2630" t="5822" r="5302" b="9446"/>
          <a:stretch/>
        </p:blipFill>
        <p:spPr>
          <a:xfrm>
            <a:off x="863640" y="647640"/>
            <a:ext cx="73803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0" t="2546" r="1289" b="7149"/>
          <a:stretch/>
        </p:blipFill>
        <p:spPr>
          <a:xfrm>
            <a:off x="1116000" y="938160"/>
            <a:ext cx="709128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260280"/>
            <a:ext cx="914400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ристический маршрут выходного дня Новосиби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ный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да поехать в выходно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исследова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нтересные места Новосибирской  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Узнать, какие природные объекты есть в       Новосиби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ыяснить, куда можно добраться за 1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Посетить выбранно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оделиться впечатлениями от поез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189000"/>
            <a:ext cx="8928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запно лес кончился, и нам открылся потрясающий вид. Мы оказались на вершине скалы, а далеко внизу была река Бердь. Мы карабкались по скалам и фотографиров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2664000"/>
            <a:ext cx="3274920" cy="39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11640" y="2627280"/>
            <a:ext cx="303552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747720"/>
            <a:ext cx="694836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24444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ездка к Беловскому водоп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8360" y="1728720"/>
            <a:ext cx="67676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й точкой нашего путешествия стал Беловский водопад, который находится примерно в 40 км от Бердских скал. Дорожный указатель обещал, что водопад находится всего в паре километров от доро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92720" y="863640"/>
            <a:ext cx="3997080" cy="53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0360" y="792000"/>
            <a:ext cx="359892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DejaVu Sans"/>
              </a:rPr>
              <a:t>Так и было, но дорога проходила через лес и была очень разбита, а часть дороги к водопаду нам пришлось пройти пешком: машина не могла проеха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189000"/>
            <a:ext cx="9036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 был совсем небольшой, всего, примерно, 5 метров. Но поскольку в нашей равнинной местности ничего подобного нет, то нам и это было интересно. Там купались и отдыхали лю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60720" y="2778120"/>
            <a:ext cx="514656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15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немного пофотографировали и отправились осматривать берега озера, из которого течёт водоп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-253" t="5517" r="259" b="-5512"/>
          <a:stretch/>
        </p:blipFill>
        <p:spPr>
          <a:xfrm>
            <a:off x="2738520" y="1944720"/>
            <a:ext cx="374148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1640" y="1071720"/>
            <a:ext cx="820764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04640"/>
            <a:ext cx="3178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ша компания проголодалась, и пора было устроить привал с пикник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5400000">
            <a:off x="3697560" y="1138680"/>
            <a:ext cx="5672160" cy="428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11501" b="0"/>
          <a:stretch/>
        </p:blipFill>
        <p:spPr>
          <a:xfrm>
            <a:off x="461880" y="3672000"/>
            <a:ext cx="32814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36720" y="1800360"/>
            <a:ext cx="7272360" cy="409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23760"/>
            <a:ext cx="8496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DejaVu Sans"/>
              </a:rPr>
              <a:t>Любуясь закатом на озере, мы совсем забыли о времени, и о том, что давно пора возвращатьс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печат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утешествовали целый день и очень устали, но это была приятная усталость. День прошёл насыщенно, весело и  интересно. Мы отдохнули от городской суеты. Надышались чистым воздухом. Насладились прекрасными видами. Пообщались друг с другом. И собрали отличный фотоальбом на память. Оказывается, чтобы увидеть красивые и необычные места, необязательно ехать очень далеко. Красота может быть рядом с вами, надо только поис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2064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о-поисковый, исследовательский, практ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Найти информацию о природных объектах Н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Выбрать место для поез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обраться в дор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Посетить выбранно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Сделать фотоотчёт о поез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Поделиться впечатлениями от поездки с одноклассниками и представить сво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1822" t="5680" r="4284" b="6429"/>
          <a:stretch/>
        </p:blipFill>
        <p:spPr>
          <a:xfrm>
            <a:off x="1295280" y="1917720"/>
            <a:ext cx="659448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2984400"/>
            <a:ext cx="6454800" cy="387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1592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й стране сейчас идёт активная кампания по развитию местного туризма. А наша семья очень любит путешествовать, бывать в новых местах, ездить на дальние расстояния, любоваться природой. Но этим летом нам нужен был автомобильный маршрут выходного дня, а для этого место, куда мы могли поехать, не должно находиться далее, чем 150-200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1640" y="3959280"/>
            <a:ext cx="4032360" cy="284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ризм в Н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907920"/>
            <a:ext cx="82296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Новосибирская область занимает очень большую территорию. Протяжённость области с запада на восток — 642 км, с севера на юг — 444 км.  Площадь территории области 177,76 тыс. км². В основном, это степи, лесостепи, тай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11640" y="2303640"/>
            <a:ext cx="3527280" cy="2350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2360" y="189000"/>
            <a:ext cx="47149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овосибирской области много интересных и красивых мест: оз. Чаны, оз. Карачи в Чановском районе. В Купинском районе есть озеро Горькое, по концентрации соли в воде оно аналогично Мёртвому морю. Ещё есть Караканский 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99080" y="115920"/>
            <a:ext cx="3402000" cy="2550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543640" y="4208400"/>
            <a:ext cx="34560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8000" y="235080"/>
            <a:ext cx="90583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всего этого многообразия природных объектов нам подошли для поездки Бердские скалы и Беловский водопад, поскольку они находятся в 140 км от города и рядом друг с другом. Вместо одного места за 1 день мы смогли посетить два. Это нетипичные объекты для нашей местности, и нам захотелось посмотреть на них своими гла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151160"/>
            <a:ext cx="4032360" cy="2721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67280" y="4091040"/>
            <a:ext cx="4175280" cy="27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2360" y="4221000"/>
            <a:ext cx="4680000" cy="254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0"/>
            <a:ext cx="82296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дские ск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07920"/>
            <a:ext cx="9144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дный памятник находится в 4 километрах от села Новососедово Искитимского района. Это скалистый участок протяженностью 1,3 км, расположенный у реки Бердь, с одной стороны граничащий с устьем ручья Большой Клю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ные жители называют Бердские скалы Зверобоем, а именно, ту скалу, на которой расположена главная смотровая площадка. Это одно из красивейших мест Новосибир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8040" y="3240000"/>
            <a:ext cx="82296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ясь на вершине скалы, видно извилистую реку Бердь, смешанные леса с преобладанием сосны и березы, зеленые берега, урочище Нижние луга на левом берегу реки Бердь с южной стороны. Высота скал составляет около 300 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16000" y="360360"/>
            <a:ext cx="49356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1T21:23:56Z</dcterms:created>
  <dc:creator>Пользователь</dc:creator>
  <dc:description/>
  <dc:language>en-US</dc:language>
  <cp:lastModifiedBy/>
  <dcterms:modified xsi:type="dcterms:W3CDTF">2019-12-05T11:45:53Z</dcterms:modified>
  <cp:revision>40</cp:revision>
  <dc:subject/>
  <dc:title>Туристический маршрут выходного дня  по НС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