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650-E831-49F0-8932-F511D610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66A-E92F-487C-AF0E-55D2694F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8BE-D625-4F73-B733-CE6D1A34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1A0-295C-4617-8D8D-604AA0CE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215-1E85-4FCF-8DBA-C8476091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AD4C-C06B-487F-A913-8CA82B66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CF64-B046-4D7A-9832-7368A368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5002-FC7C-4C25-A6C7-94D09941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17DD-CF44-4B06-85EA-CA2A03D3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0B7B-0D13-4341-B44E-120D6105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52F6-1283-4BAC-98A6-23835D38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174-B693-4154-87A4-6593C654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8116-73BD-4788-8E7A-E663E7E6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35C3-7BCD-4F3F-B4A1-0B0D1B1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17E6-E297-4156-A9ED-CE6FDDB7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AE17-BC93-4C76-9F58-4A87C5DE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3A84-F1A7-4999-95D3-DA9252BE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F45-64DC-47A0-943A-6962D54C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8E5-2853-44CE-BFB8-345BFAE7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B3C-724D-4EBA-A9C8-B035257C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180-7169-4EA4-BFA5-7E682CBD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849-E274-4E2D-A785-1DB1BADA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163-0926-4762-AA3C-EA13CE7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D59-C56E-487E-B51C-2668F05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41D8-7FA8-4DB0-9910-68D30979A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3F8B-A1D7-4D2A-BB85-01A7446F85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Урок письма и развития речи в 8 классе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46240" y="4094280"/>
            <a:ext cx="604512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ем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авописание сложных слов.  Соединительные гласные  О и Е в сложных слов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итель: Евдокимова Евгения Владимировн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тгадай загадк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ылес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арово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олё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сор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мнепа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19447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а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ыл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ёт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м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а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16761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ние для 1 групп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пать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лать              Земля               владеть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рить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ахать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3348000" y="2923920"/>
            <a:ext cx="9349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 flipV="1">
            <a:off x="3492360" y="342900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 flipV="1">
            <a:off x="3492360" y="4005000"/>
            <a:ext cx="1008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3564000" y="429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3419640" y="43657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е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деле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ше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Дуга 8"/>
          <p:cNvSpPr/>
          <p:nvPr/>
        </p:nvSpPr>
        <p:spPr>
          <a:xfrm rot="19080600">
            <a:off x="1835280" y="2420640"/>
            <a:ext cx="120312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Дуга 8"/>
          <p:cNvSpPr/>
          <p:nvPr/>
        </p:nvSpPr>
        <p:spPr>
          <a:xfrm rot="19080600">
            <a:off x="2987280" y="2565000"/>
            <a:ext cx="1079640" cy="10080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Дуга 8"/>
          <p:cNvSpPr/>
          <p:nvPr/>
        </p:nvSpPr>
        <p:spPr>
          <a:xfrm rot="19080600">
            <a:off x="1835280" y="3068280"/>
            <a:ext cx="120312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Дуга 8"/>
          <p:cNvSpPr/>
          <p:nvPr/>
        </p:nvSpPr>
        <p:spPr>
          <a:xfrm rot="19080600">
            <a:off x="2916000" y="3141360"/>
            <a:ext cx="1152360" cy="1152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Дуга 8"/>
          <p:cNvSpPr/>
          <p:nvPr/>
        </p:nvSpPr>
        <p:spPr>
          <a:xfrm rot="19080600">
            <a:off x="1835280" y="3715920"/>
            <a:ext cx="120312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Дуга 8"/>
          <p:cNvSpPr/>
          <p:nvPr/>
        </p:nvSpPr>
        <p:spPr>
          <a:xfrm rot="19080600">
            <a:off x="2987640" y="3715920"/>
            <a:ext cx="120348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Дуга 8"/>
          <p:cNvSpPr/>
          <p:nvPr/>
        </p:nvSpPr>
        <p:spPr>
          <a:xfrm rot="19080600">
            <a:off x="1835280" y="4292280"/>
            <a:ext cx="120312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Дуга 8"/>
          <p:cNvSpPr/>
          <p:nvPr/>
        </p:nvSpPr>
        <p:spPr>
          <a:xfrm rot="19080600">
            <a:off x="2843280" y="4292280"/>
            <a:ext cx="120312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Дуга 8"/>
          <p:cNvSpPr/>
          <p:nvPr/>
        </p:nvSpPr>
        <p:spPr>
          <a:xfrm rot="19080600">
            <a:off x="1907640" y="4868640"/>
            <a:ext cx="1203480" cy="12268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Дуга 8"/>
          <p:cNvSpPr/>
          <p:nvPr/>
        </p:nvSpPr>
        <p:spPr>
          <a:xfrm rot="19080600">
            <a:off x="2987280" y="4868640"/>
            <a:ext cx="1203480" cy="12268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732720" y="2637000"/>
            <a:ext cx="16761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из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дост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у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ив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1944720" cy="223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7164360" y="2276640"/>
            <a:ext cx="1800360" cy="2879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5076720" y="3933720"/>
            <a:ext cx="2349720" cy="2737080"/>
          </a:xfrm>
          <a:prstGeom prst="rect">
            <a:avLst/>
          </a:prstGeom>
          <a:ln w="0">
            <a:noFill/>
          </a:ln>
        </p:spPr>
      </p:pic>
      <p:sp>
        <p:nvSpPr>
          <p:cNvPr id="193" name="Дуга 8"/>
          <p:cNvSpPr/>
          <p:nvPr/>
        </p:nvSpPr>
        <p:spPr>
          <a:xfrm rot="19080600">
            <a:off x="1476000" y="1915920"/>
            <a:ext cx="1203480" cy="12268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Дуга 8"/>
          <p:cNvSpPr/>
          <p:nvPr/>
        </p:nvSpPr>
        <p:spPr>
          <a:xfrm rot="19080600">
            <a:off x="2700360" y="1915920"/>
            <a:ext cx="1511280" cy="14396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Дуга 8"/>
          <p:cNvSpPr/>
          <p:nvPr/>
        </p:nvSpPr>
        <p:spPr>
          <a:xfrm rot="19080600">
            <a:off x="1476360" y="3715920"/>
            <a:ext cx="120348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Дуга 8"/>
          <p:cNvSpPr/>
          <p:nvPr/>
        </p:nvSpPr>
        <p:spPr>
          <a:xfrm rot="19080600">
            <a:off x="2484360" y="3715920"/>
            <a:ext cx="120348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Дуга 8"/>
          <p:cNvSpPr/>
          <p:nvPr/>
        </p:nvSpPr>
        <p:spPr>
          <a:xfrm rot="19080600">
            <a:off x="1403280" y="5373360"/>
            <a:ext cx="120348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Дуга 8"/>
          <p:cNvSpPr/>
          <p:nvPr/>
        </p:nvSpPr>
        <p:spPr>
          <a:xfrm rot="19080600">
            <a:off x="2556000" y="5373360"/>
            <a:ext cx="120312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огда употребляем эти   слов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етл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ос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м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ж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уб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лаз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м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ос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ров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1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1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1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6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6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назовёте человека, у которого :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брая  душ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ягкое серд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трый  у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ыжие волос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елёные  гл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588000" y="18446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00000" y="4365720"/>
            <a:ext cx="1962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б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уш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ягк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рдеч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т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ыж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ос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еле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лаз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588000" y="18446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00000" y="4365720"/>
            <a:ext cx="196236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сложные слов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е непонятные слова называются сложны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е длинные слова называются сложны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у которых два корня, называются сложны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5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,-49,-1)"/>
                                      </p:to>
                                    </p:set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,-49,-1)"/>
                                      </p:to>
                                    </p:set>
                                    <p:set>
                                      <p:cBhvr>
                                        <p:cTn id="101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омашнее зада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1 групп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ы хотите поигра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лово надо отгадать!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(упр.53, стр.38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2 групп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Хочешь знания провери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оставляй тогда сл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о запомни, что корней в ни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е один, а целых дв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( упр.52, стр.38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3 групп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Творческое зада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очинить сказку, используя в ней  сложные сл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4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2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2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2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6" dur="2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чевая разминк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6280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-то много лет наза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адили странный сад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был сад фруктовым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ыл он только слов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слово – слово- корень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статься стало вско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плоды нам принесл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:\Моярабоч\2009-2010 учебный год\мой 5а класс\картинки\7a35da76e863.jpg"/>
          <p:cNvPicPr/>
          <p:nvPr/>
        </p:nvPicPr>
        <p:blipFill>
          <a:blip r:embed="rId1"/>
          <a:stretch/>
        </p:blipFill>
        <p:spPr>
          <a:xfrm>
            <a:off x="1214280" y="500040"/>
            <a:ext cx="6429600" cy="6051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3214800" y="12142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я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429080" y="13572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071880" y="235728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ич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500800" y="20001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500720" y="285768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4929120" y="56437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од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Группа 19"/>
          <p:cNvGrpSpPr/>
          <p:nvPr/>
        </p:nvGrpSpPr>
        <p:grpSpPr>
          <a:xfrm>
            <a:off x="3429000" y="1143000"/>
            <a:ext cx="642960" cy="285840"/>
            <a:chOff x="3429000" y="1143000"/>
            <a:chExt cx="642960" cy="285840"/>
          </a:xfrm>
        </p:grpSpPr>
        <p:sp>
          <p:nvSpPr>
            <p:cNvPr id="110" name="Прямая соединительная линия 14"/>
            <p:cNvSpPr/>
            <p:nvPr/>
          </p:nvSpPr>
          <p:spPr>
            <a:xfrm flipV="1">
              <a:off x="3429000" y="1143000"/>
              <a:ext cx="35712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Прямая соединительная линия 15"/>
            <p:cNvSpPr/>
            <p:nvPr/>
          </p:nvSpPr>
          <p:spPr>
            <a:xfrm flipH="1" flipV="1">
              <a:off x="3786120" y="1143000"/>
              <a:ext cx="28584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Группа 20"/>
          <p:cNvGrpSpPr/>
          <p:nvPr/>
        </p:nvGrpSpPr>
        <p:grpSpPr>
          <a:xfrm>
            <a:off x="4714920" y="2786040"/>
            <a:ext cx="428400" cy="357120"/>
            <a:chOff x="4714920" y="2786040"/>
            <a:chExt cx="428400" cy="357120"/>
          </a:xfrm>
        </p:grpSpPr>
        <p:sp>
          <p:nvSpPr>
            <p:cNvPr id="113" name="Прямая соединительная линия 21"/>
            <p:cNvSpPr/>
            <p:nvPr/>
          </p:nvSpPr>
          <p:spPr>
            <a:xfrm flipV="1">
              <a:off x="4714920" y="2786040"/>
              <a:ext cx="23832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Прямая соединительная линия 22"/>
            <p:cNvSpPr/>
            <p:nvPr/>
          </p:nvSpPr>
          <p:spPr>
            <a:xfrm flipH="1" flipV="1">
              <a:off x="4952880" y="2786040"/>
              <a:ext cx="19044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Группа 23"/>
          <p:cNvGrpSpPr/>
          <p:nvPr/>
        </p:nvGrpSpPr>
        <p:grpSpPr>
          <a:xfrm>
            <a:off x="3286080" y="2286000"/>
            <a:ext cx="928440" cy="357120"/>
            <a:chOff x="3286080" y="2286000"/>
            <a:chExt cx="928440" cy="357120"/>
          </a:xfrm>
        </p:grpSpPr>
        <p:sp>
          <p:nvSpPr>
            <p:cNvPr id="116" name="Прямая соединительная линия 24"/>
            <p:cNvSpPr/>
            <p:nvPr/>
          </p:nvSpPr>
          <p:spPr>
            <a:xfrm flipV="1">
              <a:off x="3286080" y="2286000"/>
              <a:ext cx="51588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Прямая соединительная линия 25"/>
            <p:cNvSpPr/>
            <p:nvPr/>
          </p:nvSpPr>
          <p:spPr>
            <a:xfrm flipH="1" flipV="1">
              <a:off x="3801600" y="2286000"/>
              <a:ext cx="41292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Группа 26"/>
          <p:cNvGrpSpPr/>
          <p:nvPr/>
        </p:nvGrpSpPr>
        <p:grpSpPr>
          <a:xfrm>
            <a:off x="4643280" y="1285920"/>
            <a:ext cx="642960" cy="285840"/>
            <a:chOff x="4643280" y="1285920"/>
            <a:chExt cx="642960" cy="285840"/>
          </a:xfrm>
        </p:grpSpPr>
        <p:sp>
          <p:nvSpPr>
            <p:cNvPr id="119" name="Прямая соединительная линия 27"/>
            <p:cNvSpPr/>
            <p:nvPr/>
          </p:nvSpPr>
          <p:spPr>
            <a:xfrm flipV="1">
              <a:off x="4643280" y="1285920"/>
              <a:ext cx="35712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Прямая соединительная линия 28"/>
            <p:cNvSpPr/>
            <p:nvPr/>
          </p:nvSpPr>
          <p:spPr>
            <a:xfrm flipH="1" flipV="1">
              <a:off x="5000400" y="1285920"/>
              <a:ext cx="28584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Группа 29"/>
          <p:cNvGrpSpPr/>
          <p:nvPr/>
        </p:nvGrpSpPr>
        <p:grpSpPr>
          <a:xfrm>
            <a:off x="5715000" y="1856880"/>
            <a:ext cx="857160" cy="357480"/>
            <a:chOff x="5715000" y="1856880"/>
            <a:chExt cx="857160" cy="357480"/>
          </a:xfrm>
        </p:grpSpPr>
        <p:sp>
          <p:nvSpPr>
            <p:cNvPr id="122" name="Прямая соединительная линия 30"/>
            <p:cNvSpPr/>
            <p:nvPr/>
          </p:nvSpPr>
          <p:spPr>
            <a:xfrm flipV="1">
              <a:off x="5715000" y="1856880"/>
              <a:ext cx="476280" cy="35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Прямая соединительная линия 31"/>
            <p:cNvSpPr/>
            <p:nvPr/>
          </p:nvSpPr>
          <p:spPr>
            <a:xfrm flipH="1" flipV="1">
              <a:off x="6191280" y="1856880"/>
              <a:ext cx="380880" cy="35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Дуга 32"/>
          <p:cNvSpPr/>
          <p:nvPr/>
        </p:nvSpPr>
        <p:spPr>
          <a:xfrm rot="19552200">
            <a:off x="4570560" y="5657400"/>
            <a:ext cx="1717560" cy="12844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786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одяно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одиц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одич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одны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одни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Дуга 9"/>
          <p:cNvSpPr/>
          <p:nvPr/>
        </p:nvSpPr>
        <p:spPr>
          <a:xfrm rot="19080600">
            <a:off x="363600" y="776160"/>
            <a:ext cx="1014480" cy="1049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Дуга 12"/>
          <p:cNvSpPr/>
          <p:nvPr/>
        </p:nvSpPr>
        <p:spPr>
          <a:xfrm rot="19080600">
            <a:off x="1547640" y="1557360"/>
            <a:ext cx="1014480" cy="1049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Дуга 13"/>
          <p:cNvSpPr/>
          <p:nvPr/>
        </p:nvSpPr>
        <p:spPr>
          <a:xfrm rot="19080600">
            <a:off x="4643280" y="3068640"/>
            <a:ext cx="1014480" cy="1049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Дуга 14"/>
          <p:cNvSpPr/>
          <p:nvPr/>
        </p:nvSpPr>
        <p:spPr>
          <a:xfrm rot="19080600">
            <a:off x="2627280" y="2349360"/>
            <a:ext cx="1014480" cy="1049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Дуга 15"/>
          <p:cNvSpPr/>
          <p:nvPr/>
        </p:nvSpPr>
        <p:spPr>
          <a:xfrm rot="19080600">
            <a:off x="6227640" y="3789360"/>
            <a:ext cx="1014480" cy="1049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Группа 16"/>
          <p:cNvGrpSpPr/>
          <p:nvPr/>
        </p:nvGrpSpPr>
        <p:grpSpPr>
          <a:xfrm>
            <a:off x="1357200" y="785880"/>
            <a:ext cx="428400" cy="285840"/>
            <a:chOff x="1357200" y="785880"/>
            <a:chExt cx="428400" cy="285840"/>
          </a:xfrm>
        </p:grpSpPr>
        <p:sp>
          <p:nvSpPr>
            <p:cNvPr id="132" name="Прямая соединительная линия 17"/>
            <p:cNvSpPr/>
            <p:nvPr/>
          </p:nvSpPr>
          <p:spPr>
            <a:xfrm flipV="1">
              <a:off x="1357200" y="785880"/>
              <a:ext cx="23832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Прямая соединительная линия 18"/>
            <p:cNvSpPr/>
            <p:nvPr/>
          </p:nvSpPr>
          <p:spPr>
            <a:xfrm flipH="1" flipV="1">
              <a:off x="1595160" y="785880"/>
              <a:ext cx="19044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Группа 19"/>
          <p:cNvGrpSpPr/>
          <p:nvPr/>
        </p:nvGrpSpPr>
        <p:grpSpPr>
          <a:xfrm>
            <a:off x="2556000" y="1484280"/>
            <a:ext cx="428040" cy="285840"/>
            <a:chOff x="2556000" y="1484280"/>
            <a:chExt cx="428040" cy="285840"/>
          </a:xfrm>
        </p:grpSpPr>
        <p:sp>
          <p:nvSpPr>
            <p:cNvPr id="135" name="Прямая соединительная линия 20"/>
            <p:cNvSpPr/>
            <p:nvPr/>
          </p:nvSpPr>
          <p:spPr>
            <a:xfrm flipV="1">
              <a:off x="2556000" y="1484280"/>
              <a:ext cx="23796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Прямая соединительная линия 21"/>
            <p:cNvSpPr/>
            <p:nvPr/>
          </p:nvSpPr>
          <p:spPr>
            <a:xfrm flipH="1" flipV="1">
              <a:off x="2793600" y="1484280"/>
              <a:ext cx="19044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Группа 22"/>
          <p:cNvGrpSpPr/>
          <p:nvPr/>
        </p:nvGrpSpPr>
        <p:grpSpPr>
          <a:xfrm>
            <a:off x="3708360" y="2205000"/>
            <a:ext cx="714240" cy="357120"/>
            <a:chOff x="3708360" y="2205000"/>
            <a:chExt cx="714240" cy="357120"/>
          </a:xfrm>
        </p:grpSpPr>
        <p:sp>
          <p:nvSpPr>
            <p:cNvPr id="138" name="Прямая соединительная линия 23"/>
            <p:cNvSpPr/>
            <p:nvPr/>
          </p:nvSpPr>
          <p:spPr>
            <a:xfrm flipV="1">
              <a:off x="3708360" y="2205000"/>
              <a:ext cx="39672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Прямая соединительная линия 24"/>
            <p:cNvSpPr/>
            <p:nvPr/>
          </p:nvSpPr>
          <p:spPr>
            <a:xfrm flipH="1" flipV="1">
              <a:off x="4105080" y="2205000"/>
              <a:ext cx="31752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Группа 25"/>
          <p:cNvGrpSpPr/>
          <p:nvPr/>
        </p:nvGrpSpPr>
        <p:grpSpPr>
          <a:xfrm>
            <a:off x="5580000" y="2997360"/>
            <a:ext cx="285480" cy="357120"/>
            <a:chOff x="5580000" y="2997360"/>
            <a:chExt cx="285480" cy="357120"/>
          </a:xfrm>
        </p:grpSpPr>
        <p:sp>
          <p:nvSpPr>
            <p:cNvPr id="141" name="Прямая соединительная линия 26"/>
            <p:cNvSpPr/>
            <p:nvPr/>
          </p:nvSpPr>
          <p:spPr>
            <a:xfrm flipV="1">
              <a:off x="5580000" y="2997360"/>
              <a:ext cx="15876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Прямая соединительная линия 27"/>
            <p:cNvSpPr/>
            <p:nvPr/>
          </p:nvSpPr>
          <p:spPr>
            <a:xfrm flipH="1" flipV="1">
              <a:off x="5738400" y="2997360"/>
              <a:ext cx="12708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Группа 28"/>
          <p:cNvGrpSpPr/>
          <p:nvPr/>
        </p:nvGrpSpPr>
        <p:grpSpPr>
          <a:xfrm>
            <a:off x="7236000" y="3716280"/>
            <a:ext cx="714240" cy="285840"/>
            <a:chOff x="7236000" y="3716280"/>
            <a:chExt cx="714240" cy="285840"/>
          </a:xfrm>
        </p:grpSpPr>
        <p:sp>
          <p:nvSpPr>
            <p:cNvPr id="144" name="Прямая соединительная линия 29"/>
            <p:cNvSpPr/>
            <p:nvPr/>
          </p:nvSpPr>
          <p:spPr>
            <a:xfrm flipV="1">
              <a:off x="7236000" y="3716280"/>
              <a:ext cx="39672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Прямая соединительная линия 30"/>
            <p:cNvSpPr/>
            <p:nvPr/>
          </p:nvSpPr>
          <p:spPr>
            <a:xfrm flipH="1" flipV="1">
              <a:off x="7632720" y="3716280"/>
              <a:ext cx="31752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064280" cy="3425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-181080" y="765000"/>
            <a:ext cx="1609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ИСАНИЕ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Дуга 8"/>
          <p:cNvSpPr/>
          <p:nvPr/>
        </p:nvSpPr>
        <p:spPr>
          <a:xfrm rot="19080600">
            <a:off x="1258560" y="3428640"/>
            <a:ext cx="2503440" cy="2100240"/>
          </a:xfrm>
          <a:prstGeom prst="pi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Дуга 8"/>
          <p:cNvSpPr/>
          <p:nvPr/>
        </p:nvSpPr>
        <p:spPr>
          <a:xfrm rot="19080600">
            <a:off x="4211640" y="3284280"/>
            <a:ext cx="1776240" cy="1807920"/>
          </a:xfrm>
          <a:prstGeom prst="pi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4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5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0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05" dur="3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0096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ловек постоянно создаёт или открывает новые  предметы, признаки, действия. И им всем надо  дать наименования, найти новое сло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инство новых слов образуется с помощью приставок и суффиксов. А сложные слова откуда берутся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ни получаются путем сложения частей. Так появились сложные слова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НЕГ+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ПАД,   НЕФТ+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проВОД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ЕМЛ+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+ТРЯС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77080" y="4508640"/>
            <a:ext cx="219564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6"/>
          <p:cNvSpPr txBox="1"/>
          <p:nvPr/>
        </p:nvSpPr>
        <p:spPr>
          <a:xfrm>
            <a:off x="1619280" y="2349360"/>
            <a:ext cx="605772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ва, у которых два корня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ываются  сложным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36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36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3 0.075 -0.08261 0.125 -0.08261 C 0.175 -0.08261 0.22 -0.05063 0.25 0 C 0.22 0.05063 0.175 0.08261 0.125 0.08261 C 0.075 0.08261 0.03 0.05063 0 0 Z">
                                      <p:cBhvr>
                                        <p:cTn id="36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1213920"/>
            <a:ext cx="87152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мн +е +па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д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 +о +л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в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Дуга 8"/>
          <p:cNvSpPr/>
          <p:nvPr/>
        </p:nvSpPr>
        <p:spPr>
          <a:xfrm rot="19080600">
            <a:off x="5292720" y="1699920"/>
            <a:ext cx="1203480" cy="1227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Дуга 9"/>
          <p:cNvSpPr/>
          <p:nvPr/>
        </p:nvSpPr>
        <p:spPr>
          <a:xfrm rot="19080600">
            <a:off x="6948000" y="4076280"/>
            <a:ext cx="1073160" cy="9432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Дуга 10"/>
          <p:cNvSpPr/>
          <p:nvPr/>
        </p:nvSpPr>
        <p:spPr>
          <a:xfrm rot="19080600">
            <a:off x="5148000" y="4076280"/>
            <a:ext cx="1368360" cy="11448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Дуга 11"/>
          <p:cNvSpPr/>
          <p:nvPr/>
        </p:nvSpPr>
        <p:spPr>
          <a:xfrm rot="19080600">
            <a:off x="7093080" y="1699920"/>
            <a:ext cx="1073160" cy="9428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194472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5:39:23Z</dcterms:created>
  <dc:creator>www</dc:creator>
  <dc:description/>
  <dc:language>en-US</dc:language>
  <cp:lastModifiedBy>www</cp:lastModifiedBy>
  <dcterms:modified xsi:type="dcterms:W3CDTF">2010-05-18T17:22:27Z</dcterms:modified>
  <cp:revision>16</cp:revision>
  <dc:subject/>
  <dc:title>Урок письма и развития речи в 8 классе.</dc:title>
</cp:coreProperties>
</file>