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E63B-D561-4BCC-9C3E-B0829B7A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8680-5634-4D0F-955B-B7254212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BB7-1339-4BB0-8950-2A97F703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2869-84BA-41FA-B821-AA56FC48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7200-9556-46C2-BE5D-B2EF9F88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28F8-5478-4570-B434-D1CC4633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3B3F-1F17-4EA3-A605-20E125AD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259D-CCC6-4D9D-9644-F7E6E6A9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1FD1-D6D3-4CA0-8EC0-74C648C1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B72A-7937-4719-8EBE-26239181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153E-05E6-42BD-B8C9-7383DEEC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48B5-DAEC-4559-A08B-09EC700E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A727-61F1-4B5B-B914-9EE02099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1F3A-41D5-42AF-B9B5-D805812E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93FB-1078-4A97-A5D9-0D93D16F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2AD2-11B5-41CF-9296-55180F47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3F60-7D04-4C39-A09E-4FA6F275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542E-7E34-4AE0-AF85-27716F4C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043A-A7F8-44DD-AEF9-464BFBE6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3B65-1D34-44BA-BAA5-38B5058A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D8A3-3232-4AF7-A54D-9E964F92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2544-6FA8-4520-ADFF-012F1DC6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B43D-D541-46C1-B46B-DA01E90B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584F-4D7C-4391-A291-92DAEBCB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732F-1224-4A5C-AD88-AFEBFF5CAA8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22D2-AA60-4D30-9FB7-B5A70410AF7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Нестандартные формы уроков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английского язы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 СОШ №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никовой Л.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иды использован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традиционными могут быть и организационный момент, и ход урока, и физминутка. Это зависит от профессионализма и творческого таланта учител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ризнаки нетрадиционного урока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сет элементы нового, изменяются внешние рамки, места провед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пользуется внепрограммный материал, организуется коллективная деятельность в сочетании с индивидуальн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влекаются для организации урока люди разных професс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Элементы урока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моциональный подъем учащихся через оформление кабинета, доски, музыки, использование виде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рганизация и выполнение творческих зада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ициативная группа из учащихся для подготовки уро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язательное планирование урока заране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ворчество учащихся должно быть направлено на их развит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ипы нестандартных уроков: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Уроки «погружения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.Уроки - деловые иг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.Уроки - пресс- конферен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.Уроки- соревн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5.Уроки типа КВ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6.Театрализованные уро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7.Компьютерные уро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ипы нестандартных уроков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.Уроки с групповыми формами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9.Уроки взаимообучения учащих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0.Уроки творче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1.Уроки- аукцио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2.Уроки, которые ведут учащие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3.Уроки-заче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4.Уроки- сомн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ипы нестандартных уроков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5.Уроки - творческие отсче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6.Уроки- формул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7.Уроки- конкур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8.Бинарные уро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9.Уроки- обобщ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0.Уроки- фантаз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1.Уроки- иг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ипы нестандартных уроков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9.Уроки- конферен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0.Интегрированные уро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1.Уроки семина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2.Уроки – «круговая тренировк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3.Межпредметные уро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4.Уроки- экскурс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5.Уроки – игры «Поле чудес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тандарты 2 поколен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образования, происходящие в нашей стране, создали определенные условия для перестроечных процессов в сфере образования и требуют создания новых типов уроков, активного внедрения в уроки различных педагогических методов и способов развития интереса у детей младшего школьного возраста, авторских программ и учебник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ыводы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традиционные формы проведения уроков дают возможность не только поднять интерес учащихся к изучаемому предмету, но и развивать их творческую самостоятельность, обучать работе с различными источниками знан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радиционные форм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рок-это основная организационная форма обучения в школе. Он является не только важной организационной, но и, прежде всего педагогической единицей процесса обучения и воспитания. На уроке принципы, методы и средства обучения получают реальную конкретизацию и находят свое правильное решение и воплощаются в жизн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Нестандартные формы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воря об организации процесса обучения, нельзя забывать также о нестандартных формах организации учебно-познавательной деятельности детей на самом урок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заинтересовать ребят изучением предметов, сделать уроки любимыми, увлекательными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Актуальность проблем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еба- труд, и труд не легкий. Ребенок с малых лет должен понимать, что все достигается трудом и что трудиться не прост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этом учитель должен сделать так, чтобы нелегкий учебный труд приносил школьнику удовлетворение, радость, возбуждал желание вновь и вновь познавать ново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облема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тепенное угасание интереса к учению. Некоторые ученики вообще не хотят учить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чина проблемы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ти любопытны. Внимание падает, когда обучаемым преподносятся известные им знания. Если учебный материал содержит мало или почти не содержит новой информации, то быстро достигается состояние « насыщения »: учащиеся отвлекаются от того, что происходит на занятиях, проявляют так называемое двигательное беспокойство. Поэтому педагогам следует постоянно помнить об « эффекте любопытства 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уть решения проблемы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стандартные формы уроков повышаю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ффективность урока и способствую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держанию стабильного интереса 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ебной работе и лучшему усвоени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граммного материал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Форма повышения познавательного интерес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стандартный урок – эт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мпровизированное учебное занятие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торое имеет нетрадиционную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уктур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ыигрышная форма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ней представлены не только игровые моменты, оригинальная подача материала, занятость учащихся не только при подготовке уроков, но и в проведении самих уроков через различные формы коллективной и групповой работы. Задания, которые получают дети на нетрадиционных уроках, помогают им жить в атмосфере творческого поис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03:15:18Z</dcterms:created>
  <dc:creator>Paradise</dc:creator>
  <dc:description/>
  <dc:language>en-US</dc:language>
  <cp:lastModifiedBy>Лиля</cp:lastModifiedBy>
  <dcterms:modified xsi:type="dcterms:W3CDTF">2018-05-12T06:55:47Z</dcterms:modified>
  <cp:revision>4</cp:revision>
  <dc:subject/>
  <dc:title>Нестандартные формы уроков</dc:title>
</cp:coreProperties>
</file>