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5588-14F6-4E09-83B0-E5185B71C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830E-7038-4982-AC0A-5565854E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741E-AAAA-4794-A4A5-8D0E6D2B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3702-8AF9-4341-BF0E-685D6E5C9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3A9C-BF0E-4EF8-BD18-FF9B093F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84E3-DE3F-434D-A4F6-7F535CCA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E7EC-C2BE-4957-9281-2892CF1E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F9BC-BB23-463C-A9F7-363C9C5A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56CE-4ECB-4368-B0EA-4D68B800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4E7C-6FB6-44FE-9D47-BF8E3300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8E76-5499-4A8F-8DC3-F51097A5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2701-280B-4C79-8A69-53F9FBF1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A004-D26A-4B2F-AA7A-C529FD3D13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альневосточный экономический рай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географ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БОУ школа №6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йтанник М.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родные зоны и биологические ресур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ктические пустыни, тундра, лесотундра, тайга, муссонные смешанные леса. В горах: области высотной пояс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иморском крае находится уникальный природный комплекс – Уссурийская тайга (смешанные хвойно-широколиственные лес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Камчатке растут леса из каменной берё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орях Тихого океана - морской зверь, крабы, рыб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с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субъекты  РФ кроме Чукотского АО являются лесоизбыточ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сные ресурсы значительны и представлены лиственницей, елью, пихтой и кедровой сос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лесах много пушных зверей, ягод, грибов, уникальных трав (жень-шень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креацион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зкая степень туристской освоенности террито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обый интерес представляют уникальные природные объекты: Ленские столбы, Долина гейзеров и горячие источники Камчатки, Уссурийская тай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енность – 7 000 000 чел. (5% РФ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няя плотность населения 1,1 чел. на кв. км (минимальная среди экономических район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П=Р-С отрицатель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циональный состав неоднородный, преобладают русск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угие народы: чукчи, коряки, якуты, эвены, эвенки, амурские народы, нивхи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вень урбанизации – 76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рый недостаток трудовых ресур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мышлен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расли специализации. 1. Цветная металлургия: добыча цветных металлов и производство свинца в Дальногорске (К=16% / 5%).  2. Рыбная (К=9% / 5%) – 1место в Р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сная промышле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оэнергетика. Изолированная Дальневосточная энергосистема. Зейская ГЭС и др. Билибинская АЭС. Паужетская и Мамаканская ГеоТЭ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достро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/х комбайны (Биробиджан)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ельское хзяй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мледелие: яровая пшеница, соя, ри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вотноводство. Оленеводство – на севере. Пантовое оленеводство – на юге Приморского края. Молочное животноводство – на юге. Пчеловодство. Зверовод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омсомольске-на-Амуре заканчивается Б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Владивостоке заканчивается Транссибирская магистра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Владивостоке заканчивается Северный морской путь из Мурманска через Берингов проли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рской паром: Ванино – Холмс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пнейшие порты: Владивосток, Находка, Ванино, Южно-Сахалинск, Петропавловск-Камчат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о субъектов Федерации в ДВЭ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енность населения ДВЭР по переписи 2002 г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тип климата на Камчатке, Приморском крае, Якут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е озеро находится на границе с КН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аком субъекте РФ находятся ГеоТЭ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аком городе находится единственный в районе завод по производству комбайн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аком городе заканчивается БА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пант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ованная 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рашева Е.М. География России:8-9 классы. Материалы для подготовки к экзамену: учебно-методическое пособие. – М.: Издательство «Экзамен», 2009. (Серия «ГИА. Экспресс-курс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став ДВЭ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мурская обл. (Благовещенс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гаданская об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линская обл. (Южно-Сахалинс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мчатский край (Петропавловск-Камчат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орский край (Владивосто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баровский край (Хабаровс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спублика Саха (Якутия) (Якутс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укотский АО (Анадыр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врейская АО (Биробиджан)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кономико-географическое положение ДВЭ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граничный район (Китай, КНДР, морские границы с США и Японие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ая удалённость от экономически развитых районов европейской части Р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ая протяжённость морских гран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изость к Азиатско-Тихоокеанскому региону (АТР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родные условия и ресурсы ДВЭ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тоническое строение и релье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бирская платформа, Алданский щит, области складчатости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верная часть Тихоокеанского огненного кольца: Курилы, Сахалин, Камчат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щный вулканизм и сейсмичность восточных частей рай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й высокий действующий вулкан РФ – Ключевская Сопка (4688 м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обладает горный рельеф: хребты Верхоянский, Черского, Джугджур, Сихотэ – Алинь, Срединный (Камчатка)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нераль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рый уголь: Нижнезейский бассейн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менный уголь: Южноякутский бассейн (Нюренгри), Ленский бассейн (Сангар)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хотоморская нефтегазоносная провинция (о. Сахали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льфрам: Приморский кра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 (Магаданская обл., Амурская обл., Сах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мазы: Саха (Мирны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имат и агроклиматические ресур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ктический, субарктический, умеренный К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пы климата: резко континентальный, морской (Камчатка), муссон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юс холода северного полушария и РФ: Оймякон – абсолютный минимум температуры -71 градус Цельс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гроклиматические ресурсы позволяют заниматься земледелием в тёплое время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нутренние воды и водные ресур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ки бассейна СЛО: Оленёк, Лена, Яна, Индигирка, Колыма (весенне-летнее половодь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ки бассейна ТО: Амур (Шилка и Аргунь), Уссури, Зея, Бурея (летние паводк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пнейшее озеро: Ха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обладают территории с многолетней мерзло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дные ресурсы Лены и Амура с притоками огромны. Их годовой сток – 500-700 куб. км в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чвы и почвен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ые плодородные почвы ДВЭР – это серые лес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рново-подзолистые, лесные вулканическ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пашни расположены в Амурск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1T21:21:30Z</dcterms:created>
  <dc:creator>Марина Ивановна</dc:creator>
  <dc:description/>
  <dc:language>en-US</dc:language>
  <cp:lastModifiedBy>User</cp:lastModifiedBy>
  <dcterms:modified xsi:type="dcterms:W3CDTF">2019-12-05T16:13:03Z</dcterms:modified>
  <cp:revision>4</cp:revision>
  <dc:subject/>
  <dc:title>Дальневосточный экономический район</dc:title>
</cp:coreProperties>
</file>